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280" y="374688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256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280" y="374688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2560" y="374688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15080" y="7617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7880" y="7617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280" y="374688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15080" y="374688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7880" y="374688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28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2560" y="76176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9913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2560" y="76176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52280" y="374688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28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256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42560" y="374688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256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280" y="374688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52280" y="374688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256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2280" y="374688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42560" y="374688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15080" y="7617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7880" y="7617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52280" y="374688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15080" y="374688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7880" y="374688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2560" y="76176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9913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2560" y="76176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280" y="374688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2560" y="374688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256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280" y="374688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70280" y="4691160"/>
            <a:ext cx="491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fery P. Han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for Complex Engineere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26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35480" y="2500200"/>
            <a:ext cx="507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reating Virtual Peripheral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 a Digital Circuit Simulator Using Tc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68200" y="258840"/>
            <a:ext cx="3729240" cy="2797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297320" y="341280"/>
            <a:ext cx="2462400" cy="2089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673680" y="519120"/>
            <a:ext cx="215424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rcRect l="39599" t="19200" r="15600" b="12800"/>
          <a:stretch/>
        </p:blipFill>
        <p:spPr>
          <a:xfrm>
            <a:off x="480960" y="3170160"/>
            <a:ext cx="30783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Drink Machine VPD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84320" y="1689120"/>
            <a:ext cx="2271600" cy="20034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46280" y="712440"/>
            <a:ext cx="432432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PD Implem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Tcl script implementing behav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s Verilog stub-module encapsulating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PD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s library with desired VP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one or more instan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s control log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962760" y="1197000"/>
            <a:ext cx="2016000" cy="273996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5004720" y="3863880"/>
            <a:ext cx="1951200" cy="2882880"/>
            <a:chOff x="5004720" y="3863880"/>
            <a:chExt cx="1951200" cy="2882880"/>
          </a:xfrm>
        </p:grpSpPr>
        <p:sp>
          <p:nvSpPr>
            <p:cNvPr id="274" name=""/>
            <p:cNvSpPr/>
            <p:nvPr/>
          </p:nvSpPr>
          <p:spPr>
            <a:xfrm>
              <a:off x="5009760" y="3894120"/>
              <a:ext cx="1946160" cy="2852640"/>
            </a:xfrm>
            <a:prstGeom prst="rect">
              <a:avLst/>
            </a:prstGeom>
            <a:solidFill>
              <a:srgbClr val="ffcc99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79600" y="4368600"/>
              <a:ext cx="1699920" cy="793800"/>
            </a:xfrm>
            <a:prstGeom prst="rect">
              <a:avLst/>
            </a:prstGeom>
            <a:solidFill>
              <a:srgbClr val="ffe7e7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r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84280" y="5248080"/>
              <a:ext cx="1699920" cy="635040"/>
            </a:xfrm>
            <a:prstGeom prst="rect">
              <a:avLst/>
            </a:prstGeom>
            <a:solidFill>
              <a:srgbClr val="ccffcc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nk Machine Verilog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78160" y="5948280"/>
              <a:ext cx="1699920" cy="635040"/>
            </a:xfrm>
            <a:prstGeom prst="rect">
              <a:avLst/>
            </a:prstGeom>
            <a:solidFill>
              <a:srgbClr val="ccffff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ilog-Side AP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04720" y="386388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mul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276640" y="3863880"/>
            <a:ext cx="1942920" cy="2849760"/>
            <a:chOff x="2276640" y="3863880"/>
            <a:chExt cx="1942920" cy="2849760"/>
          </a:xfrm>
        </p:grpSpPr>
        <p:sp>
          <p:nvSpPr>
            <p:cNvPr id="280" name=""/>
            <p:cNvSpPr/>
            <p:nvPr/>
          </p:nvSpPr>
          <p:spPr>
            <a:xfrm>
              <a:off x="2276640" y="3863880"/>
              <a:ext cx="1942920" cy="2849760"/>
            </a:xfrm>
            <a:prstGeom prst="rect">
              <a:avLst/>
            </a:prstGeom>
            <a:solidFill>
              <a:srgbClr val="ffcc99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55840" y="4386240"/>
              <a:ext cx="1700280" cy="793800"/>
            </a:xfrm>
            <a:prstGeom prst="rect">
              <a:avLst/>
            </a:prstGeom>
            <a:solidFill>
              <a:srgbClr val="eae7ff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kGate Tcl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0520" y="5265720"/>
              <a:ext cx="1697040" cy="635040"/>
            </a:xfrm>
            <a:prstGeom prst="rect">
              <a:avLst/>
            </a:prstGeom>
            <a:solidFill>
              <a:srgbClr val="e3ffe3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nk Machine Tcl/Tk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54400" y="5965920"/>
              <a:ext cx="1700280" cy="635040"/>
            </a:xfrm>
            <a:prstGeom prst="rect">
              <a:avLst/>
            </a:prstGeom>
            <a:solidFill>
              <a:srgbClr val="ccffff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cl-Side AP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02560" y="3889440"/>
              <a:ext cx="161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H="1">
            <a:off x="4073400" y="6265800"/>
            <a:ext cx="10130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906000" y="54241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/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29560" y="3841920"/>
            <a:ext cx="1423800" cy="1747800"/>
          </a:xfrm>
          <a:custGeom>
            <a:avLst/>
            <a:gdLst/>
            <a:ahLst/>
            <a:rect l="l" t="t" r="r" b="b"/>
            <a:pathLst>
              <a:path w="897" h="1101">
                <a:moveTo>
                  <a:pt x="897" y="0"/>
                </a:moveTo>
                <a:lnTo>
                  <a:pt x="641" y="817"/>
                </a:lnTo>
                <a:lnTo>
                  <a:pt x="0" y="1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35080" y="3681360"/>
            <a:ext cx="1214280" cy="1863720"/>
          </a:xfrm>
          <a:custGeom>
            <a:avLst/>
            <a:gdLst/>
            <a:ahLst/>
            <a:rect l="l" t="t" r="r" b="b"/>
            <a:pathLst>
              <a:path w="765" h="1174">
                <a:moveTo>
                  <a:pt x="0" y="0"/>
                </a:moveTo>
                <a:lnTo>
                  <a:pt x="284" y="947"/>
                </a:lnTo>
                <a:lnTo>
                  <a:pt x="765" y="1174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Drink Machine Window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511360" y="787320"/>
            <a:ext cx="6480360" cy="5715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878120" y="1474920"/>
            <a:ext cx="720720" cy="158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1160" y="803160"/>
            <a:ext cx="1717560" cy="12319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and drop coins/bills to insert into mach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933560" y="2711160"/>
            <a:ext cx="1487520" cy="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5440" y="2189160"/>
            <a:ext cx="1717560" cy="9399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buttons to make drink sele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994120" y="2865600"/>
            <a:ext cx="2139840" cy="357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224080" y="2980800"/>
            <a:ext cx="1220760" cy="668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0000" y="3292560"/>
            <a:ext cx="2084400" cy="11095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ircuit can activate “empty” and “no change” ligh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239920" y="3079800"/>
            <a:ext cx="3924360" cy="213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494320" y="2488680"/>
            <a:ext cx="2662200" cy="96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37200" y="2909880"/>
            <a:ext cx="1017720" cy="219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080" y="4664160"/>
            <a:ext cx="2084400" cy="11761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shows ins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ins/bills and drink colu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Including a VPD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in the User’s Design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5667480" cy="29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s interact with VPD as a normal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one or more instances in user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t though ports on VPD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s can create multiple instances of a VP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VPD is assigned a unique instance name from the Verilog hierar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instance name is used as VPD instance identifier in the Tcl scri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0760" y="4281840"/>
            <a:ext cx="635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module to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wire [5:0] PRESS1, PRESS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wire NOCHG1, NOCHG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drinkmachine dm1(..., PRESS1, NOCHG1, ..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drinkmachine dm2(..., PRESS2, NOCHG2, ..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18240" y="5364000"/>
            <a:ext cx="731880" cy="182880"/>
          </a:xfrm>
          <a:custGeom>
            <a:avLst/>
            <a:gdLst/>
            <a:ahLst/>
            <a:rect l="l" t="t" r="r" b="b"/>
            <a:pathLst>
              <a:path w="461" h="115">
                <a:moveTo>
                  <a:pt x="461" y="0"/>
                </a:moveTo>
                <a:cubicBezTo>
                  <a:pt x="384" y="19"/>
                  <a:pt x="96" y="91"/>
                  <a:pt x="0" y="115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34120" y="5235480"/>
            <a:ext cx="979560" cy="4302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.d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00960" y="5861160"/>
            <a:ext cx="714240" cy="199800"/>
          </a:xfrm>
          <a:custGeom>
            <a:avLst/>
            <a:gdLst/>
            <a:ahLst/>
            <a:rect l="l" t="t" r="r" b="b"/>
            <a:pathLst>
              <a:path w="450" h="126">
                <a:moveTo>
                  <a:pt x="450" y="12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4120" y="5864400"/>
            <a:ext cx="979560" cy="4381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.d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786280" y="704880"/>
            <a:ext cx="32133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4120" y="3083040"/>
            <a:ext cx="5145120" cy="628560"/>
          </a:xfrm>
          <a:prstGeom prst="rect">
            <a:avLst/>
          </a:prstGeom>
          <a:solidFill>
            <a:srgbClr val="ccec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4760" y="2379600"/>
            <a:ext cx="5145120" cy="628560"/>
          </a:xfrm>
          <a:prstGeom prst="rect">
            <a:avLst/>
          </a:prstGeom>
          <a:solidFill>
            <a:srgbClr val="ccec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Example Interaction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68600" y="2924280"/>
            <a:ext cx="528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16120" y="2619360"/>
            <a:ext cx="0" cy="30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25840" y="2612880"/>
            <a:ext cx="53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92400" y="3490920"/>
            <a:ext cx="41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81240" y="3179880"/>
            <a:ext cx="0" cy="30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84440" y="319104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8120" y="2463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G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12264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G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43160" y="3179880"/>
            <a:ext cx="0" cy="30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47840" y="3186000"/>
            <a:ext cx="376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00400" y="3179880"/>
            <a:ext cx="0" cy="30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4680" y="2619360"/>
            <a:ext cx="0" cy="30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05320" y="2927520"/>
            <a:ext cx="617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98960" y="3487680"/>
            <a:ext cx="893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92400" y="2693880"/>
            <a:ext cx="396720" cy="646200"/>
          </a:xfrm>
          <a:custGeom>
            <a:avLst/>
            <a:gdLst/>
            <a:ahLst/>
            <a:rect l="l" t="t" r="r" b="b"/>
            <a:pathLst>
              <a:path w="250" h="407">
                <a:moveTo>
                  <a:pt x="0" y="407"/>
                </a:moveTo>
                <a:cubicBezTo>
                  <a:pt x="17" y="396"/>
                  <a:pt x="79" y="402"/>
                  <a:pt x="104" y="343"/>
                </a:cubicBezTo>
                <a:cubicBezTo>
                  <a:pt x="129" y="284"/>
                  <a:pt x="129" y="104"/>
                  <a:pt x="153" y="52"/>
                </a:cubicBezTo>
                <a:cubicBezTo>
                  <a:pt x="177" y="0"/>
                  <a:pt x="230" y="36"/>
                  <a:pt x="250" y="32"/>
                </a:cubicBezTo>
              </a:path>
            </a:pathLst>
          </a:custGeom>
          <a:noFill/>
          <a:ln w="12600">
            <a:solidFill>
              <a:srgbClr val="ff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641680" y="2754360"/>
            <a:ext cx="507960" cy="622080"/>
          </a:xfrm>
          <a:custGeom>
            <a:avLst/>
            <a:gdLst/>
            <a:ahLst/>
            <a:rect l="l" t="t" r="r" b="b"/>
            <a:pathLst>
              <a:path w="250" h="407">
                <a:moveTo>
                  <a:pt x="0" y="407"/>
                </a:moveTo>
                <a:cubicBezTo>
                  <a:pt x="17" y="396"/>
                  <a:pt x="79" y="402"/>
                  <a:pt x="104" y="343"/>
                </a:cubicBezTo>
                <a:cubicBezTo>
                  <a:pt x="129" y="284"/>
                  <a:pt x="129" y="104"/>
                  <a:pt x="153" y="52"/>
                </a:cubicBezTo>
                <a:cubicBezTo>
                  <a:pt x="177" y="0"/>
                  <a:pt x="230" y="36"/>
                  <a:pt x="250" y="32"/>
                </a:cubicBezTo>
              </a:path>
            </a:pathLst>
          </a:custGeom>
          <a:noFill/>
          <a:ln w="12600">
            <a:solidFill>
              <a:srgbClr val="ff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68720" y="2763720"/>
            <a:ext cx="353880" cy="579600"/>
          </a:xfrm>
          <a:custGeom>
            <a:avLst/>
            <a:gdLst/>
            <a:ahLst/>
            <a:rect l="l" t="t" r="r" b="b"/>
            <a:pathLst>
              <a:path w="223" h="365">
                <a:moveTo>
                  <a:pt x="0" y="365"/>
                </a:moveTo>
                <a:cubicBezTo>
                  <a:pt x="15" y="355"/>
                  <a:pt x="75" y="357"/>
                  <a:pt x="93" y="304"/>
                </a:cubicBezTo>
                <a:cubicBezTo>
                  <a:pt x="111" y="251"/>
                  <a:pt x="85" y="98"/>
                  <a:pt x="107" y="49"/>
                </a:cubicBezTo>
                <a:cubicBezTo>
                  <a:pt x="129" y="0"/>
                  <a:pt x="199" y="17"/>
                  <a:pt x="223" y="9"/>
                </a:cubicBezTo>
              </a:path>
            </a:pathLst>
          </a:custGeom>
          <a:noFill/>
          <a:ln w="12600">
            <a:solidFill>
              <a:srgbClr val="ff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530520" y="2779560"/>
            <a:ext cx="573120" cy="611280"/>
          </a:xfrm>
          <a:custGeom>
            <a:avLst/>
            <a:gdLst/>
            <a:ahLst/>
            <a:rect l="l" t="t" r="r" b="b"/>
            <a:pathLst>
              <a:path w="223" h="365">
                <a:moveTo>
                  <a:pt x="0" y="365"/>
                </a:moveTo>
                <a:cubicBezTo>
                  <a:pt x="15" y="355"/>
                  <a:pt x="75" y="357"/>
                  <a:pt x="93" y="304"/>
                </a:cubicBezTo>
                <a:cubicBezTo>
                  <a:pt x="111" y="251"/>
                  <a:pt x="85" y="98"/>
                  <a:pt x="107" y="49"/>
                </a:cubicBezTo>
                <a:cubicBezTo>
                  <a:pt x="129" y="0"/>
                  <a:pt x="199" y="17"/>
                  <a:pt x="223" y="9"/>
                </a:cubicBezTo>
              </a:path>
            </a:pathLst>
          </a:custGeom>
          <a:noFill/>
          <a:ln w="12600">
            <a:solidFill>
              <a:srgbClr val="ff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87277" b="69421"/>
          <a:stretch/>
        </p:blipFill>
        <p:spPr>
          <a:xfrm>
            <a:off x="5757840" y="750960"/>
            <a:ext cx="1185840" cy="25160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rcRect l="78159" t="44307" r="0" b="29538"/>
          <a:stretch/>
        </p:blipFill>
        <p:spPr>
          <a:xfrm>
            <a:off x="7300800" y="2973240"/>
            <a:ext cx="1787760" cy="18925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888320" y="3468600"/>
            <a:ext cx="264960" cy="276480"/>
          </a:xfrm>
          <a:prstGeom prst="ellipse">
            <a:avLst/>
          </a:prstGeom>
          <a:solidFill>
            <a:srgbClr val="808080">
              <a:alpha val="9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89640" y="1285920"/>
            <a:ext cx="320760" cy="243720"/>
          </a:xfrm>
          <a:prstGeom prst="rect">
            <a:avLst/>
          </a:prstGeom>
          <a:solidFill>
            <a:srgbClr val="d2d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92960" y="3468600"/>
            <a:ext cx="320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12040" y="3476520"/>
            <a:ext cx="2160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89640" y="1285920"/>
            <a:ext cx="320760" cy="243720"/>
          </a:xfrm>
          <a:prstGeom prst="rect">
            <a:avLst/>
          </a:prstGeom>
          <a:solidFill>
            <a:srgbClr val="d2d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87680" y="3490920"/>
            <a:ext cx="55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14720" y="2612880"/>
            <a:ext cx="407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05320" y="3186000"/>
            <a:ext cx="606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49640" y="2927520"/>
            <a:ext cx="974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26880" y="3534840"/>
            <a:ext cx="2598840" cy="1776960"/>
            <a:chOff x="326880" y="3534840"/>
            <a:chExt cx="2598840" cy="1776960"/>
          </a:xfrm>
        </p:grpSpPr>
        <p:sp>
          <p:nvSpPr>
            <p:cNvPr id="343" name=""/>
            <p:cNvSpPr/>
            <p:nvPr/>
          </p:nvSpPr>
          <p:spPr>
            <a:xfrm flipH="1" flipV="1">
              <a:off x="2193840" y="3534840"/>
              <a:ext cx="349200" cy="8715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6880" y="4324320"/>
              <a:ext cx="2598840" cy="987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ait for CHGACK to go low indicating it is OK to dispense chang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144880" y="2924280"/>
            <a:ext cx="46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55520" y="843120"/>
            <a:ext cx="2598840" cy="1720800"/>
            <a:chOff x="155520" y="843120"/>
            <a:chExt cx="2598840" cy="1720800"/>
          </a:xfrm>
        </p:grpSpPr>
        <p:sp>
          <p:nvSpPr>
            <p:cNvPr id="347" name=""/>
            <p:cNvSpPr/>
            <p:nvPr/>
          </p:nvSpPr>
          <p:spPr>
            <a:xfrm>
              <a:off x="2313000" y="1668600"/>
              <a:ext cx="304920" cy="8953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5520" y="843120"/>
              <a:ext cx="2598840" cy="9871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ssert CHGQ to tell drink machine to give a quarter in chang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130200" y="3551400"/>
            <a:ext cx="2972160" cy="2849400"/>
            <a:chOff x="3130200" y="3551400"/>
            <a:chExt cx="2972160" cy="2849400"/>
          </a:xfrm>
        </p:grpSpPr>
        <p:sp>
          <p:nvSpPr>
            <p:cNvPr id="350" name=""/>
            <p:cNvSpPr/>
            <p:nvPr/>
          </p:nvSpPr>
          <p:spPr>
            <a:xfrm flipH="1" flipV="1">
              <a:off x="3130200" y="3551400"/>
              <a:ext cx="252360" cy="19843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38560" y="5413320"/>
              <a:ext cx="2863800" cy="987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ait for CHGACK to go high indicating change operation has complete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070080" y="861840"/>
            <a:ext cx="2444760" cy="1737000"/>
            <a:chOff x="3070080" y="861840"/>
            <a:chExt cx="2444760" cy="1737000"/>
          </a:xfrm>
        </p:grpSpPr>
        <p:sp>
          <p:nvSpPr>
            <p:cNvPr id="353" name=""/>
            <p:cNvSpPr/>
            <p:nvPr/>
          </p:nvSpPr>
          <p:spPr>
            <a:xfrm flipH="1">
              <a:off x="3502080" y="1633680"/>
              <a:ext cx="356040" cy="9651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70080" y="861840"/>
              <a:ext cx="2444760" cy="987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ear CHGQ to complete transactio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110120" y="3494160"/>
            <a:ext cx="2892240" cy="1627200"/>
            <a:chOff x="4110120" y="3494160"/>
            <a:chExt cx="2892240" cy="1627200"/>
          </a:xfrm>
        </p:grpSpPr>
        <p:sp>
          <p:nvSpPr>
            <p:cNvPr id="356" name=""/>
            <p:cNvSpPr/>
            <p:nvPr/>
          </p:nvSpPr>
          <p:spPr>
            <a:xfrm flipH="1" flipV="1">
              <a:off x="4110120" y="3494160"/>
              <a:ext cx="814320" cy="10922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49600" y="4133880"/>
              <a:ext cx="2552760" cy="987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GACK goes low to acknowledge transaction completio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638760" y="719280"/>
            <a:ext cx="2341800" cy="2759040"/>
            <a:chOff x="6638760" y="719280"/>
            <a:chExt cx="2341800" cy="2759040"/>
          </a:xfrm>
        </p:grpSpPr>
        <p:sp>
          <p:nvSpPr>
            <p:cNvPr id="359" name=""/>
            <p:cNvSpPr/>
            <p:nvPr/>
          </p:nvSpPr>
          <p:spPr>
            <a:xfrm>
              <a:off x="8072280" y="1908000"/>
              <a:ext cx="287640" cy="15703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6638760" y="1190520"/>
              <a:ext cx="749520" cy="1256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61120" y="719280"/>
              <a:ext cx="1819440" cy="1239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and sent to Tcl-side of VPD to update 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 L -0.20816 -0.32199 E">
                                      <p:cBhvr>
                                        <p:cTn id="205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14760" y="3867120"/>
            <a:ext cx="3171600" cy="676440"/>
          </a:xfrm>
          <a:prstGeom prst="rightArrow">
            <a:avLst>
              <a:gd name="adj1" fmla="val 50000"/>
              <a:gd name="adj2" fmla="val 1172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Named Channels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43080" y="761760"/>
            <a:ext cx="853416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d dynamically a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ed as queue that can be accessed from both Tcl and Veril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s on queue are arbitrary bit-sized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named channel used for each signal passing between Tcl-Side and Verilog-Side of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29320" y="4007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$tkg$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79320" y="39538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PD::in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61560" y="40078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top.dm1.CHGAC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695680" y="4962600"/>
            <a:ext cx="3238560" cy="676080"/>
          </a:xfrm>
          <a:prstGeom prst="rightArrow">
            <a:avLst>
              <a:gd name="adj1" fmla="val 50000"/>
              <a:gd name="adj2" fmla="val 1197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78960" y="50587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PD::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ＭＳ Ｐゴシック"/>
              </a:rPr>
              <a:t>out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57760" y="5074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$tkg$rec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37080" y="5112720"/>
            <a:ext cx="19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top.dm1.CHGQ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03880" y="324972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erilog-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47520" y="32115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cl-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Tcl-Side API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 Highlights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9640" y="80748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宋体"/>
              </a:rPr>
              <a:t>VPD::register</a:t>
            </a:r>
            <a:r>
              <a:rPr b="0" lang="en-US" sz="1800" spc="-1" strike="noStrike">
                <a:solidFill>
                  <a:srgbClr val="0033cc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1360" y="1829520"/>
            <a:ext cx="72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PD::newtoplevel –title</a:t>
            </a:r>
            <a:r>
              <a:rPr b="0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</a:rPr>
              <a:t>title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–shutdowncommand</a:t>
            </a:r>
            <a:r>
              <a:rPr b="0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0360" y="4996800"/>
            <a:ext cx="35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PD::outsignal</a:t>
            </a:r>
            <a:r>
              <a:rPr b="0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</a:rPr>
              <a:t>chan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4600" y="3534480"/>
            <a:ext cx="76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PD::insignal</a:t>
            </a:r>
            <a:r>
              <a:rPr b="0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</a:rPr>
              <a:t>chan</a:t>
            </a:r>
            <a:r>
              <a:rPr b="0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[-variable</a:t>
            </a:r>
            <a:r>
              <a:rPr b="0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</a:rPr>
              <a:t>variable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][-command</a:t>
            </a:r>
            <a:r>
              <a:rPr b="0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</a:rPr>
              <a:t>command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49160" y="110484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a virtual peripheral device.  Registered VPDs can be posted using the $tkg$post() task from Verilo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49160" y="2135160"/>
            <a:ext cx="75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top-level window for use as a VPD.  Top-level windows created with this command will be given the specified title.  When simulation mode is terminated, the window will be destroyed and the specified shut-down command will be invok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49160" y="3875040"/>
            <a:ext cx="75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 an input channel with a Tcl variable and/or command.  When data from the simulator is sent on the named channel, the registered Tcl variable will be set and/or the registered command will be call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9160" y="536904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 an output channel with a Tcl variable.  When a value is assigned to the registered variable, data will be 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Verilog-Side API 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Highlights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0240" y="766440"/>
            <a:ext cx="415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$tkg$exec(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format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p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, ...,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p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)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45600" y="1956600"/>
            <a:ext cx="54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$tkg$post(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vpdname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nstname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p1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, ...,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pn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57480" y="34268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$tkg$send(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name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,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data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)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6560" y="474912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$tkg$recv(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name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)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36560" y="1198440"/>
            <a:ext cx="795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Tcl command and execute it.  Executed commands are subject to the current security poli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6560" y="2314440"/>
            <a:ext cx="74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post” procedure for a registered VPD passing the specified argument list.  The instance name and one or more optional parameters are passed as arguments to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pd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:p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comm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6560" y="3714840"/>
            <a:ext cx="682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 data on a named chann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6560" y="5133960"/>
            <a:ext cx="68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ive data on a named channel.  Blocks if no data is available in the que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Drink Machine VPD Overview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57840" y="1708920"/>
            <a:ext cx="4158360" cy="3385800"/>
          </a:xfrm>
          <a:prstGeom prst="rect">
            <a:avLst/>
          </a:prstGeom>
          <a:solidFill>
            <a:srgbClr val="cc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PD::register Drink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space eval DrinkMach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dm_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riable CHG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post {name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657240" y="1390680"/>
            <a:ext cx="987480" cy="3650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760560" y="1577880"/>
            <a:ext cx="950760" cy="708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51200" y="860400"/>
            <a:ext cx="3668760" cy="12193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of VPD.  The VPD should be registered with tkgate, and Tcl code for the VPD should be defined within a namesp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590920" y="2798640"/>
            <a:ext cx="2597040" cy="2192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98960" y="2424240"/>
            <a:ext cx="3668760" cy="6094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of top-level windows indexed by instance n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1758600" y="4200120"/>
            <a:ext cx="460440" cy="1809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2604600" y="4187880"/>
            <a:ext cx="3002040" cy="15048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48240" y="5402160"/>
            <a:ext cx="2497320" cy="6699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nce name of VPD passed as parame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814120" y="3257640"/>
            <a:ext cx="2716200" cy="5126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037120" y="3386160"/>
            <a:ext cx="3336840" cy="9046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current state of the “change acknowledge” signal for each VPD inst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12880" y="5884920"/>
            <a:ext cx="3754440" cy="6699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l procedure to create an instance of the drink machine VP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post” Proceedure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 (Creating Window)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17840" y="2768400"/>
            <a:ext cx="7038720" cy="1191240"/>
          </a:xfrm>
          <a:prstGeom prst="rect">
            <a:avLst/>
          </a:prstGeom>
          <a:solidFill>
            <a:srgbClr val="cc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dm_w($name) [VPD::newtoplevel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title "Vending Machine $name"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shutdowncommand "DrinkMachine::unpost $name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34960" y="1347840"/>
            <a:ext cx="246240" cy="14716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9200" y="870120"/>
            <a:ext cx="2844720" cy="7174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riable to store name of window for VPD in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452320" y="1500120"/>
            <a:ext cx="1677960" cy="1414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68520" y="870120"/>
            <a:ext cx="2264040" cy="7174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PD instance name (e.g., “top.dm1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471640" y="2376360"/>
            <a:ext cx="1173240" cy="8146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21320" y="1832040"/>
            <a:ext cx="3425760" cy="7081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dow for VPD will be labeled “Vending Machine top.dm1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5805360" y="3638160"/>
            <a:ext cx="354240" cy="12906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54480" y="4680000"/>
            <a:ext cx="3425760" cy="9079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“unpost” procedure for this VPD will be invoked when the simulation is termin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post” Procedure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 (Registering Output Signals)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84280" y="2811240"/>
            <a:ext cx="7870680" cy="916920"/>
          </a:xfrm>
          <a:prstGeom prst="rect">
            <a:avLst/>
          </a:prstGeom>
          <a:solidFill>
            <a:srgbClr val="cc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PD::outsignal $name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HGA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inkMachine: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HGA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$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et CHGACK($name)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34960" y="1347840"/>
            <a:ext cx="246240" cy="14716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9200" y="870120"/>
            <a:ext cx="2349720" cy="955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ster a signal from the Tcl-side to the Verilog-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233520" y="1500120"/>
            <a:ext cx="896760" cy="1395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978280" y="870120"/>
            <a:ext cx="2854080" cy="7174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d channel to use (e.g. “top.dm1.CHGACK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6725880" y="2081160"/>
            <a:ext cx="252360" cy="792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921280" y="1812960"/>
            <a:ext cx="2749680" cy="7081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cl variable to attach to the named chann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2338200" y="3685680"/>
            <a:ext cx="353880" cy="12906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20800" y="4832280"/>
            <a:ext cx="3425760" cy="6984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 a “0” to the Verilog-side of the implem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7400" y="2071800"/>
            <a:ext cx="65674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k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Peripheral Devices (VP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PD Tcl-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ilog-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post” Procedure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 (Registering Input Signals)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1880" y="2763720"/>
            <a:ext cx="7283520" cy="1191240"/>
          </a:xfrm>
          <a:prstGeom prst="rect">
            <a:avLst/>
          </a:prstGeom>
          <a:solidFill>
            <a:srgbClr val="cc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PD::insignal $name.CH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mma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inkMachine: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ispenseQuar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-variable DrinkMachine::CHGQ($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format %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34960" y="1347840"/>
            <a:ext cx="246240" cy="14716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9200" y="870120"/>
            <a:ext cx="2349720" cy="955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ster a signal from the Verilog-side to the Tcl-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233520" y="1500120"/>
            <a:ext cx="896760" cy="1395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978280" y="870120"/>
            <a:ext cx="2871720" cy="7174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d channel to use (e.g. “top.dm1.CHGQ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944680" y="2386080"/>
            <a:ext cx="668520" cy="7858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921280" y="1700280"/>
            <a:ext cx="2749680" cy="9079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cl procedure to call when data is received on this chann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2681280" y="3850920"/>
            <a:ext cx="150840" cy="13510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00280" y="5049720"/>
            <a:ext cx="2373120" cy="12286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t in which Verilog should data should be passed to procedure or var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 flipV="1">
            <a:off x="4822920" y="3652920"/>
            <a:ext cx="1109520" cy="9064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43720" y="4359240"/>
            <a:ext cx="2749320" cy="9079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riable to assign when data is received on this chann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Verilog-Side VPD Definition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93760" y="1871640"/>
            <a:ext cx="6391080" cy="4483080"/>
          </a:xfrm>
          <a:prstGeom prst="rect">
            <a:avLst/>
          </a:prstGeom>
          <a:solidFill>
            <a:srgbClr val="cc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drinkmachine(..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HGQ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HGA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..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HGA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HGA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HGQ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tkg$post("DrinkMachine","%m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#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HGA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$tkg$recv("%m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HGA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HGQ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tkg$send("%m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HGQ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,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HGQ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4163760" y="1108080"/>
            <a:ext cx="739800" cy="853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59280" y="1216080"/>
            <a:ext cx="141480" cy="7365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062240" y="912960"/>
            <a:ext cx="2889360" cy="4888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port decla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2322360" y="2365200"/>
            <a:ext cx="5005440" cy="439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124760" y="2467080"/>
            <a:ext cx="1468440" cy="6192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t type decla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892160" y="2427120"/>
            <a:ext cx="1068480" cy="1954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1862280" y="2427120"/>
            <a:ext cx="1085760" cy="4478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5229360" y="3727080"/>
            <a:ext cx="1900080" cy="666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5392800" y="4570200"/>
            <a:ext cx="1900080" cy="666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4595760" y="5356080"/>
            <a:ext cx="2860560" cy="1238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018200" y="3511440"/>
            <a:ext cx="1468440" cy="6192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VPD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93080" y="4397400"/>
            <a:ext cx="1704960" cy="6523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ive data from Tcl-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67600" y="5283360"/>
            <a:ext cx="1468440" cy="6188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 data to Tcl-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Initialization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057320" y="2466360"/>
            <a:ext cx="4738680" cy="642600"/>
          </a:xfrm>
          <a:prstGeom prst="rect">
            <a:avLst/>
          </a:prstGeom>
          <a:solidFill>
            <a:srgbClr val="cc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tkg$post("DrinkMachine","%m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73320" y="1312920"/>
            <a:ext cx="365040" cy="12459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73280" y="1365120"/>
            <a:ext cx="392400" cy="1387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6000" y="911160"/>
            <a:ext cx="1871640" cy="703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ilog “execute once” stat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55920" y="900000"/>
            <a:ext cx="1608120" cy="6192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e name of VPD to po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192280" y="1763640"/>
            <a:ext cx="955800" cy="10033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37200" y="716040"/>
            <a:ext cx="2571480" cy="11858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 of VPD inst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%m” replace with instance name (e.g., “top.dm1”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3840" y="4514760"/>
            <a:ext cx="1550880" cy="2036880"/>
          </a:xfrm>
          <a:prstGeom prst="rect">
            <a:avLst/>
          </a:prstGeom>
          <a:solidFill>
            <a:srgbClr val="ffcc99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777000" y="2009880"/>
            <a:ext cx="2129040" cy="18777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5592600" y="4470480"/>
            <a:ext cx="1551240" cy="2036520"/>
          </a:xfrm>
          <a:prstGeom prst="rect">
            <a:avLst/>
          </a:prstGeom>
          <a:solidFill>
            <a:srgbClr val="ccff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003400" y="4419720"/>
            <a:ext cx="3564000" cy="368280"/>
            <a:chOff x="2003400" y="4419720"/>
            <a:chExt cx="3564000" cy="368280"/>
          </a:xfrm>
        </p:grpSpPr>
        <p:sp>
          <p:nvSpPr>
            <p:cNvPr id="464" name=""/>
            <p:cNvSpPr/>
            <p:nvPr/>
          </p:nvSpPr>
          <p:spPr>
            <a:xfrm flipH="1">
              <a:off x="2003400" y="4768920"/>
              <a:ext cx="3564000" cy="11160"/>
            </a:xfrm>
            <a:prstGeom prst="line">
              <a:avLst/>
            </a:prstGeom>
            <a:ln w="28440">
              <a:solidFill>
                <a:srgbClr val="ff00ff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80640" y="4419720"/>
              <a:ext cx="233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tart simulation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994040" y="5183280"/>
            <a:ext cx="3611520" cy="368280"/>
            <a:chOff x="1994040" y="5183280"/>
            <a:chExt cx="3611520" cy="368280"/>
          </a:xfrm>
        </p:grpSpPr>
        <p:sp>
          <p:nvSpPr>
            <p:cNvPr id="467" name=""/>
            <p:cNvSpPr/>
            <p:nvPr/>
          </p:nvSpPr>
          <p:spPr>
            <a:xfrm>
              <a:off x="1994040" y="5533920"/>
              <a:ext cx="3611520" cy="0"/>
            </a:xfrm>
            <a:prstGeom prst="line">
              <a:avLst/>
            </a:prstGeom>
            <a:ln w="28440">
              <a:solidFill>
                <a:srgbClr val="ff00ff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134440" y="5183280"/>
              <a:ext cx="31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st DrinkMachine top.dm1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6922800" y="3895560"/>
            <a:ext cx="1800720" cy="1627200"/>
            <a:chOff x="6922800" y="3895560"/>
            <a:chExt cx="1800720" cy="1627200"/>
          </a:xfrm>
        </p:grpSpPr>
        <p:sp>
          <p:nvSpPr>
            <p:cNvPr id="470" name=""/>
            <p:cNvSpPr/>
            <p:nvPr/>
          </p:nvSpPr>
          <p:spPr>
            <a:xfrm>
              <a:off x="7188120" y="3895560"/>
              <a:ext cx="857160" cy="1627200"/>
            </a:xfrm>
            <a:custGeom>
              <a:avLst/>
              <a:gdLst/>
              <a:ahLst/>
              <a:rect l="l" t="t" r="r" b="b"/>
              <a:pathLst>
                <a:path w="540" h="467">
                  <a:moveTo>
                    <a:pt x="0" y="467"/>
                  </a:moveTo>
                  <a:cubicBezTo>
                    <a:pt x="68" y="447"/>
                    <a:pt x="319" y="427"/>
                    <a:pt x="409" y="349"/>
                  </a:cubicBezTo>
                  <a:cubicBezTo>
                    <a:pt x="499" y="271"/>
                    <a:pt x="513" y="73"/>
                    <a:pt x="54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922800" y="4125960"/>
              <a:ext cx="180072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PD::newtop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Tcl-&gt;Verilog Dataflow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92200" y="2361600"/>
            <a:ext cx="5122800" cy="642600"/>
          </a:xfrm>
          <a:prstGeom prst="rect">
            <a:avLst/>
          </a:prstGeom>
          <a:solidFill>
            <a:srgbClr val="cc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#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HGA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$tkg$recv("%m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HGA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93840" y="4514760"/>
            <a:ext cx="1550880" cy="2036880"/>
          </a:xfrm>
          <a:prstGeom prst="rect">
            <a:avLst/>
          </a:prstGeom>
          <a:solidFill>
            <a:srgbClr val="ffcc99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6732720" y="1719360"/>
            <a:ext cx="2128680" cy="18777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5592600" y="4470480"/>
            <a:ext cx="1551240" cy="2036520"/>
          </a:xfrm>
          <a:prstGeom prst="rect">
            <a:avLst/>
          </a:prstGeom>
          <a:solidFill>
            <a:srgbClr val="ccff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003400" y="5006880"/>
            <a:ext cx="3564000" cy="395280"/>
            <a:chOff x="2003400" y="5006880"/>
            <a:chExt cx="3564000" cy="395280"/>
          </a:xfrm>
        </p:grpSpPr>
        <p:sp>
          <p:nvSpPr>
            <p:cNvPr id="478" name=""/>
            <p:cNvSpPr/>
            <p:nvPr/>
          </p:nvSpPr>
          <p:spPr>
            <a:xfrm flipH="1">
              <a:off x="2003400" y="5391000"/>
              <a:ext cx="3564000" cy="11160"/>
            </a:xfrm>
            <a:prstGeom prst="line">
              <a:avLst/>
            </a:prstGeom>
            <a:ln w="28440">
              <a:solidFill>
                <a:srgbClr val="ff00ff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84560" y="5006880"/>
              <a:ext cx="30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$send top.dm1.CHGACK 1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7188120" y="3595680"/>
            <a:ext cx="857160" cy="1927080"/>
          </a:xfrm>
          <a:custGeom>
            <a:avLst/>
            <a:gdLst/>
            <a:ahLst/>
            <a:rect l="l" t="t" r="r" b="b"/>
            <a:pathLst>
              <a:path w="540" h="467">
                <a:moveTo>
                  <a:pt x="0" y="467"/>
                </a:moveTo>
                <a:cubicBezTo>
                  <a:pt x="68" y="447"/>
                  <a:pt x="319" y="427"/>
                  <a:pt x="409" y="349"/>
                </a:cubicBezTo>
                <a:cubicBezTo>
                  <a:pt x="499" y="271"/>
                  <a:pt x="513" y="73"/>
                  <a:pt x="54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69840" y="1455840"/>
            <a:ext cx="190800" cy="10494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39840" y="820800"/>
            <a:ext cx="1800000" cy="7398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ilog “infinite loop” stat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041200" y="1254240"/>
            <a:ext cx="655560" cy="11602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389320" y="826920"/>
            <a:ext cx="804600" cy="4971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854600" y="1387440"/>
            <a:ext cx="985680" cy="13525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70320" y="833400"/>
            <a:ext cx="1859040" cy="7286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d channel to re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74800" y="5986440"/>
            <a:ext cx="2830320" cy="628560"/>
          </a:xfrm>
          <a:prstGeom prst="rect">
            <a:avLst/>
          </a:prstGeom>
          <a:solidFill>
            <a:srgbClr val="ccec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46720" y="59659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G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943280" y="6507000"/>
            <a:ext cx="32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1856880" y="1393920"/>
            <a:ext cx="1978200" cy="13366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344760" y="853920"/>
            <a:ext cx="1605240" cy="7286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ilog signal to upd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233440" y="6064200"/>
            <a:ext cx="1033560" cy="442800"/>
            <a:chOff x="2233440" y="6064200"/>
            <a:chExt cx="1033560" cy="442800"/>
          </a:xfrm>
        </p:grpSpPr>
        <p:sp>
          <p:nvSpPr>
            <p:cNvPr id="493" name=""/>
            <p:cNvSpPr/>
            <p:nvPr/>
          </p:nvSpPr>
          <p:spPr>
            <a:xfrm>
              <a:off x="2940120" y="6141960"/>
              <a:ext cx="14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2941560" y="6135840"/>
              <a:ext cx="325440" cy="1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33440" y="6507000"/>
              <a:ext cx="72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279520" y="607860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2279520" y="620388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65640" y="6064200"/>
              <a:ext cx="29952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324480" y="3622680"/>
            <a:ext cx="2577960" cy="1739880"/>
            <a:chOff x="6324480" y="3622680"/>
            <a:chExt cx="2577960" cy="1739880"/>
          </a:xfrm>
        </p:grpSpPr>
        <p:sp>
          <p:nvSpPr>
            <p:cNvPr id="500" name=""/>
            <p:cNvSpPr/>
            <p:nvPr/>
          </p:nvSpPr>
          <p:spPr>
            <a:xfrm>
              <a:off x="7236000" y="3622680"/>
              <a:ext cx="603000" cy="1739880"/>
            </a:xfrm>
            <a:custGeom>
              <a:avLst/>
              <a:gdLst/>
              <a:ahLst/>
              <a:rect l="l" t="t" r="r" b="b"/>
              <a:pathLst>
                <a:path w="380" h="1040">
                  <a:moveTo>
                    <a:pt x="380" y="0"/>
                  </a:moveTo>
                  <a:cubicBezTo>
                    <a:pt x="367" y="132"/>
                    <a:pt x="365" y="626"/>
                    <a:pt x="302" y="799"/>
                  </a:cubicBezTo>
                  <a:cubicBezTo>
                    <a:pt x="239" y="972"/>
                    <a:pt x="63" y="990"/>
                    <a:pt x="0" y="1040"/>
                  </a:cubicBezTo>
                </a:path>
              </a:pathLst>
            </a:custGeom>
            <a:noFill/>
            <a:ln w="28440">
              <a:solidFill>
                <a:srgbClr val="ff00ff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24480" y="3932280"/>
              <a:ext cx="25779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 CHGACK(top.dm1) 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Verilog-&gt;Tcl Dataflow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43040" y="2234160"/>
            <a:ext cx="4065480" cy="916920"/>
          </a:xfrm>
          <a:prstGeom prst="rect">
            <a:avLst/>
          </a:prstGeom>
          <a:solidFill>
            <a:srgbClr val="cc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HGQ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tkg$send("%m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HGQ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,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HGQ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36520" y="1417680"/>
            <a:ext cx="87480" cy="10508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898720" y="2944800"/>
            <a:ext cx="1176480" cy="649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395520" y="1574640"/>
            <a:ext cx="1044720" cy="11368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998880" y="793800"/>
            <a:ext cx="1185840" cy="9255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d channel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306520" y="1459080"/>
            <a:ext cx="184320" cy="8856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52640" y="3294000"/>
            <a:ext cx="1009800" cy="9511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ilog signal to 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93840" y="4514760"/>
            <a:ext cx="1550880" cy="2036880"/>
          </a:xfrm>
          <a:prstGeom prst="rect">
            <a:avLst/>
          </a:prstGeom>
          <a:solidFill>
            <a:srgbClr val="ffcc99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5605560" y="701640"/>
            <a:ext cx="3294000" cy="29052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5592600" y="4470480"/>
            <a:ext cx="1551240" cy="2036520"/>
          </a:xfrm>
          <a:prstGeom prst="rect">
            <a:avLst/>
          </a:prstGeom>
          <a:solidFill>
            <a:srgbClr val="ccff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188120" y="3586320"/>
            <a:ext cx="812880" cy="1936440"/>
          </a:xfrm>
          <a:custGeom>
            <a:avLst/>
            <a:gdLst/>
            <a:ahLst/>
            <a:rect l="l" t="t" r="r" b="b"/>
            <a:pathLst>
              <a:path w="540" h="467">
                <a:moveTo>
                  <a:pt x="0" y="467"/>
                </a:moveTo>
                <a:cubicBezTo>
                  <a:pt x="68" y="447"/>
                  <a:pt x="319" y="427"/>
                  <a:pt x="409" y="349"/>
                </a:cubicBezTo>
                <a:cubicBezTo>
                  <a:pt x="499" y="271"/>
                  <a:pt x="513" y="73"/>
                  <a:pt x="54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8920" y="793800"/>
            <a:ext cx="1800360" cy="7398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ilog “infinite loop” stat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70000" y="793800"/>
            <a:ext cx="1763640" cy="7747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 until signal chan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74800" y="5986440"/>
            <a:ext cx="2830320" cy="628560"/>
          </a:xfrm>
          <a:prstGeom prst="rect">
            <a:avLst/>
          </a:prstGeom>
          <a:solidFill>
            <a:srgbClr val="ccec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46360" y="5965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G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43280" y="6508800"/>
            <a:ext cx="32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85880" y="6159600"/>
            <a:ext cx="87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270160" y="6143760"/>
            <a:ext cx="326880" cy="365040"/>
            <a:chOff x="2270160" y="6143760"/>
            <a:chExt cx="326880" cy="365040"/>
          </a:xfrm>
        </p:grpSpPr>
        <p:sp>
          <p:nvSpPr>
            <p:cNvPr id="521" name=""/>
            <p:cNvSpPr/>
            <p:nvPr/>
          </p:nvSpPr>
          <p:spPr>
            <a:xfrm>
              <a:off x="2590920" y="6143760"/>
              <a:ext cx="14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70160" y="6508800"/>
              <a:ext cx="32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003400" y="5006880"/>
            <a:ext cx="3564000" cy="395280"/>
            <a:chOff x="2003400" y="5006880"/>
            <a:chExt cx="3564000" cy="395280"/>
          </a:xfrm>
        </p:grpSpPr>
        <p:sp>
          <p:nvSpPr>
            <p:cNvPr id="524" name=""/>
            <p:cNvSpPr/>
            <p:nvPr/>
          </p:nvSpPr>
          <p:spPr>
            <a:xfrm flipH="1">
              <a:off x="2003400" y="5391000"/>
              <a:ext cx="3564000" cy="11160"/>
            </a:xfrm>
            <a:prstGeom prst="line">
              <a:avLst/>
            </a:prstGeom>
            <a:ln w="28440">
              <a:solidFill>
                <a:srgbClr val="ff00ff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83480" y="5006880"/>
              <a:ext cx="26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d top.dm1.CHGQ 1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8375760" y="2166840"/>
            <a:ext cx="195120" cy="182520"/>
          </a:xfrm>
          <a:prstGeom prst="ellipse">
            <a:avLst/>
          </a:prstGeom>
          <a:solidFill>
            <a:srgbClr val="808080">
              <a:alpha val="9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4873320" y="3622680"/>
            <a:ext cx="4159800" cy="1739880"/>
            <a:chOff x="4873320" y="3622680"/>
            <a:chExt cx="4159800" cy="1739880"/>
          </a:xfrm>
        </p:grpSpPr>
        <p:sp>
          <p:nvSpPr>
            <p:cNvPr id="528" name=""/>
            <p:cNvSpPr/>
            <p:nvPr/>
          </p:nvSpPr>
          <p:spPr>
            <a:xfrm>
              <a:off x="7236000" y="3622680"/>
              <a:ext cx="603000" cy="1739880"/>
            </a:xfrm>
            <a:custGeom>
              <a:avLst/>
              <a:gdLst/>
              <a:ahLst/>
              <a:rect l="l" t="t" r="r" b="b"/>
              <a:pathLst>
                <a:path w="380" h="1040">
                  <a:moveTo>
                    <a:pt x="380" y="0"/>
                  </a:moveTo>
                  <a:cubicBezTo>
                    <a:pt x="367" y="132"/>
                    <a:pt x="365" y="626"/>
                    <a:pt x="302" y="799"/>
                  </a:cubicBezTo>
                  <a:cubicBezTo>
                    <a:pt x="239" y="972"/>
                    <a:pt x="63" y="990"/>
                    <a:pt x="0" y="1040"/>
                  </a:cubicBezTo>
                </a:path>
              </a:pathLst>
            </a:custGeom>
            <a:noFill/>
            <a:ln w="28440">
              <a:solidFill>
                <a:srgbClr val="ff00ff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73320" y="3887640"/>
              <a:ext cx="41598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nkMachine::dispenseQuarter top.dm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8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8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76266E-006 L -0.30243 -0.19408 E">
                                      <p:cBhvr>
                                        <p:cTn id="681" dur="1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393840" y="4514760"/>
            <a:ext cx="1550880" cy="2036880"/>
          </a:xfrm>
          <a:prstGeom prst="rect">
            <a:avLst/>
          </a:prstGeom>
          <a:solidFill>
            <a:srgbClr val="ffcc99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57160" y="5191200"/>
            <a:ext cx="2847960" cy="1517400"/>
            <a:chOff x="857160" y="5191200"/>
            <a:chExt cx="2847960" cy="1517400"/>
          </a:xfrm>
        </p:grpSpPr>
        <p:sp>
          <p:nvSpPr>
            <p:cNvPr id="532" name=""/>
            <p:cNvSpPr/>
            <p:nvPr/>
          </p:nvSpPr>
          <p:spPr>
            <a:xfrm>
              <a:off x="874800" y="6229440"/>
              <a:ext cx="2830320" cy="479160"/>
            </a:xfrm>
            <a:prstGeom prst="rect">
              <a:avLst/>
            </a:prstGeom>
            <a:solidFill>
              <a:srgbClr val="ccecff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74800" y="5710320"/>
              <a:ext cx="2830320" cy="479520"/>
            </a:xfrm>
            <a:prstGeom prst="rect">
              <a:avLst/>
            </a:prstGeom>
            <a:solidFill>
              <a:srgbClr val="ccecff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74800" y="5191200"/>
              <a:ext cx="2830320" cy="479520"/>
            </a:xfrm>
            <a:prstGeom prst="rect">
              <a:avLst/>
            </a:prstGeom>
            <a:solidFill>
              <a:srgbClr val="ccecff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41440" y="613872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7160" y="526428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58960" y="5794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72280" y="630252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1433520" y="6297480"/>
              <a:ext cx="295200" cy="355680"/>
              <a:chOff x="1433520" y="6297480"/>
              <a:chExt cx="295200" cy="355680"/>
            </a:xfrm>
          </p:grpSpPr>
          <p:sp>
            <p:nvSpPr>
              <p:cNvPr id="540" name=""/>
              <p:cNvSpPr/>
              <p:nvPr/>
            </p:nvSpPr>
            <p:spPr>
              <a:xfrm>
                <a:off x="1433520" y="6653160"/>
                <a:ext cx="291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434960" y="6297480"/>
                <a:ext cx="28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474920" y="63183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1440000" y="560232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Alternate Dataflow Styles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28480" y="2199960"/>
            <a:ext cx="4132440" cy="916920"/>
          </a:xfrm>
          <a:prstGeom prst="rect">
            <a:avLst/>
          </a:prstGeom>
          <a:solidFill>
            <a:srgbClr val="cc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posedge T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tkg$send("%m.DATA",T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3720" y="865080"/>
            <a:ext cx="1717920" cy="7066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positive edge of TX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89160" y="1569960"/>
            <a:ext cx="723960" cy="738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1990440" y="1595520"/>
            <a:ext cx="1406520" cy="10857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347920" y="890640"/>
            <a:ext cx="1638360" cy="9255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e CTS signal is asserted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4041720" y="1609560"/>
            <a:ext cx="758880" cy="12020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56200" y="906480"/>
            <a:ext cx="1081080" cy="9255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 the data in T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92600" y="4470480"/>
            <a:ext cx="1551240" cy="2036520"/>
          </a:xfrm>
          <a:prstGeom prst="rect">
            <a:avLst/>
          </a:prstGeom>
          <a:solidFill>
            <a:srgbClr val="ccff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2014560" y="4322880"/>
            <a:ext cx="3564000" cy="395280"/>
            <a:chOff x="2014560" y="4322880"/>
            <a:chExt cx="3564000" cy="395280"/>
          </a:xfrm>
        </p:grpSpPr>
        <p:sp>
          <p:nvSpPr>
            <p:cNvPr id="554" name=""/>
            <p:cNvSpPr/>
            <p:nvPr/>
          </p:nvSpPr>
          <p:spPr>
            <a:xfrm flipH="1">
              <a:off x="2014560" y="4707000"/>
              <a:ext cx="3564000" cy="11160"/>
            </a:xfrm>
            <a:prstGeom prst="line">
              <a:avLst/>
            </a:prstGeom>
            <a:ln w="28440">
              <a:solidFill>
                <a:srgbClr val="ff00ff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94640" y="432288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d top.tty.DATA 8’h42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7188120" y="3659040"/>
            <a:ext cx="787320" cy="1863720"/>
          </a:xfrm>
          <a:custGeom>
            <a:avLst/>
            <a:gdLst/>
            <a:ahLst/>
            <a:rect l="l" t="t" r="r" b="b"/>
            <a:pathLst>
              <a:path w="540" h="467">
                <a:moveTo>
                  <a:pt x="0" y="467"/>
                </a:moveTo>
                <a:cubicBezTo>
                  <a:pt x="68" y="447"/>
                  <a:pt x="319" y="427"/>
                  <a:pt x="409" y="349"/>
                </a:cubicBezTo>
                <a:cubicBezTo>
                  <a:pt x="499" y="271"/>
                  <a:pt x="513" y="73"/>
                  <a:pt x="54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71640" y="578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754360" y="6297480"/>
            <a:ext cx="490320" cy="355680"/>
            <a:chOff x="2754360" y="6297480"/>
            <a:chExt cx="490320" cy="355680"/>
          </a:xfrm>
        </p:grpSpPr>
        <p:sp>
          <p:nvSpPr>
            <p:cNvPr id="559" name=""/>
            <p:cNvSpPr/>
            <p:nvPr/>
          </p:nvSpPr>
          <p:spPr>
            <a:xfrm>
              <a:off x="2762280" y="629748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54360" y="6653160"/>
              <a:ext cx="49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567400" y="954000"/>
            <a:ext cx="3297240" cy="2724120"/>
            <a:chOff x="5567400" y="954000"/>
            <a:chExt cx="3297240" cy="2724120"/>
          </a:xfrm>
        </p:grpSpPr>
        <p:pic>
          <p:nvPicPr>
            <p:cNvPr id="562" name="" descr=""/>
            <p:cNvPicPr/>
            <p:nvPr/>
          </p:nvPicPr>
          <p:blipFill>
            <a:blip r:embed="rId1"/>
            <a:srcRect l="0" t="0" r="66213" b="54239"/>
            <a:stretch/>
          </p:blipFill>
          <p:spPr>
            <a:xfrm>
              <a:off x="5567400" y="954000"/>
              <a:ext cx="329076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5715000" y="1458720"/>
              <a:ext cx="3149640" cy="2200320"/>
            </a:xfrm>
            <a:prstGeom prst="rect">
              <a:avLst/>
            </a:prstGeom>
            <a:solidFill>
              <a:srgbClr val="d2d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1722600" y="6138720"/>
            <a:ext cx="10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16200" y="5264280"/>
            <a:ext cx="55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716120" y="5246640"/>
            <a:ext cx="131760" cy="365040"/>
            <a:chOff x="1716120" y="5246640"/>
            <a:chExt cx="131760" cy="365040"/>
          </a:xfrm>
        </p:grpSpPr>
        <p:sp>
          <p:nvSpPr>
            <p:cNvPr id="567" name=""/>
            <p:cNvSpPr/>
            <p:nvPr/>
          </p:nvSpPr>
          <p:spPr>
            <a:xfrm>
              <a:off x="1828800" y="5246640"/>
              <a:ext cx="14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16120" y="5602320"/>
              <a:ext cx="13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1720800" y="6297480"/>
            <a:ext cx="106560" cy="355680"/>
            <a:chOff x="1720800" y="6297480"/>
            <a:chExt cx="106560" cy="355680"/>
          </a:xfrm>
        </p:grpSpPr>
        <p:sp>
          <p:nvSpPr>
            <p:cNvPr id="570" name=""/>
            <p:cNvSpPr/>
            <p:nvPr/>
          </p:nvSpPr>
          <p:spPr>
            <a:xfrm>
              <a:off x="1720800" y="6297480"/>
              <a:ext cx="10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20800" y="6653160"/>
              <a:ext cx="10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3227400" y="5262480"/>
            <a:ext cx="37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2371680" y="5253120"/>
            <a:ext cx="411120" cy="365040"/>
            <a:chOff x="2371680" y="5253120"/>
            <a:chExt cx="411120" cy="365040"/>
          </a:xfrm>
        </p:grpSpPr>
        <p:sp>
          <p:nvSpPr>
            <p:cNvPr id="574" name=""/>
            <p:cNvSpPr/>
            <p:nvPr/>
          </p:nvSpPr>
          <p:spPr>
            <a:xfrm>
              <a:off x="2763720" y="5253120"/>
              <a:ext cx="180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371680" y="5264280"/>
              <a:ext cx="411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357280" y="578628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819440" y="6276960"/>
            <a:ext cx="560160" cy="390600"/>
            <a:chOff x="1819440" y="6276960"/>
            <a:chExt cx="560160" cy="390600"/>
          </a:xfrm>
        </p:grpSpPr>
        <p:sp>
          <p:nvSpPr>
            <p:cNvPr id="578" name=""/>
            <p:cNvSpPr/>
            <p:nvPr/>
          </p:nvSpPr>
          <p:spPr>
            <a:xfrm>
              <a:off x="2071800" y="63277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17720" y="6286680"/>
              <a:ext cx="120600" cy="36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1926720" y="6276960"/>
              <a:ext cx="8892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824120" y="6653160"/>
              <a:ext cx="1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819440" y="6297480"/>
              <a:ext cx="10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025720" y="6297480"/>
              <a:ext cx="35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022480" y="6653160"/>
              <a:ext cx="35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997240" y="1511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94360" y="1514520"/>
            <a:ext cx="0" cy="2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06800" y="1511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1819440" y="5800680"/>
            <a:ext cx="571320" cy="351000"/>
            <a:chOff x="1819440" y="5800680"/>
            <a:chExt cx="571320" cy="351000"/>
          </a:xfrm>
        </p:grpSpPr>
        <p:sp>
          <p:nvSpPr>
            <p:cNvPr id="589" name=""/>
            <p:cNvSpPr/>
            <p:nvPr/>
          </p:nvSpPr>
          <p:spPr>
            <a:xfrm>
              <a:off x="2373480" y="5800680"/>
              <a:ext cx="1440" cy="35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19440" y="6137280"/>
              <a:ext cx="57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2755800" y="5256360"/>
            <a:ext cx="506520" cy="365040"/>
            <a:chOff x="2755800" y="5256360"/>
            <a:chExt cx="506520" cy="365040"/>
          </a:xfrm>
        </p:grpSpPr>
        <p:sp>
          <p:nvSpPr>
            <p:cNvPr id="592" name=""/>
            <p:cNvSpPr/>
            <p:nvPr/>
          </p:nvSpPr>
          <p:spPr>
            <a:xfrm>
              <a:off x="2755800" y="5605560"/>
              <a:ext cx="50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43240" y="5256360"/>
              <a:ext cx="14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228840" y="6297480"/>
            <a:ext cx="374760" cy="355680"/>
            <a:chOff x="3228840" y="6297480"/>
            <a:chExt cx="374760" cy="355680"/>
          </a:xfrm>
        </p:grpSpPr>
        <p:sp>
          <p:nvSpPr>
            <p:cNvPr id="595" name=""/>
            <p:cNvSpPr/>
            <p:nvPr/>
          </p:nvSpPr>
          <p:spPr>
            <a:xfrm>
              <a:off x="3228840" y="6297480"/>
              <a:ext cx="37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33880" y="6653160"/>
              <a:ext cx="369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374920" y="6297480"/>
            <a:ext cx="387360" cy="355680"/>
            <a:chOff x="2374920" y="6297480"/>
            <a:chExt cx="387360" cy="355680"/>
          </a:xfrm>
        </p:grpSpPr>
        <p:sp>
          <p:nvSpPr>
            <p:cNvPr id="598" name=""/>
            <p:cNvSpPr/>
            <p:nvPr/>
          </p:nvSpPr>
          <p:spPr>
            <a:xfrm>
              <a:off x="2374920" y="6297480"/>
              <a:ext cx="387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374920" y="6653160"/>
              <a:ext cx="387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3235320" y="5786280"/>
            <a:ext cx="366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5345640" y="3711600"/>
            <a:ext cx="3554640" cy="1650960"/>
            <a:chOff x="5345640" y="3711600"/>
            <a:chExt cx="3554640" cy="1650960"/>
          </a:xfrm>
        </p:grpSpPr>
        <p:sp>
          <p:nvSpPr>
            <p:cNvPr id="602" name=""/>
            <p:cNvSpPr/>
            <p:nvPr/>
          </p:nvSpPr>
          <p:spPr>
            <a:xfrm>
              <a:off x="7236000" y="3711600"/>
              <a:ext cx="603000" cy="1650960"/>
            </a:xfrm>
            <a:custGeom>
              <a:avLst/>
              <a:gdLst/>
              <a:ahLst/>
              <a:rect l="l" t="t" r="r" b="b"/>
              <a:pathLst>
                <a:path w="380" h="1040">
                  <a:moveTo>
                    <a:pt x="380" y="0"/>
                  </a:moveTo>
                  <a:cubicBezTo>
                    <a:pt x="367" y="132"/>
                    <a:pt x="365" y="626"/>
                    <a:pt x="302" y="799"/>
                  </a:cubicBezTo>
                  <a:cubicBezTo>
                    <a:pt x="239" y="972"/>
                    <a:pt x="63" y="990"/>
                    <a:pt x="0" y="1040"/>
                  </a:cubicBezTo>
                </a:path>
              </a:pathLst>
            </a:custGeom>
            <a:noFill/>
            <a:ln w="28440">
              <a:solidFill>
                <a:srgbClr val="ff00ff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45640" y="3921120"/>
              <a:ext cx="35546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$tty_w($name).text insert insert “B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9" dur="7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8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139 L 0.0191 -0.00139 E">
                                      <p:cBhvr>
                                        <p:cTn id="797" dur="1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 rot="16200000">
            <a:off x="-1348560" y="2705760"/>
            <a:ext cx="3719520" cy="422280"/>
          </a:xfrm>
          <a:prstGeom prst="rect">
            <a:avLst/>
          </a:prstGeom>
          <a:solidFill>
            <a:srgbClr val="ccffcc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Tcl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16040" y="1058760"/>
            <a:ext cx="3554280" cy="1981440"/>
          </a:xfrm>
          <a:prstGeom prst="rect">
            <a:avLst/>
          </a:prstGeom>
          <a:solidFill>
            <a:srgbClr val="cc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66880" y="3038400"/>
            <a:ext cx="2506680" cy="330120"/>
          </a:xfrm>
          <a:prstGeom prst="rect">
            <a:avLst/>
          </a:prstGeom>
          <a:solidFill>
            <a:srgbClr val="ffff99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k_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TkGate Architecture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17480" y="3368520"/>
            <a:ext cx="3552840" cy="1406520"/>
          </a:xfrm>
          <a:prstGeom prst="rect">
            <a:avLst/>
          </a:prstGeom>
          <a:solidFill>
            <a:srgbClr val="ffcc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740120" y="3689280"/>
            <a:ext cx="4253040" cy="3038400"/>
          </a:xfrm>
          <a:prstGeom prst="rect">
            <a:avLst/>
          </a:prstGeom>
          <a:solidFill>
            <a:srgbClr val="cc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444640" y="4405320"/>
            <a:ext cx="9720" cy="407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411960" y="6031080"/>
            <a:ext cx="1214280" cy="62532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d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851360" y="6029280"/>
            <a:ext cx="1206720" cy="62568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7956720" y="4773600"/>
            <a:ext cx="985680" cy="1812960"/>
            <a:chOff x="7956720" y="4773600"/>
            <a:chExt cx="985680" cy="1812960"/>
          </a:xfrm>
        </p:grpSpPr>
        <p:sp>
          <p:nvSpPr>
            <p:cNvPr id="614" name=""/>
            <p:cNvSpPr/>
            <p:nvPr/>
          </p:nvSpPr>
          <p:spPr>
            <a:xfrm>
              <a:off x="7956720" y="4773600"/>
              <a:ext cx="985680" cy="1812960"/>
            </a:xfrm>
            <a:custGeom>
              <a:avLst/>
              <a:gdLst>
                <a:gd name="textAreaLeft" fmla="*/ 47880 w 985680"/>
                <a:gd name="textAreaRight" fmla="*/ 937800 w 985680"/>
                <a:gd name="textAreaTop" fmla="*/ 47880 h 1812960"/>
                <a:gd name="textAreaBottom" fmla="*/ 1765080 h 1812960"/>
              </a:gdLst>
              <a:ahLst/>
              <a:rect l="textAreaLeft" t="textAreaTop" r="textAreaRight" b="textAreaBottom"/>
              <a:pathLst>
                <a:path w="21600" h="39722">
                  <a:moveTo>
                    <a:pt x="3600" y="0"/>
                  </a:moveTo>
                  <a:arcTo wR="3600" hR="3600" stAng="16200000" swAng="-5400000"/>
                  <a:lnTo>
                    <a:pt x="0" y="36122"/>
                  </a:lnTo>
                  <a:arcTo wR="3600" hR="3600" stAng="10800000" swAng="-5400000"/>
                  <a:lnTo>
                    <a:pt x="18000" y="397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yte-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107200" y="48466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107200" y="48816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107200" y="491652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107200" y="495144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107200" y="498636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107200" y="5021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107200" y="50562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107200" y="509112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107200" y="512604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07200" y="516096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107200" y="51958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107200" y="52308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107200" y="526572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107200" y="530064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107200" y="533556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107200" y="53704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107200" y="54054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107200" y="544032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107200" y="547524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107200" y="551016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107200" y="55468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107200" y="55818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107200" y="561672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107200" y="565164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107200" y="568656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107200" y="57214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107200" y="57564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107200" y="579132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107200" y="582624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07200" y="586116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107200" y="58960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07200" y="59310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07200" y="596592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7048440" y="5622840"/>
            <a:ext cx="7920" cy="397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6027840" y="5603760"/>
            <a:ext cx="403200" cy="459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46920" y="5648400"/>
            <a:ext cx="403200" cy="411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77040" y="5657760"/>
            <a:ext cx="0" cy="373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24800" y="4875120"/>
            <a:ext cx="444600" cy="42840"/>
          </a:xfrm>
          <a:custGeom>
            <a:avLst/>
            <a:gdLst/>
            <a:ahLst/>
            <a:rect l="l" t="t" r="r" b="b"/>
            <a:pathLst>
              <a:path w="467" h="634">
                <a:moveTo>
                  <a:pt x="0" y="613"/>
                </a:moveTo>
                <a:cubicBezTo>
                  <a:pt x="22" y="602"/>
                  <a:pt x="79" y="634"/>
                  <a:pt x="131" y="546"/>
                </a:cubicBezTo>
                <a:cubicBezTo>
                  <a:pt x="183" y="458"/>
                  <a:pt x="258" y="172"/>
                  <a:pt x="314" y="86"/>
                </a:cubicBezTo>
                <a:cubicBezTo>
                  <a:pt x="370" y="0"/>
                  <a:pt x="435" y="42"/>
                  <a:pt x="467" y="30"/>
                </a:cubicBezTo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7624800" y="5449320"/>
            <a:ext cx="444600" cy="290520"/>
          </a:xfrm>
          <a:custGeom>
            <a:avLst/>
            <a:gdLst/>
            <a:ahLst/>
            <a:rect l="l" t="t" r="r" b="b"/>
            <a:pathLst>
              <a:path w="467" h="634">
                <a:moveTo>
                  <a:pt x="0" y="613"/>
                </a:moveTo>
                <a:cubicBezTo>
                  <a:pt x="22" y="602"/>
                  <a:pt x="79" y="634"/>
                  <a:pt x="131" y="546"/>
                </a:cubicBezTo>
                <a:cubicBezTo>
                  <a:pt x="183" y="458"/>
                  <a:pt x="258" y="172"/>
                  <a:pt x="314" y="86"/>
                </a:cubicBezTo>
                <a:cubicBezTo>
                  <a:pt x="370" y="0"/>
                  <a:pt x="435" y="42"/>
                  <a:pt x="467" y="30"/>
                </a:cubicBezTo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7624800" y="5177880"/>
            <a:ext cx="444600" cy="309240"/>
          </a:xfrm>
          <a:custGeom>
            <a:avLst/>
            <a:gdLst/>
            <a:ahLst/>
            <a:rect l="l" t="t" r="r" b="b"/>
            <a:pathLst>
              <a:path w="467" h="634">
                <a:moveTo>
                  <a:pt x="0" y="613"/>
                </a:moveTo>
                <a:cubicBezTo>
                  <a:pt x="22" y="602"/>
                  <a:pt x="79" y="634"/>
                  <a:pt x="131" y="546"/>
                </a:cubicBezTo>
                <a:cubicBezTo>
                  <a:pt x="183" y="458"/>
                  <a:pt x="258" y="172"/>
                  <a:pt x="314" y="86"/>
                </a:cubicBezTo>
                <a:cubicBezTo>
                  <a:pt x="370" y="0"/>
                  <a:pt x="435" y="42"/>
                  <a:pt x="467" y="30"/>
                </a:cubicBezTo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7624800" y="5335560"/>
            <a:ext cx="444600" cy="619200"/>
          </a:xfrm>
          <a:custGeom>
            <a:avLst/>
            <a:gdLst/>
            <a:ahLst/>
            <a:rect l="l" t="t" r="r" b="b"/>
            <a:pathLst>
              <a:path w="467" h="634">
                <a:moveTo>
                  <a:pt x="0" y="613"/>
                </a:moveTo>
                <a:cubicBezTo>
                  <a:pt x="22" y="602"/>
                  <a:pt x="79" y="634"/>
                  <a:pt x="131" y="546"/>
                </a:cubicBezTo>
                <a:cubicBezTo>
                  <a:pt x="183" y="458"/>
                  <a:pt x="258" y="172"/>
                  <a:pt x="314" y="86"/>
                </a:cubicBezTo>
                <a:cubicBezTo>
                  <a:pt x="370" y="0"/>
                  <a:pt x="435" y="42"/>
                  <a:pt x="467" y="30"/>
                </a:cubicBezTo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24800" y="5032440"/>
            <a:ext cx="444600" cy="65160"/>
          </a:xfrm>
          <a:custGeom>
            <a:avLst/>
            <a:gdLst/>
            <a:ahLst/>
            <a:rect l="l" t="t" r="r" b="b"/>
            <a:pathLst>
              <a:path w="467" h="634">
                <a:moveTo>
                  <a:pt x="0" y="613"/>
                </a:moveTo>
                <a:cubicBezTo>
                  <a:pt x="22" y="602"/>
                  <a:pt x="79" y="634"/>
                  <a:pt x="131" y="546"/>
                </a:cubicBezTo>
                <a:cubicBezTo>
                  <a:pt x="183" y="458"/>
                  <a:pt x="258" y="172"/>
                  <a:pt x="314" y="86"/>
                </a:cubicBezTo>
                <a:cubicBezTo>
                  <a:pt x="370" y="0"/>
                  <a:pt x="435" y="42"/>
                  <a:pt x="467" y="30"/>
                </a:cubicBezTo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7624800" y="5012640"/>
            <a:ext cx="444600" cy="345960"/>
          </a:xfrm>
          <a:custGeom>
            <a:avLst/>
            <a:gdLst/>
            <a:ahLst/>
            <a:rect l="l" t="t" r="r" b="b"/>
            <a:pathLst>
              <a:path w="467" h="634">
                <a:moveTo>
                  <a:pt x="0" y="613"/>
                </a:moveTo>
                <a:cubicBezTo>
                  <a:pt x="22" y="602"/>
                  <a:pt x="79" y="634"/>
                  <a:pt x="131" y="546"/>
                </a:cubicBezTo>
                <a:cubicBezTo>
                  <a:pt x="183" y="458"/>
                  <a:pt x="258" y="172"/>
                  <a:pt x="314" y="86"/>
                </a:cubicBezTo>
                <a:cubicBezTo>
                  <a:pt x="370" y="0"/>
                  <a:pt x="435" y="42"/>
                  <a:pt x="467" y="30"/>
                </a:cubicBezTo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411960" y="4772160"/>
            <a:ext cx="1206360" cy="85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 flipV="1">
            <a:off x="4075200" y="2697120"/>
            <a:ext cx="3990960" cy="47304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>
            <a:off x="7622640" y="4093920"/>
            <a:ext cx="257400" cy="11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8445600" y="4403880"/>
            <a:ext cx="0" cy="387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763160" y="3319560"/>
            <a:ext cx="117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4132440" y="3992400"/>
            <a:ext cx="726480" cy="301680"/>
            <a:chOff x="4132440" y="3992400"/>
            <a:chExt cx="726480" cy="301680"/>
          </a:xfrm>
        </p:grpSpPr>
        <p:sp>
          <p:nvSpPr>
            <p:cNvPr id="664" name=""/>
            <p:cNvSpPr/>
            <p:nvPr/>
          </p:nvSpPr>
          <p:spPr>
            <a:xfrm rot="5400000">
              <a:off x="4369320" y="3851280"/>
              <a:ext cx="254160" cy="5839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5400000">
              <a:off x="4671000" y="4104360"/>
              <a:ext cx="299880" cy="756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9160" bIns="291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5400000">
              <a:off x="4020120" y="4106160"/>
              <a:ext cx="300240" cy="756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6048360" y="4100400"/>
            <a:ext cx="365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078000" y="3902040"/>
            <a:ext cx="1052640" cy="819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ato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293840" y="2014560"/>
            <a:ext cx="1114560" cy="774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it Window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49920" y="4788000"/>
            <a:ext cx="1208160" cy="855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319040" y="1141560"/>
            <a:ext cx="1116360" cy="6346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068360" y="969840"/>
            <a:ext cx="1079640" cy="39384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45120" y="706320"/>
            <a:ext cx="730080" cy="520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.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900920" y="3780000"/>
            <a:ext cx="1008000" cy="603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Comp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7061040" y="4392720"/>
            <a:ext cx="0" cy="387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6056280" y="4397400"/>
            <a:ext cx="371520" cy="387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411960" y="3780000"/>
            <a:ext cx="1206360" cy="617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51360" y="3780000"/>
            <a:ext cx="1206720" cy="637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3200" y="736560"/>
            <a:ext cx="106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68520" y="3376440"/>
            <a:ext cx="9360" cy="514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8418600" y="3281400"/>
            <a:ext cx="0" cy="48888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051760" y="2898720"/>
            <a:ext cx="739800" cy="493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.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4092480" y="1468440"/>
            <a:ext cx="1503360" cy="2649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4065120" y="2270160"/>
            <a:ext cx="1148040" cy="93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5145120" y="1301760"/>
            <a:ext cx="744120" cy="665280"/>
            <a:chOff x="5145120" y="1301760"/>
            <a:chExt cx="744120" cy="665280"/>
          </a:xfrm>
        </p:grpSpPr>
        <p:sp>
          <p:nvSpPr>
            <p:cNvPr id="686" name=""/>
            <p:cNvSpPr/>
            <p:nvPr/>
          </p:nvSpPr>
          <p:spPr>
            <a:xfrm>
              <a:off x="5145120" y="1301760"/>
              <a:ext cx="626760" cy="57384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203800" y="1347120"/>
              <a:ext cx="626760" cy="57384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262480" y="1393200"/>
              <a:ext cx="626760" cy="57384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5145120" y="2021040"/>
            <a:ext cx="742680" cy="672840"/>
            <a:chOff x="5145120" y="2021040"/>
            <a:chExt cx="742680" cy="672840"/>
          </a:xfrm>
        </p:grpSpPr>
        <p:sp>
          <p:nvSpPr>
            <p:cNvPr id="690" name=""/>
            <p:cNvSpPr/>
            <p:nvPr/>
          </p:nvSpPr>
          <p:spPr>
            <a:xfrm>
              <a:off x="5145120" y="2021040"/>
              <a:ext cx="625680" cy="58032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203440" y="2067120"/>
              <a:ext cx="625680" cy="58032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262120" y="2113560"/>
              <a:ext cx="625680" cy="58032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p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 flipH="1">
            <a:off x="3567240" y="3360600"/>
            <a:ext cx="1440" cy="532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60080" y="3532320"/>
            <a:ext cx="823680" cy="182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le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4360" y="5954760"/>
            <a:ext cx="153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TkGate Tcl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027240" y="5954760"/>
            <a:ext cx="1535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nd User-Defined VPD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829480" y="7412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esign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829480" y="133200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nd User Library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829480" y="203688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nd User VPD Stub 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425320" y="1434960"/>
            <a:ext cx="561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5680" y="4606920"/>
            <a:ext cx="2360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0080" y="1065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20000" y="3373560"/>
            <a:ext cx="62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l/T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150920" y="3892680"/>
            <a:ext cx="906480" cy="542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I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122560" y="3905280"/>
            <a:ext cx="647640" cy="542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P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768760" y="4159080"/>
            <a:ext cx="314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449440" y="3371760"/>
            <a:ext cx="0" cy="54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74120" y="3532320"/>
            <a:ext cx="366480" cy="182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47960" y="3378240"/>
            <a:ext cx="0" cy="506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755000" y="3532320"/>
            <a:ext cx="366480" cy="182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3440" y="4121280"/>
            <a:ext cx="453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982960" y="1197000"/>
            <a:ext cx="1104840" cy="1684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ilog Parser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7480" y="3041640"/>
            <a:ext cx="1082880" cy="330120"/>
          </a:xfrm>
          <a:prstGeom prst="rect">
            <a:avLst/>
          </a:prstGeom>
          <a:solidFill>
            <a:srgbClr val="ffcc99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cl_E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1573200" y="2784600"/>
            <a:ext cx="7920" cy="250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827360" y="1771200"/>
            <a:ext cx="7920" cy="250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3641760" y="4775040"/>
            <a:ext cx="144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1343160" y="4770360"/>
            <a:ext cx="144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3092400" y="5265720"/>
            <a:ext cx="1166400" cy="699840"/>
            <a:chOff x="3092400" y="5265720"/>
            <a:chExt cx="1166400" cy="699840"/>
          </a:xfrm>
        </p:grpSpPr>
        <p:sp>
          <p:nvSpPr>
            <p:cNvPr id="719" name=""/>
            <p:cNvSpPr/>
            <p:nvPr/>
          </p:nvSpPr>
          <p:spPr>
            <a:xfrm>
              <a:off x="3092400" y="5265720"/>
              <a:ext cx="982440" cy="604080"/>
            </a:xfrm>
            <a:prstGeom prst="can">
              <a:avLst>
                <a:gd name="adj" fmla="val 250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184200" y="5313600"/>
              <a:ext cx="982440" cy="604080"/>
            </a:xfrm>
            <a:prstGeom prst="can">
              <a:avLst>
                <a:gd name="adj" fmla="val 250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76360" y="5361840"/>
              <a:ext cx="982440" cy="603720"/>
            </a:xfrm>
            <a:prstGeom prst="can">
              <a:avLst>
                <a:gd name="adj" fmla="val 250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kgate.t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942840" y="5265720"/>
            <a:ext cx="888840" cy="630000"/>
            <a:chOff x="942840" y="5265720"/>
            <a:chExt cx="888840" cy="630000"/>
          </a:xfrm>
        </p:grpSpPr>
        <p:sp>
          <p:nvSpPr>
            <p:cNvPr id="723" name=""/>
            <p:cNvSpPr/>
            <p:nvPr/>
          </p:nvSpPr>
          <p:spPr>
            <a:xfrm>
              <a:off x="942840" y="5265720"/>
              <a:ext cx="748800" cy="543960"/>
            </a:xfrm>
            <a:prstGeom prst="can">
              <a:avLst>
                <a:gd name="adj" fmla="val 250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12680" y="5308920"/>
              <a:ext cx="748800" cy="543960"/>
            </a:xfrm>
            <a:prstGeom prst="can">
              <a:avLst>
                <a:gd name="adj" fmla="val 250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82880" y="5352120"/>
              <a:ext cx="748800" cy="543600"/>
            </a:xfrm>
            <a:prstGeom prst="can">
              <a:avLst>
                <a:gd name="adj" fmla="val 250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pd.t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 flipH="1">
            <a:off x="722160" y="2367000"/>
            <a:ext cx="565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5359320" y="728640"/>
            <a:ext cx="3576600" cy="3067200"/>
          </a:xfrm>
          <a:prstGeom prst="rect">
            <a:avLst/>
          </a:prstGeom>
          <a:solidFill>
            <a:srgbClr val="ffff99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Conclusion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4994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rtual Periphera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chanism to create interactive devic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ices appear as ordinary module to user desig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ls on Verilog module translated into Tcl commands in inte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d channels used to communicate between Tcl and Verilog si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cl/Tk Graphical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d in unique name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“post” method to creat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nd Tcl variables and commands to named chann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ilog Stub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Verilog 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iti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to invoked the VPD “post”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Verilog 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alway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to link Verilog variables to Tcl variab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complex multi-variable interactions can also be implemen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5502240" y="808200"/>
            <a:ext cx="3328920" cy="249696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5521320" y="327816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ttp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://www.tkgat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TkGate Architecture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4048200" y="4883040"/>
            <a:ext cx="990000" cy="1079280"/>
            <a:chOff x="4048200" y="4883040"/>
            <a:chExt cx="990000" cy="1079280"/>
          </a:xfrm>
        </p:grpSpPr>
        <p:sp>
          <p:nvSpPr>
            <p:cNvPr id="734" name=""/>
            <p:cNvSpPr/>
            <p:nvPr/>
          </p:nvSpPr>
          <p:spPr>
            <a:xfrm>
              <a:off x="4048200" y="4883040"/>
              <a:ext cx="790200" cy="971640"/>
            </a:xfrm>
            <a:prstGeom prst="can">
              <a:avLst>
                <a:gd name="adj" fmla="val 1454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147920" y="4937040"/>
              <a:ext cx="790200" cy="971280"/>
            </a:xfrm>
            <a:prstGeom prst="can">
              <a:avLst>
                <a:gd name="adj" fmla="val 1454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248000" y="4991040"/>
              <a:ext cx="790200" cy="971280"/>
            </a:xfrm>
            <a:prstGeom prst="can">
              <a:avLst>
                <a:gd name="adj" fmla="val 1454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 flipH="1" flipV="1">
            <a:off x="4473720" y="4083120"/>
            <a:ext cx="9360" cy="79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2887560" y="922320"/>
            <a:ext cx="1389240" cy="12240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590400" y="798480"/>
            <a:ext cx="1597320" cy="115092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5294160" y="912960"/>
            <a:ext cx="1793880" cy="109368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1652760" y="4938840"/>
            <a:ext cx="790560" cy="971280"/>
          </a:xfrm>
          <a:prstGeom prst="can">
            <a:avLst>
              <a:gd name="adj" fmla="val 1454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p.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736800" y="2795760"/>
            <a:ext cx="1457640" cy="1296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405080" y="2789280"/>
            <a:ext cx="1234800" cy="666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066560" y="35751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-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792600" y="29750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ck/Tk-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728880" y="3452760"/>
            <a:ext cx="1465560" cy="1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 flipV="1">
            <a:off x="5202360" y="3970080"/>
            <a:ext cx="2334960" cy="151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195520" y="3216240"/>
            <a:ext cx="2406600" cy="711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7485120" y="5087880"/>
            <a:ext cx="990720" cy="1079280"/>
            <a:chOff x="7485120" y="5087880"/>
            <a:chExt cx="990720" cy="1079280"/>
          </a:xfrm>
        </p:grpSpPr>
        <p:sp>
          <p:nvSpPr>
            <p:cNvPr id="750" name=""/>
            <p:cNvSpPr/>
            <p:nvPr/>
          </p:nvSpPr>
          <p:spPr>
            <a:xfrm>
              <a:off x="7485120" y="5087880"/>
              <a:ext cx="790560" cy="971640"/>
            </a:xfrm>
            <a:prstGeom prst="can">
              <a:avLst>
                <a:gd name="adj" fmla="val 1454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85200" y="5141880"/>
              <a:ext cx="790560" cy="971280"/>
            </a:xfrm>
            <a:prstGeom prst="can">
              <a:avLst>
                <a:gd name="adj" fmla="val 1454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85280" y="5195880"/>
              <a:ext cx="790560" cy="971280"/>
            </a:xfrm>
            <a:prstGeom prst="can">
              <a:avLst>
                <a:gd name="adj" fmla="val 1454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s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7558200" y="3367080"/>
            <a:ext cx="990000" cy="1079280"/>
            <a:chOff x="7558200" y="3367080"/>
            <a:chExt cx="990000" cy="1079280"/>
          </a:xfrm>
        </p:grpSpPr>
        <p:sp>
          <p:nvSpPr>
            <p:cNvPr id="754" name=""/>
            <p:cNvSpPr/>
            <p:nvPr/>
          </p:nvSpPr>
          <p:spPr>
            <a:xfrm>
              <a:off x="7558200" y="3367080"/>
              <a:ext cx="790200" cy="971640"/>
            </a:xfrm>
            <a:prstGeom prst="can">
              <a:avLst>
                <a:gd name="adj" fmla="val 1454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657920" y="3421080"/>
              <a:ext cx="790200" cy="971280"/>
            </a:xfrm>
            <a:prstGeom prst="can">
              <a:avLst>
                <a:gd name="adj" fmla="val 1454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758000" y="3475080"/>
              <a:ext cx="790200" cy="971280"/>
            </a:xfrm>
            <a:prstGeom prst="can">
              <a:avLst>
                <a:gd name="adj" fmla="val 1454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re script fi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 flipH="1">
            <a:off x="5187960" y="2241720"/>
            <a:ext cx="2425680" cy="68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7534440" y="1673280"/>
            <a:ext cx="990000" cy="1079280"/>
            <a:chOff x="7534440" y="1673280"/>
            <a:chExt cx="990000" cy="1079280"/>
          </a:xfrm>
        </p:grpSpPr>
        <p:sp>
          <p:nvSpPr>
            <p:cNvPr id="759" name=""/>
            <p:cNvSpPr/>
            <p:nvPr/>
          </p:nvSpPr>
          <p:spPr>
            <a:xfrm>
              <a:off x="7534440" y="1673280"/>
              <a:ext cx="790200" cy="971640"/>
            </a:xfrm>
            <a:prstGeom prst="can">
              <a:avLst>
                <a:gd name="adj" fmla="val 1454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34160" y="1727280"/>
              <a:ext cx="790200" cy="971280"/>
            </a:xfrm>
            <a:prstGeom prst="can">
              <a:avLst>
                <a:gd name="adj" fmla="val 1454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734240" y="1781280"/>
              <a:ext cx="790200" cy="971280"/>
            </a:xfrm>
            <a:prstGeom prst="can">
              <a:avLst>
                <a:gd name="adj" fmla="val 1454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PD script fi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 flipH="1">
            <a:off x="2619360" y="3049560"/>
            <a:ext cx="1109520" cy="1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379240" y="3757680"/>
            <a:ext cx="1359000" cy="120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2025720" y="3459240"/>
            <a:ext cx="0" cy="14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Drink Machine VPD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4060800" y="4073400"/>
            <a:ext cx="2075040" cy="183060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0" y="839520"/>
            <a:ext cx="371016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PD Implem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Tcl script implementing behav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s Verilog stub-module encapsulating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PD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s library with desired VP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one or more instan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s control log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2840" y="828720"/>
            <a:ext cx="1946520" cy="2852640"/>
          </a:xfrm>
          <a:prstGeom prst="rect">
            <a:avLst/>
          </a:prstGeom>
          <a:solidFill>
            <a:srgbClr val="ffcc99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62680" y="1303200"/>
            <a:ext cx="1700280" cy="793800"/>
          </a:xfrm>
          <a:prstGeom prst="rect">
            <a:avLst/>
          </a:prstGeom>
          <a:solidFill>
            <a:srgbClr val="ffe7e7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67360" y="2182680"/>
            <a:ext cx="1700280" cy="635040"/>
          </a:xfrm>
          <a:prstGeom prst="rect">
            <a:avLst/>
          </a:prstGeom>
          <a:solidFill>
            <a:srgbClr val="ccff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nk Machine Verilog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61240" y="2882880"/>
            <a:ext cx="1700280" cy="635040"/>
          </a:xfrm>
          <a:prstGeom prst="rect">
            <a:avLst/>
          </a:prstGeom>
          <a:solidFill>
            <a:srgbClr val="cc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-Side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787800" y="7984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59360" y="787320"/>
            <a:ext cx="1942920" cy="2849760"/>
          </a:xfrm>
          <a:prstGeom prst="rect">
            <a:avLst/>
          </a:prstGeom>
          <a:solidFill>
            <a:srgbClr val="ffcc99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138560" y="1309680"/>
            <a:ext cx="1700280" cy="793800"/>
          </a:xfrm>
          <a:prstGeom prst="rect">
            <a:avLst/>
          </a:prstGeom>
          <a:solidFill>
            <a:srgbClr val="eae7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kGate Tcl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43240" y="2189160"/>
            <a:ext cx="1697040" cy="635040"/>
          </a:xfrm>
          <a:prstGeom prst="rect">
            <a:avLst/>
          </a:prstGeom>
          <a:solidFill>
            <a:srgbClr val="e3ffe3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nk Machine Tcl/Tk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137120" y="2889360"/>
            <a:ext cx="1700280" cy="635040"/>
          </a:xfrm>
          <a:prstGeom prst="rect">
            <a:avLst/>
          </a:prstGeom>
          <a:solidFill>
            <a:srgbClr val="cc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l-Side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085280" y="81288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6770520" y="3859200"/>
            <a:ext cx="1897200" cy="257796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3798720" y="2592360"/>
            <a:ext cx="322560" cy="2071800"/>
          </a:xfrm>
          <a:custGeom>
            <a:avLst/>
            <a:gdLst/>
            <a:ahLst/>
            <a:rect l="l" t="t" r="r" b="b"/>
            <a:pathLst>
              <a:path w="203" h="1305">
                <a:moveTo>
                  <a:pt x="159" y="1305"/>
                </a:moveTo>
                <a:cubicBezTo>
                  <a:pt x="138" y="1269"/>
                  <a:pt x="57" y="1265"/>
                  <a:pt x="35" y="1087"/>
                </a:cubicBezTo>
                <a:cubicBezTo>
                  <a:pt x="13" y="909"/>
                  <a:pt x="0" y="415"/>
                  <a:pt x="28" y="234"/>
                </a:cubicBezTo>
                <a:cubicBezTo>
                  <a:pt x="56" y="53"/>
                  <a:pt x="167" y="49"/>
                  <a:pt x="203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601120" y="2479680"/>
            <a:ext cx="379440" cy="2416320"/>
          </a:xfrm>
          <a:custGeom>
            <a:avLst/>
            <a:gdLst/>
            <a:ahLst/>
            <a:rect l="l" t="t" r="r" b="b"/>
            <a:pathLst>
              <a:path w="239" h="1522">
                <a:moveTo>
                  <a:pt x="0" y="1478"/>
                </a:moveTo>
                <a:cubicBezTo>
                  <a:pt x="32" y="1450"/>
                  <a:pt x="154" y="1522"/>
                  <a:pt x="189" y="1311"/>
                </a:cubicBezTo>
                <a:cubicBezTo>
                  <a:pt x="224" y="1100"/>
                  <a:pt x="239" y="420"/>
                  <a:pt x="211" y="210"/>
                </a:cubicBezTo>
                <a:cubicBezTo>
                  <a:pt x="183" y="0"/>
                  <a:pt x="61" y="83"/>
                  <a:pt x="21" y="49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856120" y="3189240"/>
            <a:ext cx="10130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rot="16200000">
            <a:off x="5688720" y="23475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/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TkGate 2.0 Overview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711000"/>
            <a:ext cx="8763120" cy="60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 Tcl/Tk and Xlib/C bas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comprised of about 64K lines of C, 25K lines of Tcl/T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simulator is about 31K lines of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ingual interface with support for Catalan, English, French, German, Japanese, Spanish, Czech and Wel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entry of both graphical and text/Verilog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defined device symb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tools include a microcode/macrocode compi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tion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ally loadable Verilog scrip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al display of simulation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points, single-step and clock-step simulator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Virtual Peripheral Devices (V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ses Tcl and Verilog to design interactive compon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cl-Side and Verilog-side APIs facilitate communicatio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"/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76040" y="1932120"/>
            <a:ext cx="1525680" cy="2208240"/>
          </a:xfrm>
          <a:prstGeom prst="rect">
            <a:avLst/>
          </a:prstGeom>
          <a:solidFill>
            <a:srgbClr val="e2c5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157480" y="2498760"/>
            <a:ext cx="2781360" cy="1647720"/>
          </a:xfrm>
          <a:prstGeom prst="rect">
            <a:avLst/>
          </a:prstGeom>
          <a:solidFill>
            <a:srgbClr val="ffe7e7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144880" y="905040"/>
            <a:ext cx="5278320" cy="4803480"/>
          </a:xfrm>
          <a:custGeom>
            <a:avLst/>
            <a:gdLst/>
            <a:ahLst/>
            <a:rect l="l" t="t" r="r" b="b"/>
            <a:pathLst>
              <a:path w="3325" h="3026">
                <a:moveTo>
                  <a:pt x="1" y="935"/>
                </a:moveTo>
                <a:lnTo>
                  <a:pt x="1829" y="935"/>
                </a:lnTo>
                <a:lnTo>
                  <a:pt x="1821" y="3024"/>
                </a:lnTo>
                <a:lnTo>
                  <a:pt x="3325" y="3026"/>
                </a:lnTo>
                <a:lnTo>
                  <a:pt x="3325" y="0"/>
                </a:lnTo>
                <a:lnTo>
                  <a:pt x="0" y="0"/>
                </a:lnTo>
                <a:lnTo>
                  <a:pt x="1" y="935"/>
                </a:lnTo>
                <a:close/>
              </a:path>
            </a:pathLst>
          </a:custGeom>
          <a:solidFill>
            <a:srgbClr val="ffe7e7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TTY Virtual Peripheral Device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4192560" y="3648240"/>
            <a:ext cx="11160" cy="844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39560" y="762120"/>
            <a:ext cx="1155960" cy="8762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.m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610400" y="928800"/>
            <a:ext cx="1387440" cy="8762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tore.m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959600" y="3098880"/>
            <a:ext cx="776520" cy="8762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.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762360" y="1095480"/>
            <a:ext cx="1143000" cy="988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959440" y="1959120"/>
            <a:ext cx="1143000" cy="14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59440" y="3795840"/>
            <a:ext cx="1143000" cy="14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423040" y="996840"/>
            <a:ext cx="0" cy="4471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983200" y="1093680"/>
            <a:ext cx="1052640" cy="51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r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906800" y="159084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468760" y="263700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62640" y="441972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707160" y="1569960"/>
            <a:ext cx="9720" cy="385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392200" y="1211400"/>
            <a:ext cx="881280" cy="75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6316560" y="1585440"/>
            <a:ext cx="0" cy="373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263760" y="158904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534000" y="3348000"/>
            <a:ext cx="0" cy="447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727440" y="2865600"/>
            <a:ext cx="893880" cy="769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4170240" y="2041560"/>
            <a:ext cx="6480" cy="828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 flipV="1">
            <a:off x="7032240" y="1362240"/>
            <a:ext cx="561960" cy="28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90840" y="1262160"/>
            <a:ext cx="790560" cy="1918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1720" y="2392200"/>
            <a:ext cx="730440" cy="7653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y.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2640" y="3236760"/>
            <a:ext cx="754200" cy="6750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y.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268280" y="2790720"/>
            <a:ext cx="924120" cy="7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7427520" y="3498840"/>
            <a:ext cx="515880" cy="158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90800" y="19620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287360" y="3724200"/>
            <a:ext cx="606600" cy="765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1266840" y="4494240"/>
            <a:ext cx="346716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372960" y="704880"/>
            <a:ext cx="3889440" cy="1895400"/>
          </a:xfrm>
          <a:prstGeom prst="rect">
            <a:avLst/>
          </a:prstGeom>
          <a:solidFill>
            <a:srgbClr val="cc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TkGate Architecture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82680" y="2600280"/>
            <a:ext cx="3879720" cy="2190960"/>
          </a:xfrm>
          <a:prstGeom prst="rect">
            <a:avLst/>
          </a:prstGeom>
          <a:solidFill>
            <a:srgbClr val="ffcc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653000" y="2629080"/>
            <a:ext cx="4340160" cy="4068720"/>
          </a:xfrm>
          <a:prstGeom prst="rect">
            <a:avLst/>
          </a:prstGeom>
          <a:solidFill>
            <a:srgbClr val="cc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578560" y="3714840"/>
            <a:ext cx="2050920" cy="625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273720" y="2776680"/>
            <a:ext cx="1343160" cy="603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Comp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37200" y="43354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849920" y="5904000"/>
            <a:ext cx="1342800" cy="6253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d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294600" y="5904000"/>
            <a:ext cx="1342800" cy="62532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7910640" y="2695680"/>
            <a:ext cx="985680" cy="3865320"/>
            <a:chOff x="7910640" y="2695680"/>
            <a:chExt cx="985680" cy="3865320"/>
          </a:xfrm>
        </p:grpSpPr>
        <p:sp>
          <p:nvSpPr>
            <p:cNvPr id="825" name=""/>
            <p:cNvSpPr/>
            <p:nvPr/>
          </p:nvSpPr>
          <p:spPr>
            <a:xfrm>
              <a:off x="7910640" y="2695680"/>
              <a:ext cx="985680" cy="3865320"/>
            </a:xfrm>
            <a:custGeom>
              <a:avLst/>
              <a:gdLst>
                <a:gd name="textAreaLeft" fmla="*/ 47880 w 985680"/>
                <a:gd name="textAreaRight" fmla="*/ 937800 w 985680"/>
                <a:gd name="textAreaTop" fmla="*/ 47880 h 3865320"/>
                <a:gd name="textAreaBottom" fmla="*/ 3817440 h 3865320"/>
              </a:gdLst>
              <a:ahLst/>
              <a:rect l="textAreaLeft" t="textAreaTop" r="textAreaRight" b="textAreaBottom"/>
              <a:pathLst>
                <a:path w="21600" h="84681">
                  <a:moveTo>
                    <a:pt x="3600" y="0"/>
                  </a:moveTo>
                  <a:arcTo wR="3600" hR="3600" stAng="16200000" swAng="-5400000"/>
                  <a:lnTo>
                    <a:pt x="0" y="81081"/>
                  </a:lnTo>
                  <a:arcTo wR="3600" hR="3600" stAng="10800000" swAng="-5400000"/>
                  <a:lnTo>
                    <a:pt x="18000" y="846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ilog Byte-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061480" y="364500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061480" y="371952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061480" y="37940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061480" y="386856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061480" y="39434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061480" y="401796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61480" y="40924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061480" y="416736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061480" y="42418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061480" y="431640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061480" y="439092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061480" y="446580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061480" y="454032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061480" y="46148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061480" y="468936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061480" y="47642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061480" y="483876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061480" y="49132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061480" y="498780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061480" y="50626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061480" y="513720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061480" y="521172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061480" y="52862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61480" y="536112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061480" y="54356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061480" y="551016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061480" y="55846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061480" y="565956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061480" y="57340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061480" y="580860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061480" y="588312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061480" y="595800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061480" y="603252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61480" y="61070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061480" y="618156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61480" y="62564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061480" y="633096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061480" y="64054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5321160" y="5475240"/>
            <a:ext cx="2021040" cy="439920"/>
            <a:chOff x="5321160" y="5475240"/>
            <a:chExt cx="2021040" cy="439920"/>
          </a:xfrm>
        </p:grpSpPr>
        <p:sp>
          <p:nvSpPr>
            <p:cNvPr id="865" name=""/>
            <p:cNvSpPr/>
            <p:nvPr/>
          </p:nvSpPr>
          <p:spPr>
            <a:xfrm>
              <a:off x="7331040" y="5475240"/>
              <a:ext cx="111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5976720" y="5475240"/>
              <a:ext cx="555840" cy="42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014880" y="5475240"/>
              <a:ext cx="520560" cy="43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321160" y="5475240"/>
              <a:ext cx="0" cy="43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7623000" y="3798720"/>
            <a:ext cx="417600" cy="2363760"/>
            <a:chOff x="7623000" y="3798720"/>
            <a:chExt cx="417600" cy="2363760"/>
          </a:xfrm>
        </p:grpSpPr>
        <p:sp>
          <p:nvSpPr>
            <p:cNvPr id="870" name=""/>
            <p:cNvSpPr/>
            <p:nvPr/>
          </p:nvSpPr>
          <p:spPr>
            <a:xfrm>
              <a:off x="7623000" y="3798720"/>
              <a:ext cx="417600" cy="1144800"/>
            </a:xfrm>
            <a:custGeom>
              <a:avLst/>
              <a:gdLst/>
              <a:ahLst/>
              <a:rect l="l" t="t" r="r" b="b"/>
              <a:pathLst>
                <a:path w="467" h="634">
                  <a:moveTo>
                    <a:pt x="0" y="613"/>
                  </a:moveTo>
                  <a:cubicBezTo>
                    <a:pt x="22" y="602"/>
                    <a:pt x="79" y="634"/>
                    <a:pt x="131" y="546"/>
                  </a:cubicBezTo>
                  <a:cubicBezTo>
                    <a:pt x="183" y="458"/>
                    <a:pt x="258" y="172"/>
                    <a:pt x="314" y="86"/>
                  </a:cubicBezTo>
                  <a:cubicBezTo>
                    <a:pt x="370" y="0"/>
                    <a:pt x="435" y="42"/>
                    <a:pt x="467" y="30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7623000" y="5106240"/>
              <a:ext cx="417600" cy="1055880"/>
            </a:xfrm>
            <a:custGeom>
              <a:avLst/>
              <a:gdLst/>
              <a:ahLst/>
              <a:rect l="l" t="t" r="r" b="b"/>
              <a:pathLst>
                <a:path w="467" h="634">
                  <a:moveTo>
                    <a:pt x="0" y="613"/>
                  </a:moveTo>
                  <a:cubicBezTo>
                    <a:pt x="22" y="602"/>
                    <a:pt x="79" y="634"/>
                    <a:pt x="131" y="546"/>
                  </a:cubicBezTo>
                  <a:cubicBezTo>
                    <a:pt x="183" y="458"/>
                    <a:pt x="258" y="172"/>
                    <a:pt x="314" y="86"/>
                  </a:cubicBezTo>
                  <a:cubicBezTo>
                    <a:pt x="370" y="0"/>
                    <a:pt x="435" y="42"/>
                    <a:pt x="467" y="30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623000" y="4991040"/>
              <a:ext cx="417600" cy="765360"/>
            </a:xfrm>
            <a:custGeom>
              <a:avLst/>
              <a:gdLst/>
              <a:ahLst/>
              <a:rect l="l" t="t" r="r" b="b"/>
              <a:pathLst>
                <a:path w="467" h="634">
                  <a:moveTo>
                    <a:pt x="0" y="613"/>
                  </a:moveTo>
                  <a:cubicBezTo>
                    <a:pt x="22" y="602"/>
                    <a:pt x="79" y="634"/>
                    <a:pt x="131" y="546"/>
                  </a:cubicBezTo>
                  <a:cubicBezTo>
                    <a:pt x="183" y="458"/>
                    <a:pt x="258" y="172"/>
                    <a:pt x="314" y="86"/>
                  </a:cubicBezTo>
                  <a:cubicBezTo>
                    <a:pt x="370" y="0"/>
                    <a:pt x="435" y="42"/>
                    <a:pt x="467" y="30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23000" y="5003640"/>
              <a:ext cx="417600" cy="311400"/>
            </a:xfrm>
            <a:custGeom>
              <a:avLst/>
              <a:gdLst/>
              <a:ahLst/>
              <a:rect l="l" t="t" r="r" b="b"/>
              <a:pathLst>
                <a:path w="467" h="634">
                  <a:moveTo>
                    <a:pt x="0" y="613"/>
                  </a:moveTo>
                  <a:cubicBezTo>
                    <a:pt x="22" y="602"/>
                    <a:pt x="79" y="634"/>
                    <a:pt x="131" y="546"/>
                  </a:cubicBezTo>
                  <a:cubicBezTo>
                    <a:pt x="183" y="458"/>
                    <a:pt x="258" y="172"/>
                    <a:pt x="314" y="86"/>
                  </a:cubicBezTo>
                  <a:cubicBezTo>
                    <a:pt x="370" y="0"/>
                    <a:pt x="435" y="42"/>
                    <a:pt x="467" y="30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23000" y="4346640"/>
              <a:ext cx="417600" cy="1098360"/>
            </a:xfrm>
            <a:custGeom>
              <a:avLst/>
              <a:gdLst/>
              <a:ahLst/>
              <a:rect l="l" t="t" r="r" b="b"/>
              <a:pathLst>
                <a:path w="467" h="634">
                  <a:moveTo>
                    <a:pt x="0" y="613"/>
                  </a:moveTo>
                  <a:cubicBezTo>
                    <a:pt x="22" y="602"/>
                    <a:pt x="79" y="634"/>
                    <a:pt x="131" y="546"/>
                  </a:cubicBezTo>
                  <a:cubicBezTo>
                    <a:pt x="183" y="458"/>
                    <a:pt x="258" y="172"/>
                    <a:pt x="314" y="86"/>
                  </a:cubicBezTo>
                  <a:cubicBezTo>
                    <a:pt x="370" y="0"/>
                    <a:pt x="435" y="42"/>
                    <a:pt x="467" y="30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623000" y="3995640"/>
              <a:ext cx="417600" cy="762120"/>
            </a:xfrm>
            <a:custGeom>
              <a:avLst/>
              <a:gdLst/>
              <a:ahLst/>
              <a:rect l="l" t="t" r="r" b="b"/>
              <a:pathLst>
                <a:path w="467" h="634">
                  <a:moveTo>
                    <a:pt x="0" y="613"/>
                  </a:moveTo>
                  <a:cubicBezTo>
                    <a:pt x="22" y="602"/>
                    <a:pt x="79" y="634"/>
                    <a:pt x="131" y="546"/>
                  </a:cubicBezTo>
                  <a:cubicBezTo>
                    <a:pt x="183" y="458"/>
                    <a:pt x="258" y="172"/>
                    <a:pt x="314" y="86"/>
                  </a:cubicBezTo>
                  <a:cubicBezTo>
                    <a:pt x="370" y="0"/>
                    <a:pt x="435" y="42"/>
                    <a:pt x="467" y="30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6294600" y="4635360"/>
            <a:ext cx="1342800" cy="85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135400" y="3352680"/>
            <a:ext cx="1800" cy="129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905520" y="338292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859360" y="435132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5856120" y="3341520"/>
            <a:ext cx="1800" cy="371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790400" y="2276640"/>
            <a:ext cx="117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560" y="4848120"/>
            <a:ext cx="106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821120" y="2781360"/>
            <a:ext cx="1343160" cy="577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4200480" y="2901960"/>
            <a:ext cx="623520" cy="301680"/>
            <a:chOff x="4200480" y="2901960"/>
            <a:chExt cx="623520" cy="301680"/>
          </a:xfrm>
        </p:grpSpPr>
        <p:sp>
          <p:nvSpPr>
            <p:cNvPr id="885" name=""/>
            <p:cNvSpPr/>
            <p:nvPr/>
          </p:nvSpPr>
          <p:spPr>
            <a:xfrm rot="5400000">
              <a:off x="4385520" y="2802240"/>
              <a:ext cx="254160" cy="5011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5400000">
              <a:off x="4641480" y="3019320"/>
              <a:ext cx="299880" cy="648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183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5400000">
              <a:off x="4082760" y="3021120"/>
              <a:ext cx="300240" cy="648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7628040" y="305604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784600" y="2781360"/>
            <a:ext cx="1411200" cy="920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ator Com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758960" y="1295280"/>
            <a:ext cx="1114560" cy="84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in Window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301840" y="2270160"/>
            <a:ext cx="1963800" cy="33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K_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827360" y="4836600"/>
            <a:ext cx="493560" cy="80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859440" y="2120760"/>
            <a:ext cx="0" cy="654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200480" y="1154160"/>
            <a:ext cx="2419560" cy="419040"/>
          </a:xfrm>
          <a:custGeom>
            <a:avLst/>
            <a:gdLst/>
            <a:ahLst/>
            <a:rect l="l" t="t" r="r" b="b"/>
            <a:pathLst>
              <a:path w="1524" h="351">
                <a:moveTo>
                  <a:pt x="1524" y="0"/>
                </a:moveTo>
                <a:lnTo>
                  <a:pt x="239" y="1"/>
                </a:lnTo>
                <a:lnTo>
                  <a:pt x="0" y="3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49920" y="4635360"/>
            <a:ext cx="1344600" cy="855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3067200" y="5661000"/>
            <a:ext cx="888480" cy="923760"/>
            <a:chOff x="3067200" y="5661000"/>
            <a:chExt cx="888480" cy="923760"/>
          </a:xfrm>
        </p:grpSpPr>
        <p:sp>
          <p:nvSpPr>
            <p:cNvPr id="897" name=""/>
            <p:cNvSpPr/>
            <p:nvPr/>
          </p:nvSpPr>
          <p:spPr>
            <a:xfrm>
              <a:off x="3067200" y="5661000"/>
              <a:ext cx="748440" cy="797040"/>
            </a:xfrm>
            <a:prstGeom prst="can">
              <a:avLst>
                <a:gd name="adj" fmla="val 250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137040" y="5724360"/>
              <a:ext cx="748440" cy="797040"/>
            </a:xfrm>
            <a:prstGeom prst="can">
              <a:avLst>
                <a:gd name="adj" fmla="val 250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07240" y="5788080"/>
              <a:ext cx="748440" cy="796680"/>
            </a:xfrm>
            <a:prstGeom prst="can">
              <a:avLst>
                <a:gd name="adj" fmla="val 250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pd.t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332000" y="5645160"/>
            <a:ext cx="1166400" cy="923760"/>
            <a:chOff x="1332000" y="5645160"/>
            <a:chExt cx="1166400" cy="923760"/>
          </a:xfrm>
        </p:grpSpPr>
        <p:sp>
          <p:nvSpPr>
            <p:cNvPr id="901" name=""/>
            <p:cNvSpPr/>
            <p:nvPr/>
          </p:nvSpPr>
          <p:spPr>
            <a:xfrm>
              <a:off x="1332000" y="5645160"/>
              <a:ext cx="982440" cy="797040"/>
            </a:xfrm>
            <a:prstGeom prst="can">
              <a:avLst>
                <a:gd name="adj" fmla="val 250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423800" y="5708520"/>
              <a:ext cx="982440" cy="797040"/>
            </a:xfrm>
            <a:prstGeom prst="can">
              <a:avLst>
                <a:gd name="adj" fmla="val 250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515960" y="5772240"/>
              <a:ext cx="982440" cy="796680"/>
            </a:xfrm>
            <a:prstGeom prst="can">
              <a:avLst>
                <a:gd name="adj" fmla="val 250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kgate.t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49280" y="771480"/>
            <a:ext cx="3773520" cy="3938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4199040" y="1854360"/>
            <a:ext cx="2301840" cy="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80880" y="2270160"/>
            <a:ext cx="1916280" cy="32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809800" y="3838680"/>
            <a:ext cx="1319400" cy="84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face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5626080" y="782640"/>
            <a:ext cx="691920" cy="665280"/>
            <a:chOff x="5626080" y="782640"/>
            <a:chExt cx="691920" cy="665280"/>
          </a:xfrm>
        </p:grpSpPr>
        <p:sp>
          <p:nvSpPr>
            <p:cNvPr id="909" name=""/>
            <p:cNvSpPr/>
            <p:nvPr/>
          </p:nvSpPr>
          <p:spPr>
            <a:xfrm>
              <a:off x="5626080" y="782640"/>
              <a:ext cx="582840" cy="57384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0440" y="828000"/>
              <a:ext cx="582840" cy="57384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735160" y="874080"/>
              <a:ext cx="582840" cy="57384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6519960" y="812880"/>
            <a:ext cx="691560" cy="672840"/>
            <a:chOff x="6519960" y="812880"/>
            <a:chExt cx="691560" cy="672840"/>
          </a:xfrm>
        </p:grpSpPr>
        <p:sp>
          <p:nvSpPr>
            <p:cNvPr id="913" name=""/>
            <p:cNvSpPr/>
            <p:nvPr/>
          </p:nvSpPr>
          <p:spPr>
            <a:xfrm>
              <a:off x="6519960" y="812880"/>
              <a:ext cx="582480" cy="58068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574320" y="858960"/>
              <a:ext cx="582480" cy="58068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bs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29040" y="905400"/>
              <a:ext cx="582480" cy="58032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p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4719600" y="879480"/>
            <a:ext cx="730440" cy="5205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.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485040" y="1639800"/>
            <a:ext cx="739800" cy="493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.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105000" y="1298520"/>
            <a:ext cx="1105200" cy="822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ilog Parser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 flipV="1">
            <a:off x="3052440" y="4834080"/>
            <a:ext cx="368280" cy="823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History of TkGate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2240" y="719280"/>
            <a:ext cx="2966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for Andrew Window Manag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/W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al Ed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ic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 Save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omputer Arch. courses at CM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4160" y="4697280"/>
            <a:ext cx="22222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ed to X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digital design and computer Arch. courses at CM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8240" y="3308400"/>
            <a:ext cx="69840" cy="54144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011320" y="4073040"/>
            <a:ext cx="501840" cy="104004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33760" y="5092560"/>
            <a:ext cx="199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kGate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ed to Tcl/T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-like save file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Y” dev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498840" y="4049640"/>
            <a:ext cx="919080" cy="97632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4200" y="1684440"/>
            <a:ext cx="2327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kGate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public rele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2680" y="2660760"/>
            <a:ext cx="1222200" cy="123012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34200" y="4964040"/>
            <a:ext cx="2582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kGate 1.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stable rel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7275600" y="4068720"/>
            <a:ext cx="576000" cy="100008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08520" y="711360"/>
            <a:ext cx="34354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kGate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planned rel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-compliant save f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Verilog 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eripheral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Y and Drink Machine VP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50240" y="2440080"/>
            <a:ext cx="371160" cy="148248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03760" y="5695920"/>
            <a:ext cx="268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kGate 1.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l/Tk 8.4 Compat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esigned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543640" y="4049640"/>
            <a:ext cx="1230120" cy="157968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04480" y="3882960"/>
            <a:ext cx="8892360" cy="480960"/>
            <a:chOff x="204480" y="3882960"/>
            <a:chExt cx="8892360" cy="480960"/>
          </a:xfrm>
        </p:grpSpPr>
        <p:grpSp>
          <p:nvGrpSpPr>
            <p:cNvPr id="103" name=""/>
            <p:cNvGrpSpPr/>
            <p:nvPr/>
          </p:nvGrpSpPr>
          <p:grpSpPr>
            <a:xfrm>
              <a:off x="523800" y="3882960"/>
              <a:ext cx="8388360" cy="141120"/>
              <a:chOff x="523800" y="3882960"/>
              <a:chExt cx="8388360" cy="141120"/>
            </a:xfrm>
          </p:grpSpPr>
          <p:sp>
            <p:nvSpPr>
              <p:cNvPr id="104" name=""/>
              <p:cNvSpPr/>
              <p:nvPr/>
            </p:nvSpPr>
            <p:spPr>
              <a:xfrm>
                <a:off x="523800" y="4024080"/>
                <a:ext cx="83883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734320" y="3882960"/>
                <a:ext cx="0" cy="136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451480" y="3882960"/>
                <a:ext cx="0" cy="136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168640" y="3882960"/>
                <a:ext cx="0" cy="136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28120" y="3882960"/>
                <a:ext cx="0" cy="136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809520" y="3882960"/>
                <a:ext cx="0" cy="136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92000" y="3882960"/>
                <a:ext cx="0" cy="136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55360" y="3927240"/>
                <a:ext cx="0" cy="9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184040" y="3927240"/>
                <a:ext cx="0" cy="9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11280" y="3927240"/>
                <a:ext cx="0" cy="9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839960" y="3927240"/>
                <a:ext cx="0" cy="9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495880" y="3927240"/>
                <a:ext cx="0" cy="9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824920" y="3927240"/>
                <a:ext cx="0" cy="9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51800" y="3927240"/>
                <a:ext cx="0" cy="9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480480" y="3927240"/>
                <a:ext cx="0" cy="9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36760" y="3927240"/>
                <a:ext cx="0" cy="9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65080" y="3927240"/>
                <a:ext cx="0" cy="9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94120" y="3927240"/>
                <a:ext cx="0" cy="9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2800" y="3927240"/>
                <a:ext cx="0" cy="9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78720" y="3927240"/>
                <a:ext cx="0" cy="9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107400" y="3927240"/>
                <a:ext cx="0" cy="9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434640" y="3927240"/>
                <a:ext cx="0" cy="9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763320" y="3927240"/>
                <a:ext cx="0" cy="9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419240" y="3927240"/>
                <a:ext cx="0" cy="9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48280" y="3927240"/>
                <a:ext cx="0" cy="9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76600" y="3927240"/>
                <a:ext cx="0" cy="9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405280" y="3927240"/>
                <a:ext cx="0" cy="92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04480" y="39956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09360" y="39956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65000" y="39956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21000" y="39956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49640" y="39956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10320" y="39956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624560" y="2751120"/>
            <a:ext cx="2327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kGate 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33840" y="3402000"/>
            <a:ext cx="287640" cy="4698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TkGate Main Window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63520" y="682560"/>
            <a:ext cx="8429760" cy="607392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3230280" y="2316240"/>
            <a:ext cx="3157920" cy="390600"/>
            <a:chOff x="3230280" y="2316240"/>
            <a:chExt cx="3157920" cy="390600"/>
          </a:xfrm>
        </p:grpSpPr>
        <p:sp>
          <p:nvSpPr>
            <p:cNvPr id="142" name=""/>
            <p:cNvSpPr/>
            <p:nvPr/>
          </p:nvSpPr>
          <p:spPr>
            <a:xfrm flipH="1">
              <a:off x="3230280" y="2378160"/>
              <a:ext cx="842760" cy="3286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86280" y="2316240"/>
              <a:ext cx="2401920" cy="3394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ory Address 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389720" y="2630520"/>
            <a:ext cx="1571760" cy="1195200"/>
            <a:chOff x="7389720" y="2630520"/>
            <a:chExt cx="1571760" cy="1195200"/>
          </a:xfrm>
        </p:grpSpPr>
        <p:sp>
          <p:nvSpPr>
            <p:cNvPr id="145" name=""/>
            <p:cNvSpPr/>
            <p:nvPr/>
          </p:nvSpPr>
          <p:spPr>
            <a:xfrm flipH="1">
              <a:off x="7742160" y="3022560"/>
              <a:ext cx="317520" cy="8031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89720" y="2630520"/>
              <a:ext cx="1571760" cy="5954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TY Control 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514920" y="1685880"/>
            <a:ext cx="2049480" cy="2124000"/>
            <a:chOff x="6514920" y="1685880"/>
            <a:chExt cx="2049480" cy="2124000"/>
          </a:xfrm>
        </p:grpSpPr>
        <p:sp>
          <p:nvSpPr>
            <p:cNvPr id="148" name=""/>
            <p:cNvSpPr/>
            <p:nvPr/>
          </p:nvSpPr>
          <p:spPr>
            <a:xfrm flipH="1">
              <a:off x="6514920" y="2139840"/>
              <a:ext cx="842760" cy="16700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75520" y="1685880"/>
              <a:ext cx="1388880" cy="5954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TY Data 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301840" y="5486400"/>
            <a:ext cx="1755720" cy="596880"/>
            <a:chOff x="2301840" y="5486400"/>
            <a:chExt cx="1755720" cy="596880"/>
          </a:xfrm>
        </p:grpSpPr>
        <p:sp>
          <p:nvSpPr>
            <p:cNvPr id="151" name=""/>
            <p:cNvSpPr/>
            <p:nvPr/>
          </p:nvSpPr>
          <p:spPr>
            <a:xfrm flipV="1">
              <a:off x="3230640" y="5486400"/>
              <a:ext cx="826920" cy="3780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1840" y="5756400"/>
              <a:ext cx="1571760" cy="326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TY 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857680" y="3035160"/>
            <a:ext cx="2070000" cy="1322640"/>
            <a:chOff x="2857680" y="3035160"/>
            <a:chExt cx="2070000" cy="1322640"/>
          </a:xfrm>
        </p:grpSpPr>
        <p:sp>
          <p:nvSpPr>
            <p:cNvPr id="154" name=""/>
            <p:cNvSpPr/>
            <p:nvPr/>
          </p:nvSpPr>
          <p:spPr>
            <a:xfrm flipH="1" flipV="1">
              <a:off x="3126960" y="3565440"/>
              <a:ext cx="390600" cy="2318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3084480" y="3035160"/>
              <a:ext cx="549360" cy="8416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57680" y="3773520"/>
              <a:ext cx="2070000" cy="584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TY Data/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Verilog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688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Verilo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description language used to describe hardware desig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ly used industry standard for EDA (Electronic Design Automation) t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what types of applications is Verilog u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 Verilog designs look 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r hierarchic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degree of 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levels of abstraction 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– Module described as collection of connected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al – Module described using C-like sta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Verilog Examples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3120" y="1335240"/>
            <a:ext cx="3335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add(s,co,a,b,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 a,b,c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s,c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 g1 (w1,a,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 g2 (s,w1,c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g3 (w2,w1,c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g4 (w3,a,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 g5 (co,w2,w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93840" y="4603680"/>
            <a:ext cx="2959920" cy="1828800"/>
            <a:chOff x="393840" y="4603680"/>
            <a:chExt cx="2959920" cy="1828800"/>
          </a:xfrm>
        </p:grpSpPr>
        <p:grpSp>
          <p:nvGrpSpPr>
            <p:cNvPr id="162" name=""/>
            <p:cNvGrpSpPr/>
            <p:nvPr/>
          </p:nvGrpSpPr>
          <p:grpSpPr>
            <a:xfrm>
              <a:off x="644400" y="4819680"/>
              <a:ext cx="2359080" cy="1476360"/>
              <a:chOff x="644400" y="4819680"/>
              <a:chExt cx="2359080" cy="1476360"/>
            </a:xfrm>
          </p:grpSpPr>
          <p:sp>
            <p:nvSpPr>
              <p:cNvPr id="163" name=""/>
              <p:cNvSpPr/>
              <p:nvPr/>
            </p:nvSpPr>
            <p:spPr>
              <a:xfrm rot="5400000">
                <a:off x="1904400" y="5495760"/>
                <a:ext cx="349200" cy="320760"/>
              </a:xfrm>
              <a:prstGeom prst="flowChartDelay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1298520" y="4954680"/>
                <a:ext cx="410760" cy="315720"/>
                <a:chOff x="1298520" y="4954680"/>
                <a:chExt cx="410760" cy="31572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1298520" y="4954680"/>
                  <a:ext cx="410760" cy="315720"/>
                  <a:chOff x="1298520" y="4954680"/>
                  <a:chExt cx="410760" cy="3157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1339920" y="4954680"/>
                    <a:ext cx="369360" cy="313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7" h="578">
                        <a:moveTo>
                          <a:pt x="0" y="0"/>
                        </a:moveTo>
                        <a:cubicBezTo>
                          <a:pt x="37" y="78"/>
                          <a:pt x="67" y="188"/>
                          <a:pt x="67" y="284"/>
                        </a:cubicBezTo>
                        <a:cubicBezTo>
                          <a:pt x="67" y="380"/>
                          <a:pt x="17" y="534"/>
                          <a:pt x="1" y="578"/>
                        </a:cubicBezTo>
                        <a:lnTo>
                          <a:pt x="169" y="578"/>
                        </a:lnTo>
                        <a:cubicBezTo>
                          <a:pt x="246" y="567"/>
                          <a:pt x="368" y="563"/>
                          <a:pt x="461" y="514"/>
                        </a:cubicBezTo>
                        <a:cubicBezTo>
                          <a:pt x="554" y="465"/>
                          <a:pt x="709" y="358"/>
                          <a:pt x="727" y="286"/>
                        </a:cubicBezTo>
                        <a:cubicBezTo>
                          <a:pt x="701" y="211"/>
                          <a:pt x="556" y="110"/>
                          <a:pt x="463" y="62"/>
                        </a:cubicBezTo>
                        <a:cubicBezTo>
                          <a:pt x="370" y="14"/>
                          <a:pt x="248" y="10"/>
                          <a:pt x="171" y="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1298520" y="4954680"/>
                    <a:ext cx="345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99">
                        <a:moveTo>
                          <a:pt x="0" y="0"/>
                        </a:moveTo>
                        <a:cubicBezTo>
                          <a:pt x="9" y="27"/>
                          <a:pt x="21" y="66"/>
                          <a:pt x="21" y="99"/>
                        </a:cubicBezTo>
                        <a:cubicBezTo>
                          <a:pt x="21" y="132"/>
                          <a:pt x="6" y="174"/>
                          <a:pt x="0" y="19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" name=""/>
                <p:cNvSpPr/>
                <p:nvPr/>
              </p:nvSpPr>
              <p:spPr>
                <a:xfrm>
                  <a:off x="1379520" y="4954680"/>
                  <a:ext cx="2779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2373120" y="5006880"/>
                <a:ext cx="444600" cy="370080"/>
                <a:chOff x="2373120" y="5006880"/>
                <a:chExt cx="444600" cy="37008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2373120" y="5060880"/>
                  <a:ext cx="410760" cy="316080"/>
                  <a:chOff x="2373120" y="5060880"/>
                  <a:chExt cx="410760" cy="3160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2414520" y="5060880"/>
                    <a:ext cx="369360" cy="31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27" h="578">
                        <a:moveTo>
                          <a:pt x="0" y="0"/>
                        </a:moveTo>
                        <a:cubicBezTo>
                          <a:pt x="37" y="78"/>
                          <a:pt x="67" y="188"/>
                          <a:pt x="67" y="284"/>
                        </a:cubicBezTo>
                        <a:cubicBezTo>
                          <a:pt x="67" y="380"/>
                          <a:pt x="17" y="534"/>
                          <a:pt x="1" y="578"/>
                        </a:cubicBezTo>
                        <a:lnTo>
                          <a:pt x="169" y="578"/>
                        </a:lnTo>
                        <a:cubicBezTo>
                          <a:pt x="246" y="567"/>
                          <a:pt x="368" y="563"/>
                          <a:pt x="461" y="514"/>
                        </a:cubicBezTo>
                        <a:cubicBezTo>
                          <a:pt x="554" y="465"/>
                          <a:pt x="709" y="358"/>
                          <a:pt x="727" y="286"/>
                        </a:cubicBezTo>
                        <a:cubicBezTo>
                          <a:pt x="701" y="211"/>
                          <a:pt x="556" y="110"/>
                          <a:pt x="463" y="62"/>
                        </a:cubicBezTo>
                        <a:cubicBezTo>
                          <a:pt x="370" y="14"/>
                          <a:pt x="248" y="10"/>
                          <a:pt x="171" y="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373120" y="5060880"/>
                    <a:ext cx="345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99">
                        <a:moveTo>
                          <a:pt x="0" y="0"/>
                        </a:moveTo>
                        <a:cubicBezTo>
                          <a:pt x="9" y="27"/>
                          <a:pt x="21" y="66"/>
                          <a:pt x="21" y="99"/>
                        </a:cubicBezTo>
                        <a:cubicBezTo>
                          <a:pt x="21" y="132"/>
                          <a:pt x="6" y="174"/>
                          <a:pt x="0" y="19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" name=""/>
                <p:cNvSpPr/>
                <p:nvPr/>
              </p:nvSpPr>
              <p:spPr>
                <a:xfrm>
                  <a:off x="2379600" y="5006880"/>
                  <a:ext cx="43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646200" y="5032440"/>
                <a:ext cx="67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47640" y="5175360"/>
                <a:ext cx="68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11440" y="5110200"/>
                <a:ext cx="67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4400" y="4829040"/>
                <a:ext cx="152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166840" y="4819680"/>
                <a:ext cx="0" cy="66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171520" y="5316480"/>
                <a:ext cx="2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141640" y="5288040"/>
                <a:ext cx="5400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084400" y="5832360"/>
                <a:ext cx="0" cy="13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74680" y="5965920"/>
                <a:ext cx="358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703520" y="6137280"/>
                <a:ext cx="7365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2359080" y="5872320"/>
                <a:ext cx="438120" cy="368280"/>
                <a:chOff x="2359080" y="5872320"/>
                <a:chExt cx="438120" cy="3682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409840" y="5889600"/>
                  <a:ext cx="352440" cy="314280"/>
                </a:xfrm>
                <a:custGeom>
                  <a:avLst/>
                  <a:gdLst/>
                  <a:ahLst/>
                  <a:rect l="l" t="t" r="r" b="b"/>
                  <a:pathLst>
                    <a:path w="727" h="578">
                      <a:moveTo>
                        <a:pt x="0" y="0"/>
                      </a:moveTo>
                      <a:cubicBezTo>
                        <a:pt x="37" y="78"/>
                        <a:pt x="67" y="188"/>
                        <a:pt x="67" y="284"/>
                      </a:cubicBezTo>
                      <a:cubicBezTo>
                        <a:pt x="67" y="380"/>
                        <a:pt x="17" y="534"/>
                        <a:pt x="1" y="578"/>
                      </a:cubicBezTo>
                      <a:lnTo>
                        <a:pt x="169" y="578"/>
                      </a:lnTo>
                      <a:cubicBezTo>
                        <a:pt x="246" y="567"/>
                        <a:pt x="368" y="563"/>
                        <a:pt x="461" y="514"/>
                      </a:cubicBezTo>
                      <a:cubicBezTo>
                        <a:pt x="554" y="465"/>
                        <a:pt x="709" y="358"/>
                        <a:pt x="727" y="286"/>
                      </a:cubicBezTo>
                      <a:cubicBezTo>
                        <a:pt x="701" y="211"/>
                        <a:pt x="556" y="110"/>
                        <a:pt x="463" y="62"/>
                      </a:cubicBezTo>
                      <a:cubicBezTo>
                        <a:pt x="370" y="14"/>
                        <a:pt x="248" y="10"/>
                        <a:pt x="171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359080" y="5872320"/>
                  <a:ext cx="43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1378080" y="5975280"/>
                <a:ext cx="349200" cy="320760"/>
              </a:xfrm>
              <a:prstGeom prst="flowChartDelay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787480" y="5218200"/>
                <a:ext cx="2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55800" y="6050160"/>
                <a:ext cx="2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130400" y="6037200"/>
                <a:ext cx="250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987480" y="6230880"/>
                <a:ext cx="390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136520" y="5024520"/>
                <a:ext cx="3240" cy="10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987480" y="5173560"/>
                <a:ext cx="6120" cy="1057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14560" y="5005440"/>
                <a:ext cx="5364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61920" y="5148360"/>
                <a:ext cx="5400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394200" y="4809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4200" y="5000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3840" y="4603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49480" y="501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32200" y="584028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34040" y="50227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81560" y="57308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34200" y="606420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70080" y="79056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Structural Veri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68680" y="942840"/>
            <a:ext cx="0" cy="5438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73080" y="82872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Behavioral Veri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1680" y="1469880"/>
            <a:ext cx="3884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count(state,ck,cl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[3:0]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g [3:0]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 ck,cl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 = 4’h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posedge 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 = state + 4’h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cl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cl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 = 4’h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Verilog Design Hierarchy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" y="1127160"/>
            <a:ext cx="1826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to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 f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 f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fo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r b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onk z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b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zon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r b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65800" y="1168560"/>
            <a:ext cx="669960" cy="390240"/>
          </a:xfrm>
          <a:prstGeom prst="rect">
            <a:avLst/>
          </a:prstGeom>
          <a:solidFill>
            <a:srgbClr val="ccff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64120" y="2406600"/>
            <a:ext cx="695160" cy="378000"/>
          </a:xfrm>
          <a:prstGeom prst="rect">
            <a:avLst/>
          </a:prstGeom>
          <a:solidFill>
            <a:srgbClr val="ffcc99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78800" y="2443320"/>
            <a:ext cx="682560" cy="341280"/>
          </a:xfrm>
          <a:prstGeom prst="rect">
            <a:avLst/>
          </a:prstGeom>
          <a:solidFill>
            <a:srgbClr val="ffcc99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41520" y="3638520"/>
            <a:ext cx="695520" cy="378000"/>
          </a:xfrm>
          <a:prstGeom prst="rect">
            <a:avLst/>
          </a:prstGeom>
          <a:solidFill>
            <a:srgbClr val="cc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5520" y="3638520"/>
            <a:ext cx="695160" cy="378000"/>
          </a:xfrm>
          <a:prstGeom prst="rect">
            <a:avLst/>
          </a:prstGeom>
          <a:solidFill>
            <a:srgbClr val="eae7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19840" y="3638520"/>
            <a:ext cx="695160" cy="378000"/>
          </a:xfrm>
          <a:prstGeom prst="rect">
            <a:avLst/>
          </a:prstGeom>
          <a:solidFill>
            <a:srgbClr val="cc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13480" y="3638520"/>
            <a:ext cx="695520" cy="378000"/>
          </a:xfrm>
          <a:prstGeom prst="rect">
            <a:avLst/>
          </a:prstGeom>
          <a:solidFill>
            <a:srgbClr val="eae7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40200" y="4851360"/>
            <a:ext cx="695520" cy="378000"/>
          </a:xfrm>
          <a:prstGeom prst="rect">
            <a:avLst/>
          </a:prstGeom>
          <a:solidFill>
            <a:srgbClr val="cc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18520" y="4851360"/>
            <a:ext cx="695160" cy="378000"/>
          </a:xfrm>
          <a:prstGeom prst="rect">
            <a:avLst/>
          </a:prstGeom>
          <a:solidFill>
            <a:srgbClr val="cc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0" idx="2"/>
            <a:endCxn id="211" idx="0"/>
          </p:cNvCxnSpPr>
          <p:nvPr/>
        </p:nvCxnSpPr>
        <p:spPr>
          <a:xfrm flipH="1">
            <a:off x="4510800" y="1558440"/>
            <a:ext cx="1189800" cy="8485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10" idx="2"/>
            <a:endCxn id="212" idx="0"/>
          </p:cNvCxnSpPr>
          <p:nvPr/>
        </p:nvCxnSpPr>
        <p:spPr>
          <a:xfrm>
            <a:off x="5700240" y="1558440"/>
            <a:ext cx="1420200" cy="8852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12" idx="2"/>
            <a:endCxn id="216" idx="0"/>
          </p:cNvCxnSpPr>
          <p:nvPr/>
        </p:nvCxnSpPr>
        <p:spPr>
          <a:xfrm>
            <a:off x="7119720" y="2784600"/>
            <a:ext cx="641880" cy="854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2" idx="2"/>
            <a:endCxn id="215" idx="0"/>
          </p:cNvCxnSpPr>
          <p:nvPr/>
        </p:nvCxnSpPr>
        <p:spPr>
          <a:xfrm flipH="1">
            <a:off x="6267240" y="2784600"/>
            <a:ext cx="853200" cy="854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3" name=""/>
          <p:cNvCxnSpPr>
            <a:stCxn id="211" idx="2"/>
            <a:endCxn id="213" idx="0"/>
          </p:cNvCxnSpPr>
          <p:nvPr/>
        </p:nvCxnSpPr>
        <p:spPr>
          <a:xfrm flipH="1">
            <a:off x="3688920" y="2784600"/>
            <a:ext cx="822960" cy="854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11" idx="2"/>
            <a:endCxn id="214" idx="0"/>
          </p:cNvCxnSpPr>
          <p:nvPr/>
        </p:nvCxnSpPr>
        <p:spPr>
          <a:xfrm>
            <a:off x="4511520" y="2784600"/>
            <a:ext cx="672480" cy="854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14" idx="2"/>
            <a:endCxn id="217" idx="0"/>
          </p:cNvCxnSpPr>
          <p:nvPr/>
        </p:nvCxnSpPr>
        <p:spPr>
          <a:xfrm>
            <a:off x="5182920" y="4016160"/>
            <a:ext cx="5400" cy="8355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6" name=""/>
          <p:cNvCxnSpPr>
            <a:stCxn id="216" idx="2"/>
            <a:endCxn id="218" idx="0"/>
          </p:cNvCxnSpPr>
          <p:nvPr/>
        </p:nvCxnSpPr>
        <p:spPr>
          <a:xfrm>
            <a:off x="7760880" y="4016160"/>
            <a:ext cx="5400" cy="8355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27" name=""/>
          <p:cNvSpPr/>
          <p:nvPr/>
        </p:nvSpPr>
        <p:spPr>
          <a:xfrm>
            <a:off x="4451040" y="2085840"/>
            <a:ext cx="572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p.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36880" y="2085840"/>
            <a:ext cx="572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p.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87880" y="3271680"/>
            <a:ext cx="8892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p.f1.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0560" y="3271680"/>
            <a:ext cx="8769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p.f1.z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76680" y="3271680"/>
            <a:ext cx="8769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p.f2.z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49800" y="3271680"/>
            <a:ext cx="8892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p.f2.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98640" y="4492800"/>
            <a:ext cx="1181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p.f1.z1.b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49600" y="4492800"/>
            <a:ext cx="1181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p.f2.z1.b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43680" y="1069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76040" y="1932120"/>
            <a:ext cx="1525680" cy="2208240"/>
          </a:xfrm>
          <a:prstGeom prst="rect">
            <a:avLst/>
          </a:prstGeom>
          <a:solidFill>
            <a:srgbClr val="e2c5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57480" y="2498760"/>
            <a:ext cx="2781360" cy="1647720"/>
          </a:xfrm>
          <a:prstGeom prst="rect">
            <a:avLst/>
          </a:prstGeom>
          <a:solidFill>
            <a:srgbClr val="ffe7e7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44880" y="905040"/>
            <a:ext cx="5278320" cy="4803480"/>
          </a:xfrm>
          <a:custGeom>
            <a:avLst/>
            <a:gdLst/>
            <a:ahLst/>
            <a:rect l="l" t="t" r="r" b="b"/>
            <a:pathLst>
              <a:path w="3325" h="3026">
                <a:moveTo>
                  <a:pt x="1" y="935"/>
                </a:moveTo>
                <a:lnTo>
                  <a:pt x="1829" y="935"/>
                </a:lnTo>
                <a:lnTo>
                  <a:pt x="1821" y="3024"/>
                </a:lnTo>
                <a:lnTo>
                  <a:pt x="3325" y="3026"/>
                </a:lnTo>
                <a:lnTo>
                  <a:pt x="3325" y="0"/>
                </a:lnTo>
                <a:lnTo>
                  <a:pt x="0" y="0"/>
                </a:lnTo>
                <a:lnTo>
                  <a:pt x="1" y="935"/>
                </a:lnTo>
                <a:close/>
              </a:path>
            </a:pathLst>
          </a:custGeom>
          <a:solidFill>
            <a:srgbClr val="ffe7e7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TTY Virtual Peripheral Device</a:t>
            </a:r>
            <a:endParaRPr b="1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192560" y="3648240"/>
            <a:ext cx="11160" cy="844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9560" y="762120"/>
            <a:ext cx="1155960" cy="8762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.m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10400" y="928800"/>
            <a:ext cx="1387440" cy="8762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tore.m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959600" y="3098880"/>
            <a:ext cx="776520" cy="8762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.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62360" y="1095480"/>
            <a:ext cx="1143000" cy="988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59440" y="1959120"/>
            <a:ext cx="1143000" cy="14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59440" y="3795840"/>
            <a:ext cx="1143000" cy="14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23040" y="996840"/>
            <a:ext cx="0" cy="4471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83200" y="1093680"/>
            <a:ext cx="1052640" cy="51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r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06800" y="159084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68760" y="263700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62640" y="441972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7160" y="1569960"/>
            <a:ext cx="9720" cy="385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200" y="1211400"/>
            <a:ext cx="881280" cy="75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16560" y="1585440"/>
            <a:ext cx="0" cy="373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63760" y="158904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34000" y="3348000"/>
            <a:ext cx="0" cy="447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27440" y="2865600"/>
            <a:ext cx="893880" cy="769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170240" y="2077560"/>
            <a:ext cx="15840" cy="792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7032240" y="1362240"/>
            <a:ext cx="561960" cy="28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90840" y="1262160"/>
            <a:ext cx="790560" cy="1918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1720" y="2392200"/>
            <a:ext cx="730440" cy="7653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y.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2640" y="3236760"/>
            <a:ext cx="754200" cy="6750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y.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68280" y="2790720"/>
            <a:ext cx="924120" cy="7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427520" y="3498840"/>
            <a:ext cx="515880" cy="158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" y="19620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87360" y="3724200"/>
            <a:ext cx="606600" cy="765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62000" y="851040"/>
            <a:ext cx="8982000" cy="5481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305000" y="4506840"/>
            <a:ext cx="34671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079 0.41198 L -4.16667E-006 2.25538E-006 E">
                                      <p:cBhvr>
                                        <p:cTn id="106" dur="5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20:06:19Z</dcterms:created>
  <dc:creator>Jeffery Hansen</dc:creator>
  <dc:description/>
  <dc:language>en-US</dc:language>
  <cp:lastModifiedBy>Jeff Hansen</cp:lastModifiedBy>
  <dcterms:modified xsi:type="dcterms:W3CDTF">2005-10-21T17:05:16Z</dcterms:modified>
  <cp:revision>648</cp:revision>
  <dc:subject/>
  <dc:title>Q-RAM with Tradeoffs</dc:title>
</cp:coreProperties>
</file>