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51637"/>
        <c:axId val="80363613"/>
      </c:barChart>
      <c:catAx>
        <c:axId val="47351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63613"/>
        <c:crosses val="autoZero"/>
        <c:auto val="1"/>
        <c:lblAlgn val="ctr"/>
        <c:lblOffset val="100"/>
        <c:noMultiLvlLbl val="0"/>
      </c:catAx>
      <c:valAx>
        <c:axId val="80363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51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404-9097-418F-A822-E33721E8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B77-FE11-45B0-8BEC-073B3DBE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D70-A686-4ADC-8FB7-3EFB60C8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D3D-1A62-4171-A2D4-EB53456E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61F4-F420-455A-AA4C-3F21434D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C554-CE29-49EA-8ABB-7717DC81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225-C8F4-4E8D-81E1-7C916BF2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D0F-476E-4A0E-A0AA-5EB27AF6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F26-3C53-44A7-B0A1-B2D29B3F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287-5443-4B6D-A45E-99BA530D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F95-BC1D-4FE7-9E83-43B25EC3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6CB-6D3D-4F70-A73E-DA249482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9DD03-CA12-4C1D-889E-39AA497746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