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07CA64F-9D35-4146-ABFF-4C7D24F5C1A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B479FD5-7281-47A5-9953-F3EF9C81EB4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0735D7D-0D90-4AF1-8A30-2B4A2382CE0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A1D7B59-0787-4591-AF8F-9B0857AE660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7499B43-0188-44B6-8830-936E48B0198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215B27E-2073-4E3C-971A-7BDC80EA7E7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72E4832-39E4-46DA-A7F0-209E732A34A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EBAFF90-6128-4727-AB28-1807F092177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DD09F4D-E279-443C-A4A7-04B480A1EE5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F8DDEFB-AE69-421E-B1AC-99DC8AFF448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6719321-4FA2-4EA3-B55F-96EFF6178B6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8538135-D183-4B94-A03A-DF34F01A81F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7E79700-E507-4058-825E-B2A035A47C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21F8F83-B69D-4CD0-A62F-193103597A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21E74B9-C32A-41E8-B7FE-062B39DCCB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E8D6D44-6E19-40CA-9485-F02DA7F623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21675E3-439C-4D01-827C-A40D2A0419A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81AD5B8-756E-46EC-9511-45B00E8C95D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0A4E0F4-D235-4924-BA66-660646C569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F6C9DE5-8FE1-4A74-82C2-A8CEDD9F9C7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8549AAB-0BFF-4670-B6CD-A9E62192BD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38003BA-BEDC-4F30-A098-70F0A706F77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58DFF21-2F04-41E9-84B9-A86D0E30A6D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84EF92-DCEE-4521-A8A3-12287FFA76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75392B9-AB42-495F-B09A-901AD03D5C4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1909972-A945-42F1-A4F6-D9F0F0604F4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733B3B7-E033-4EE6-8909-A047BB822D5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9230E5B-BC74-4520-A0E3-4780C1A9F59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0EA50C9-DB37-4560-B77E-51C7292CA5E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FE88EC-21BE-49EA-AA97-435E35F852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6D794E-8BA2-4DE4-84EE-EE1091F2F2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7CEF9FC-82D2-47E3-BAB9-6F28DB052D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DEF5A8-DA83-465B-AAE5-98693EFE50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186675-5767-4D24-BC3F-C7C81F2DBE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B30439-C4CE-4875-888B-67722DC22C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2CBDC0-46F2-496A-8365-0319C62C8A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24F82-C48C-48F4-A575-C7886169F4AA}"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A5A14-B755-4520-9175-EBF83246992A}"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78E4FE0-0FAB-49DF-B53D-FEA28C461C81}"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6DA424D-C7EB-4C0C-B1E5-77D99CBC3D2B}"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0A4AE74-969E-4104-9966-33192530B95A}"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7953DAC-4E36-4996-ADE5-3073254B4CD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4F8D0F2-523F-4784-9A45-972FF781091A}"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3496335-76D2-4F67-8D33-DD9BC745713D}"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9166000-1BC9-4AA3-B07C-AF5A38AF421D}"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D00CEB0-8154-4D9E-884D-28670899C5BE}"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5975B78-6E7D-4532-83A0-1B6A634D89CF}"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4499562-D4DB-42B8-8781-8D0B03ECDD7A}"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17A2BB4-2A07-4318-90C9-3C5B03A1AA41}"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D5844D67-BCCC-4446-9DDD-8AC37E518E56}"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394411A-C4DC-46B8-98F3-489B7780FC3F}"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FEF354B-1125-4E46-96B7-5E4FAF2655A7}"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A879373-A57B-4AEB-85CE-E7D54DF868C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AFB4A7F-CA00-427D-9204-FB336973B9D6}"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76E9924-6A19-43A9-9445-121701BE72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CC7B0B8-D1E6-47B4-B195-597D65D289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A4EE411-EE13-414A-8B9D-7EE5A4121AC7}"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A22A652-0013-480D-BEA5-234D79E8EC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727A4D2-6640-4661-81D6-17C3CC02A0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E00857C-9DDA-4D65-9558-139F95DA4D42}"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65B6EE0-9AF7-4762-9449-714EFB472D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6BA85A4-6A20-4CF6-B006-72369CD0FB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EC82E99-2535-493F-BA91-51CF19EC97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43C015C-B621-4E1F-AB4B-02961CA9C4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6BB5BAF-FC77-4E87-A24B-CB304E5F4817}"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958B744-A280-4143-A0FF-05B34DCD6A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48CAACC-2DE4-4F85-8AB7-556DE33933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B7325B5-C283-4D59-B7AE-1235C688DA5D}"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998F5C-2236-447D-B56F-B738C45621C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12679E2-F375-4BF3-B13D-69F84CE315E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29609AE-9573-4A7C-AB86-E6EFC2CBB7F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27D3B00-A62E-4B6B-A02D-59EF4FBEBCB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C818AE9-39A4-4BD5-AE46-73F13D63356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81B0EEE-A4D1-48FB-9E77-C59492355DC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BA1EA84-5641-4610-9D18-30267222FAC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238A450-14C0-4A18-9353-E4664A846BF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4B7F54A-BF1A-4C22-9A99-98B84899DCD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E5DE4D8-E112-4E56-8297-5AC4B66F440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B0646C6-A818-4B69-B5C3-FB74B6FF151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BA1A69E-21C2-4406-B57B-D6F5C5E57E9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45E3F9A-2143-491E-ACC5-E1C9BB4A96EA}"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28ABA38-FB7F-4AAD-8530-47D23AB18E4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23420CD-F7A1-4A01-A842-7C1EE883F7B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83520DC-0AC3-4DEE-B3BA-624F7D844659}"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46A985C-8ED6-4F54-BEB2-4F4B46DBC18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E293275-6536-407C-B453-0FFF09EC479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451D558-48F6-460C-A233-CDF174EE1E81}"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14DC682-9995-4A83-82F9-D29B9A595996}"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41A0716-7263-4726-B89A-54CE8BE70AC6}"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BB1437B-AF6A-447D-A2A7-6A098ABE30EB}"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0D1DF5F-6C77-4F63-BB9D-96EE5730123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DD37E64-4245-4545-9164-CD6E7AFCA2E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D8E3B6D-9071-4444-A2B8-3D83F847FDD6}"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3BE2B1F-9976-4B58-8649-98A5E365F251}"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7CAC4EA-C92A-45ED-953D-A7FCDB4FE150}"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0B5E8F7-0F4A-42F3-8B4D-625CC717E379}"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3378195-A11E-43A9-B63E-FE2AC46D95B4}"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08A5D04-EF04-4B59-B5AD-7D51FA7CBA2B}"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B941CAB-0E21-4D0E-911C-FD338B3B6E67}"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84C84C1-2FC9-4587-933E-9A3B61DCDAEA}"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B19FE8B-7CA2-4A5D-BEAD-EB2E04D87A00}"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F45D384-330C-4AE9-90C9-F0D115D67345}"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7DA4251-F588-4AC3-8C49-F26191890689}"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91DDE64-DED7-4E84-AF7D-C18E3389A896}"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7304D79-F57A-40C2-A5F3-F1852E884BFD}"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56F0BE7-4861-4BEE-9C8A-F296FCFB4D5C}"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9D4A7BC-EDD2-47AD-AB84-95D264EC8E9F}"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C83AFF7-6771-404E-9F51-4E6028FBD65D}"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817BC9-04C5-43BF-89BD-952574504EF0}"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E43076E-A186-41B7-B276-7CBF1BDF5911}"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A1C2CF2-A8EB-4ECF-BA9D-E0B93A468358}"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252B884-3EDF-4962-8B2C-42A35D3C529D}"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31FB00F-FB5B-449E-99D5-5A9F2B6FE754}"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C272A7E-40E4-49CE-BC04-64A731B20F16}"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C658CE-60E8-49DF-8527-8882E4D6CD5C}"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F24B04A-7BAA-4918-B1D7-749D464681A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F4829F6-ED4B-42AF-8147-199C3FFFE70B}"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E4B4937-6F5B-45A9-970F-4F33ABB9EB0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85937D-7385-4473-8BBE-625EDD6A5505}"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380EAE1-E4FE-4FFF-B5DC-79337DB4050D}"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AFA17C3-8F9B-4549-9BF1-2A8EF6221434}"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6C5376B-4E64-4FA1-A7ED-5BAFF39D66A5}"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002B8D4-17AA-4C1B-8061-A87CAD6AB374}"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7177898-F991-4B26-A372-ACAA23B93D4A}"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B6A7CAB-63F5-4C5F-A59A-77E386DD4794}"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88EF33F-3E9C-4980-BFF3-C77FBA420CE2}"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794869-C515-4D52-A5EE-182959486E02}"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FD888DA-0756-4B1E-A984-9C3741058616}"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21207BD-A3FB-4E99-BD5E-83987AAE9F63}"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9231D16-1CC6-4C2C-8169-5CC1C142DD8E}"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9E36655-84A4-4091-86B2-2D63814F8779}"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259622-1910-4A9E-9B21-BA56F8023003}"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9E5BF5A-CF12-4F2C-BE3C-30EC66FF080C}"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2F06FF9-7AD1-4D59-8412-AD7EA772ABAD}"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306E79E-B7B7-425A-8296-E2AAB8DC00C6}"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54B7CDAD-0939-44E7-9DC6-328D3A58FE0F}"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44409EC-A494-45CE-980D-0B92F22E2131}"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78C12DB-8D42-4BFD-84B7-2FF7DC9315A5}"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3B9474A-3B9A-473C-A159-C957A0CD299A}"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8F01CD4-9895-4522-AB10-FD2918CAA392}"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BA6F082-D54D-44FE-9A6B-ABDDF7623FA5}"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5BCC106-D60D-484E-9960-729D51B9CD94}"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1CEF4AB-586A-4C97-A9E8-EF52ECF6DC9C}"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DEBC35D-8DA4-40ED-8314-A57B9CE8805E}"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669D3E2-E120-4E07-B6D2-70D21F6F89F8}"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2491494-13F7-4039-82CF-E9B715CED3AA}"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3ACEAE7-D7CD-445A-A42E-1BA1BD30A504}"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C96C3E-DE6C-4590-A334-94DCA351045E}"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820FB0F-D704-460D-AA57-3ABF232F254C}"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