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AD696BE-730F-4945-A4F7-E199E438AC2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AE6239C-B1C8-4753-AC03-68A2ACCB4EC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35ABE81-305E-4F61-A2BA-F276AC5B186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DA0FA01-83F3-42A1-A99C-2E9E7DA18EB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975AB80-40C9-463D-800E-611D44F12FF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463DA4B-2B63-4C26-9869-E8868F0633C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9869CC4-8E09-452F-9EC0-7B63195CF9D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A6BF2B3-22F8-479E-B997-370CE0CBA57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FDA7D48-10AD-42DD-830A-F851B656CB1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B5A2BA5-AB3A-4EC1-BCF6-41BDB0BF5DE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F26C936-E124-447B-BC7E-2101D27171E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B25451F-DB57-4BFF-A441-E64622B8FC4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9F94C54-B487-46A5-8DA2-1B8C8EB3C4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ABD724-CDC5-4AD6-8A3D-09CB32BAB8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A604B54-3B45-4352-A97E-47225EABA3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B80290E-E5D6-49C3-B127-177917F512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7E19190-806C-4E8D-9ED9-2F17A4DCD5B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20D81E1-8809-401F-9FC5-55D762FD701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8C79A5F-6D1A-4125-874A-D9E9C7FF16F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37C2ED0-EEFC-4007-BFD6-FCD50A4C62A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9269C69-FFEB-482C-A8C5-EABCB7CCAC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A5D78B7-BBF7-4526-9DE7-BAA0320E038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5BF08BE-881A-45B1-8795-A4ED4F2C5FF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D234AC9-EAF4-4DF8-B202-14CAAD7F09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B50C2D5-9B6D-4BF5-8094-9BE9DCCBED0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523F2EE-C2AF-44F6-873D-287F18A4D1D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ABB2BF0-E111-44DB-81EB-03A677F578E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4F68F70-A5FF-43CB-A050-1536586C1E9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BB3DF16-98CA-4131-8A37-9C50FFBCB5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6F6E1A-EBF5-4625-A0F1-AF82309A11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6F5BBD4-9694-4164-A3AE-B1B81B6F82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7482D6-CB72-4558-98C3-251065E229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5A1E8A-FCE9-4169-9EB6-B0F887B9B0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E25E4E-E226-4BE7-90B8-C6D26EA137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FB3EDD-2121-44B5-83A3-F6C7C9FEFE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B68583-B6C8-435E-9BE9-CB681AD9BA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DA297-086E-4D02-BE6B-95EC8DF93489}"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30C84-4373-4192-934A-352A1D29ED53}"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4035B5D-9F88-4109-B517-54FF8B716A3E}"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51FE1DB-141C-4B6C-8EED-EC38F9D4FEE2}"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50E27B5-F6D6-4301-A6F0-6E0456F99074}"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B4DDD8F-5A91-4537-B72C-E0E6289A5AC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4BB3EE2-590F-41BB-A7F6-E5C6F2BB79C7}"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E5E0F0B-9920-4E40-8292-7C89641DCD91}"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4EC2D7C-4820-4F25-AED1-CA6912D78C4B}"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6FF65AC-92E5-43A9-AFC0-7E2F02525EC3}"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CA4AA32-A8EB-46F0-B805-9C4AB4FCFC83}"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8C650EF-A0E5-449B-B642-CC3AAD6579EB}"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3CF6778-AACC-4ABF-B35C-D07432884ECC}"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4B8EC9FC-E968-4CD0-88AE-6781B67E25FF}"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B5CD8DA-0E66-4E17-8E3B-F6EE07188912}"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42A6FF1-26B5-4D32-AE02-B67E34A0012B}"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63824B7-4B38-40F6-88F2-950AABBABF1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739729E-39C8-49F4-AF47-131FCAD95866}"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F7D7101-D64E-4A39-BC41-CBF47CE70B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D03FAFF-29DB-41EF-9BD8-1873A8CBA7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7EFF6AA-F765-48CC-B8CB-AB464E5A3953}"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56D7A5A-19ED-4126-89A6-D13FDE1DE7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5B027E1-6D33-49B5-8F18-7EBB341DC1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C228FF-1B72-4CF5-B610-DB50049854BD}"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025ED3E-8CE4-4D96-AE9E-67FBD84EB8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750027F-687E-4AE9-84D7-8FA3766C19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991067B-02B8-4E68-B74A-9FE1FE637A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F673EA9-2BAD-4B73-82E4-9903E66014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C92B514-7131-4241-866C-CF67FF7D556A}"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199D5A1-84A0-4A0A-A29E-A85B0CB245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218FC51-9811-4A4D-AB09-858EAF6EC5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67E643A-DBF9-41AF-AC78-1CC91B8D4892}"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B4C2057-6FBC-41C7-B2EE-F16D53F75A5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BBE934A-E230-4182-A8BD-316D6EBC138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8A773BD-4BD0-48E3-8352-9885AEBB350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F97A3C2-7F06-433B-AE01-46FCE8979A3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A560904-D65B-4EE5-A185-9BACAFFD05A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96C747B-208B-4C74-A958-44F75CC253D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1CE324D-9477-457E-8E1E-E33198FE6FA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87A408B-80EF-4439-86F7-80FA724964E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56BDA2E-DB51-4A83-902F-B02691FD528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CC74E9E-E6BF-4488-99BD-5225010275C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7407474-64E7-48D3-8530-5DA8BFD0B71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F765287-C705-4A33-B8C4-2FF0EF0BBB3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47DF050-2F27-4B6A-B69F-FF03D7A259B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20C4E3-5D54-436A-B932-85C3726AE58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829FB39-3AD6-45E6-99CA-7B74BD4C004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4630DAB-9083-4034-9A7E-CACE84F5284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EF1C43B-B255-40EB-B189-8E59888D746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69F61EB-3521-42CD-9CD7-E75C459FFF3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E0BFFE8-E44D-46FE-B894-F36113EA357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3C7A1D0-9F44-4B1F-9EAA-79A34D73E8E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1034761-F7C9-4C18-87EB-046F9029B25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34FDC55-38DF-47FB-92BD-F055EDD88DA8}"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A217355-B705-41E3-BD0B-CB5E689856D4}"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C61C2DF-9353-4D44-8E2D-7928F93B587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D049294-233E-4223-8574-81BE3C7FCB3D}"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8D6C277-0707-4985-B720-76350AD1E316}"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5E0926E-1511-49C0-BC5E-E853C3B97145}"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F64E1E4-A7CF-42AF-89B8-02C949A32B4B}"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8DA7346-D71A-451D-8E96-9392DE6F8ACF}"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9397F8-496B-4D6C-BD0A-5817E283A40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A5730F5-2EAB-416D-8950-46D4E4FEB0CD}"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9B9C259-05D4-4226-A4AC-22B35EA75AB0}"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F1A2B75-4B8D-4099-A3FC-2BDE301B065C}"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F61E885-2570-4E7A-B587-0025175E08FD}"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CC88A17-33A3-4F47-9ECB-AB606F0EC68D}"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A33EDF9-A229-4933-88A6-6DE996EA1823}"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3717A7-9146-4523-9324-568309ECA974}"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146F312-E251-4BAE-A721-2B5B14E5A934}"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3FDC12A-1FAC-4DAE-9940-C62BF13DF14C}"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F25D2A4-11D5-444C-A682-4A605C73583B}"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30BBA98-082F-48D9-AAD7-02AB86C30167}"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E14E149-4C77-47D7-8751-11629CAE9C53}"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3A1B56D-1348-4637-B210-FC5CBDF4AFB8}"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9F659B0-D848-4D49-BE44-85613CC976CC}"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067E838-0655-4A09-9391-B8144C7033B3}"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D0EB299-4F91-4C2F-A9AA-B4ACD7BC6AD2}"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935F120-F411-4C02-9B5B-0C3B25CAFA73}"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CCD73D3-8B62-4938-8D3B-E47EB7D031D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9B41B38-EC97-47DC-A6E6-5DB81ECAB6E0}"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5D69263-126C-4CC7-B63F-8C112E5954F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8C3D352-E147-4E30-A801-03106A03754F}"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190ADB3-8CAF-40F5-968E-8F3D185B7980}"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96A8171-C885-4148-9A00-A1FFC91DD12D}"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9D079A7-77F8-4845-921F-FECB8116BAF5}"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6671A55-E11F-42BF-A0F5-4A0AE55BE6E8}"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BF8BE50-1DEF-49BB-AC9E-C53404C48361}"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B8BF480-3564-4304-A447-C7321F653AB7}"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AAA97D1-7C2C-470C-AEFA-5654D1EAE48E}"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6ADDC88-62C5-444C-B8C3-B0438A31EB78}"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5B77C5C-4D7D-4FE2-91D7-06FCCB32B709}"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B7C1ABA-0ED6-4795-A6E2-CE542A02752A}"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730E155-1E3E-4354-B626-848D4861BDD3}"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F64D8A9-11B9-4E21-9D41-CFCF8F375535}"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9A8861B-3B5E-450B-9E15-59123BA179E5}"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A536CE3-82B4-440C-A963-CC11741F2387}"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913BC61-BC6E-4BA4-873E-F81364B4AE15}"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3EA9C0E-1FC8-4B4C-9AC1-FC186A30E6DC}"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DA59B5DF-D2BD-4DDF-B89D-9AC05635E99D}"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EFE7715-D6F5-4550-8EBA-5B034790A0BB}"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46F27D3-D06A-4143-8E4E-4007874B85A6}"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E09741E-4E65-487A-852D-5642C5EC66B4}"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8827454-F911-4265-9003-D3AB28EF2AB2}"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98103F2-84DB-4628-A82F-C4AE1A2025FB}"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791CD1-83BB-4C7C-9503-38873E63BB6F}"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DFD036B-37CB-44F4-A09B-275F5F135A94}"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2F5A290-B3C5-4E6E-954E-68B085124EBF}"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45055BA-4E1F-4EDA-9CAD-4C2522356AAF}"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FB56BCF-C1A2-43F9-AD2F-A62E28C596AA}"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AAC45AE-2368-403D-87D4-FABD69E3F9AE}"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11039FF-4A8D-4716-88A1-F3DF58CA3A37}"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6768436-787E-4AAA-9D21-9CA4F1D96A3E}"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