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94755"/>
        <c:axId val="86205218"/>
      </c:barChart>
      <c:catAx>
        <c:axId val="79894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05218"/>
        <c:crosses val="autoZero"/>
        <c:auto val="1"/>
        <c:lblAlgn val="ctr"/>
        <c:lblOffset val="100"/>
        <c:noMultiLvlLbl val="0"/>
      </c:catAx>
      <c:valAx>
        <c:axId val="86205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94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F0B-9A5D-499E-85CC-7EFA6648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C0B-59B6-4779-BFD5-0C0D1E5A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0A7-894D-4515-B55C-5958977D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E5A-0653-4653-847C-8356111C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F2B-2B0C-408D-95A4-5C1D2FF4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4D5-F3BB-40FE-83B0-3882DF54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6EF-5BA0-406F-B539-333C8511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9DA-64DC-4665-B162-ED04C50A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8B9-E0BA-40D5-939E-0395D1BA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9F0-C055-49D4-B52F-526C4FB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D47-AF76-4D11-9C53-773BF554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455-1240-4190-A130-6BF925BB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E3193-82D1-4C06-8F47-944F1C6A22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