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62884"/>
        <c:axId val="3364048"/>
      </c:barChart>
      <c:catAx>
        <c:axId val="54262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4048"/>
        <c:crosses val="autoZero"/>
        <c:auto val="1"/>
        <c:lblAlgn val="ctr"/>
        <c:lblOffset val="100"/>
        <c:noMultiLvlLbl val="0"/>
      </c:catAx>
      <c:valAx>
        <c:axId val="3364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62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739-351A-4E7C-93E8-82DAC481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B69-6933-44A2-AEFE-F8A91C80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9B6-C32E-407C-96EF-AC9F9802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CCB-2BF7-4EBC-B017-D7983AD3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B87-4A3E-4C3F-9884-3606C240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D47-D0EC-4470-86AE-4054956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6AA-037D-43C1-8D53-D1C8CB4A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EF7-70AE-4B13-9928-B4F9F295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3F5-CC7B-4B05-9B6F-D555370E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FA5-2DB4-47F3-BD01-2264ACBE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B84-F77E-4539-AB2C-DABE6F8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075-EF6B-4BE8-B46C-9A80B99A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51C4E-718F-439E-92E8-E47264C037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