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63330"/>
        <c:axId val="4295730"/>
      </c:barChart>
      <c:catAx>
        <c:axId val="34663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5730"/>
        <c:crosses val="autoZero"/>
        <c:auto val="1"/>
        <c:lblAlgn val="ctr"/>
        <c:lblOffset val="100"/>
        <c:noMultiLvlLbl val="0"/>
      </c:catAx>
      <c:valAx>
        <c:axId val="42957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63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FEC-CB8E-483B-ACB8-80705B12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563-B9D1-4FDD-992F-EEA62D13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29D-74FA-4551-A310-F61BA79D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1B8-524B-425B-8BF9-BEA6364B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F8E-3823-4CAA-BED8-938CF1A8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052-DD91-413B-BB3D-FD6427DC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5B85-5F65-4910-8039-C4C1722B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48E-8CBB-46CE-AE08-EC87B365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854-6EA7-4213-9748-2825B1B4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279-B7C7-4C27-8336-C9E582E3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889-F763-487E-84CB-A889B596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7E02-217B-465D-97F1-1F3D03EA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8B58D-93F4-483F-85CC-7A73F4E5DA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