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65875"/>
        <c:axId val="24160320"/>
      </c:barChart>
      <c:catAx>
        <c:axId val="14165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60320"/>
        <c:crosses val="autoZero"/>
        <c:auto val="1"/>
        <c:lblAlgn val="ctr"/>
        <c:lblOffset val="100"/>
        <c:noMultiLvlLbl val="0"/>
      </c:catAx>
      <c:valAx>
        <c:axId val="24160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65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234-C708-4670-96AD-A193D875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02C-AF49-42DF-AB54-7C2954BA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E6B-948E-4727-8DD9-0A8A3DAD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D3A-B462-47F3-AFAB-FCDC7D4A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F64-A5B8-466D-B8C3-090D90D3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69B-6F22-4884-B705-7779D7E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904-6A19-4102-9624-95187D36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D02-22EB-494F-907A-5B3E153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627-E559-4C46-8E25-88810662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B4C-727D-479E-9DDE-77B7EFE3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0EB-AF13-4AC4-BE1F-07F81232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386-B464-47F4-9B7B-85E29D3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4E43C-A30A-4532-9427-8D3DA2D144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