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85411"/>
        <c:axId val="50011644"/>
      </c:barChart>
      <c:catAx>
        <c:axId val="68185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11644"/>
        <c:crosses val="autoZero"/>
        <c:auto val="1"/>
        <c:lblAlgn val="ctr"/>
        <c:lblOffset val="100"/>
        <c:noMultiLvlLbl val="0"/>
      </c:catAx>
      <c:valAx>
        <c:axId val="50011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85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E80-E464-41AA-A75E-ACA64A8B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635-0F2C-4C59-8BAC-B84AEE14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2E1-30BF-4699-9C0A-4B6F0225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E09-15BE-4A67-B0F2-BC5E4656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77E-A873-47BA-8FED-CDE9DDC5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EBC-B263-47D6-A3AC-01D98570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5D9-C43C-4A8C-A58F-68E2FDF6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76B-D2FC-402F-83A3-EE2C3DBB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75E-7511-4880-89C8-AA0F74B8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BC2-7746-4B36-905B-11D8620F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45E-9C1F-420C-BC6A-CE40FBEB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51A-2F0F-4697-8503-8A1A9696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9005E-A483-4829-93DC-663BFF9CEA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