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notesSlide7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58.png" ContentType="image/png"/>
  <Override PartName="/ppt/media/image19.png" ContentType="image/png"/>
  <Override PartName="/ppt/media/image20.png" ContentType="image/png"/>
  <Override PartName="/ppt/media/image5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13.png" ContentType="image/png"/>
  <Override PartName="/ppt/media/image11.png" ContentType="image/png"/>
  <Override PartName="/ppt/media/image48.png" ContentType="image/png"/>
  <Override PartName="/ppt/media/image51.png" ContentType="image/png"/>
  <Override PartName="/ppt/media/image52.png" ContentType="image/png"/>
  <Override PartName="/ppt/media/image41.png" ContentType="image/png"/>
  <Override PartName="/ppt/media/image53.png" ContentType="image/png"/>
  <Override PartName="/ppt/media/image42.png" ContentType="image/png"/>
  <Override PartName="/ppt/media/image54.png" ContentType="image/png"/>
  <Override PartName="/ppt/media/image43.png" ContentType="image/png"/>
  <Override PartName="/ppt/media/image55.png" ContentType="image/png"/>
  <Override PartName="/ppt/media/image44.png" ContentType="image/png"/>
  <Override PartName="/ppt/media/image56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  <p:sldId id="282" r:id="rId40"/>
    <p:sldId id="283" r:id="rId41"/>
    <p:sldId id="284" r:id="rId42"/>
    <p:sldId id="285" r:id="rId43"/>
    <p:sldId id="286" r:id="rId44"/>
    <p:sldId id="287" r:id="rId45"/>
    <p:sldId id="288" r:id="rId46"/>
    <p:sldId id="289" r:id="rId47"/>
    <p:sldId id="290" r:id="rId48"/>
    <p:sldId id="291" r:id="rId49"/>
    <p:sldId id="292" r:id="rId50"/>
    <p:sldId id="293" r:id="rId51"/>
    <p:sldId id="294" r:id="rId52"/>
    <p:sldId id="295" r:id="rId53"/>
    <p:sldId id="296" r:id="rId54"/>
    <p:sldId id="297" r:id="rId55"/>
    <p:sldId id="298" r:id="rId56"/>
    <p:sldId id="299" r:id="rId57"/>
    <p:sldId id="300" r:id="rId58"/>
    <p:sldId id="301" r:id="rId59"/>
    <p:sldId id="302" r:id="rId60"/>
    <p:sldId id="303" r:id="rId61"/>
    <p:sldId id="304" r:id="rId62"/>
    <p:sldId id="305" r:id="rId63"/>
    <p:sldId id="306" r:id="rId64"/>
    <p:sldId id="307" r:id="rId65"/>
    <p:sldId id="308" r:id="rId66"/>
    <p:sldId id="309" r:id="rId67"/>
    <p:sldId id="310" r:id="rId68"/>
    <p:sldId id="311" r:id="rId69"/>
    <p:sldId id="312" r:id="rId70"/>
    <p:sldId id="313" r:id="rId71"/>
    <p:sldId id="314" r:id="rId72"/>
    <p:sldId id="315" r:id="rId73"/>
    <p:sldId id="316" r:id="rId74"/>
    <p:sldId id="317" r:id="rId75"/>
    <p:sldId id="318" r:id="rId76"/>
    <p:sldId id="319" r:id="rId7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slide" Target="slides/slide27.xml"/><Relationship Id="rId41" Type="http://schemas.openxmlformats.org/officeDocument/2006/relationships/slide" Target="slides/slide28.xml"/><Relationship Id="rId42" Type="http://schemas.openxmlformats.org/officeDocument/2006/relationships/slide" Target="slides/slide29.xml"/><Relationship Id="rId43" Type="http://schemas.openxmlformats.org/officeDocument/2006/relationships/slide" Target="slides/slide30.xml"/><Relationship Id="rId44" Type="http://schemas.openxmlformats.org/officeDocument/2006/relationships/slide" Target="slides/slide31.xml"/><Relationship Id="rId45" Type="http://schemas.openxmlformats.org/officeDocument/2006/relationships/slide" Target="slides/slide32.xml"/><Relationship Id="rId46" Type="http://schemas.openxmlformats.org/officeDocument/2006/relationships/slide" Target="slides/slide33.xml"/><Relationship Id="rId47" Type="http://schemas.openxmlformats.org/officeDocument/2006/relationships/slide" Target="slides/slide34.xml"/><Relationship Id="rId48" Type="http://schemas.openxmlformats.org/officeDocument/2006/relationships/slide" Target="slides/slide35.xml"/><Relationship Id="rId49" Type="http://schemas.openxmlformats.org/officeDocument/2006/relationships/slide" Target="slides/slide36.xml"/><Relationship Id="rId50" Type="http://schemas.openxmlformats.org/officeDocument/2006/relationships/slide" Target="slides/slide37.xml"/><Relationship Id="rId51" Type="http://schemas.openxmlformats.org/officeDocument/2006/relationships/slide" Target="slides/slide38.xml"/><Relationship Id="rId52" Type="http://schemas.openxmlformats.org/officeDocument/2006/relationships/slide" Target="slides/slide39.xml"/><Relationship Id="rId53" Type="http://schemas.openxmlformats.org/officeDocument/2006/relationships/slide" Target="slides/slide40.xml"/><Relationship Id="rId54" Type="http://schemas.openxmlformats.org/officeDocument/2006/relationships/slide" Target="slides/slide41.xml"/><Relationship Id="rId55" Type="http://schemas.openxmlformats.org/officeDocument/2006/relationships/slide" Target="slides/slide42.xml"/><Relationship Id="rId56" Type="http://schemas.openxmlformats.org/officeDocument/2006/relationships/slide" Target="slides/slide43.xml"/><Relationship Id="rId57" Type="http://schemas.openxmlformats.org/officeDocument/2006/relationships/slide" Target="slides/slide44.xml"/><Relationship Id="rId58" Type="http://schemas.openxmlformats.org/officeDocument/2006/relationships/slide" Target="slides/slide45.xml"/><Relationship Id="rId59" Type="http://schemas.openxmlformats.org/officeDocument/2006/relationships/slide" Target="slides/slide46.xml"/><Relationship Id="rId60" Type="http://schemas.openxmlformats.org/officeDocument/2006/relationships/slide" Target="slides/slide47.xml"/><Relationship Id="rId61" Type="http://schemas.openxmlformats.org/officeDocument/2006/relationships/slide" Target="slides/slide48.xml"/><Relationship Id="rId62" Type="http://schemas.openxmlformats.org/officeDocument/2006/relationships/slide" Target="slides/slide49.xml"/><Relationship Id="rId63" Type="http://schemas.openxmlformats.org/officeDocument/2006/relationships/slide" Target="slides/slide50.xml"/><Relationship Id="rId64" Type="http://schemas.openxmlformats.org/officeDocument/2006/relationships/slide" Target="slides/slide51.xml"/><Relationship Id="rId65" Type="http://schemas.openxmlformats.org/officeDocument/2006/relationships/slide" Target="slides/slide52.xml"/><Relationship Id="rId66" Type="http://schemas.openxmlformats.org/officeDocument/2006/relationships/slide" Target="slides/slide53.xml"/><Relationship Id="rId67" Type="http://schemas.openxmlformats.org/officeDocument/2006/relationships/slide" Target="slides/slide54.xml"/><Relationship Id="rId68" Type="http://schemas.openxmlformats.org/officeDocument/2006/relationships/slide" Target="slides/slide55.xml"/><Relationship Id="rId69" Type="http://schemas.openxmlformats.org/officeDocument/2006/relationships/slide" Target="slides/slide56.xml"/><Relationship Id="rId70" Type="http://schemas.openxmlformats.org/officeDocument/2006/relationships/slide" Target="slides/slide57.xml"/><Relationship Id="rId71" Type="http://schemas.openxmlformats.org/officeDocument/2006/relationships/slide" Target="slides/slide58.xml"/><Relationship Id="rId72" Type="http://schemas.openxmlformats.org/officeDocument/2006/relationships/slide" Target="slides/slide59.xml"/><Relationship Id="rId73" Type="http://schemas.openxmlformats.org/officeDocument/2006/relationships/slide" Target="slides/slide60.xml"/><Relationship Id="rId74" Type="http://schemas.openxmlformats.org/officeDocument/2006/relationships/slide" Target="slides/slide61.xml"/><Relationship Id="rId75" Type="http://schemas.openxmlformats.org/officeDocument/2006/relationships/slide" Target="slides/slide62.xml"/><Relationship Id="rId76" Type="http://schemas.openxmlformats.org/officeDocument/2006/relationships/slide" Target="slides/slide63.xml"/><Relationship Id="rId77" Type="http://schemas.openxmlformats.org/officeDocument/2006/relationships/slide" Target="slides/slide64.xml"/><Relationship Id="rId7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dt" idx="3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 type="ftr" idx="3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 type="sldNum" idx="3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D9B7A-B39A-444C-A0FD-89F5DD471B47}" type="slidenum">
              <a:rPr b="0" lang="el-G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7A189-3FEC-4D13-A2FE-B574F157D795}" type="slidenum">
              <a:rPr b="0" lang="el-GR" sz="1200" spc="-1" strike="noStrike">
                <a:solidFill>
                  <a:srgbClr val="00009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9D00C-743B-4F0B-8DC9-DC5B8D7D35F6}" type="slidenum">
              <a:rPr b="0" lang="el-GR" sz="1200" spc="-1" strike="noStrike">
                <a:solidFill>
                  <a:srgbClr val="00009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18282-5046-4990-B34A-7FC758729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26C42-E1E7-42E2-9067-459C181C1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E92C0BC-F391-4A42-B24A-CCE7A618C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3378664-94DB-4A4A-81BF-59AB62C9F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ubTitle"/>
          </p:nvPr>
        </p:nvSpPr>
        <p:spPr>
          <a:xfrm>
            <a:off x="826920" y="76320"/>
            <a:ext cx="81648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4459533-A64C-43A5-8D7E-8A229D9D8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7E45432-EC26-4CB6-89DE-33EBBDCA9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A32BD5F-484E-4A1A-99FE-888724E59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47F5862-CAF8-4E6C-8F28-641E178BD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562FA0F-B0DA-4FF9-B2F6-D033910A1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BC67F89-6E00-41A2-B249-BA4A651D3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38088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03" name="PlaceHolder 6"/>
          <p:cNvSpPr>
            <a:spLocks noGrp="1"/>
          </p:cNvSpPr>
          <p:nvPr>
            <p:ph/>
          </p:nvPr>
        </p:nvSpPr>
        <p:spPr>
          <a:xfrm>
            <a:off x="321516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04" name="PlaceHolder 7"/>
          <p:cNvSpPr>
            <a:spLocks noGrp="1"/>
          </p:cNvSpPr>
          <p:nvPr>
            <p:ph/>
          </p:nvPr>
        </p:nvSpPr>
        <p:spPr>
          <a:xfrm>
            <a:off x="604944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BCA1C02-009A-44F4-AF63-8762C6A4F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A7DC5B7-D754-46CA-A5C0-817F6BB4F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2BE50-A2A1-4BBD-A0CA-28ACE02B7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DCA6745-A7F2-4AD1-8346-8C3FD900F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9CCCDC6-D5D7-4D23-9A4F-8D1CCADE8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107D325-7F4C-4FF1-9658-15473AF28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54DCBAB-FC18-46C7-B565-1E51871E3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826920" y="76320"/>
            <a:ext cx="81648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BF88BBB-20F5-4656-847A-7B78CCBD9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6722E37-5A93-4D16-B388-4760D4116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C397734-860C-4A90-89B5-BFDFCF0A4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6BE8F7D-7A05-4F11-843D-A8AC7BF8A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94E8B02-C8F4-4302-80CD-91B87E4D4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ED7C843-6CF9-4611-9123-76B02B8C3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88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516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4944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56B78-3914-425D-A30B-F5EFE303F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38088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21516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04944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FBD8BB4-047E-4B39-A586-1163EC688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24AAB99-530E-48E1-AAD7-3F199F866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DB5E019-0870-4A72-8787-CD5BBC08F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BBF1380-082C-405B-AA55-E2D37ABE6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2E73895-EFEC-49B5-9B26-07DCEA7BA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CAF4A91-9FEE-48FC-B299-60DF6768A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826920" y="76320"/>
            <a:ext cx="81648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B685F31-5998-4880-A4F5-E666271AB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75CF432-EE1F-4A3C-AEB2-FAD6DE3AD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5E9DDB6-D84C-44CC-96F9-36A390C6F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00C0E1B-1FAB-4915-82BD-BC1C4C0E0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DD336F-0320-4D06-B69C-F216554B9A85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1B78F05-2049-4581-976B-432A8C9D9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46001C9-01BD-4ED0-AFE6-4166FC509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8088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1516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4944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52F3B89-3704-490B-B6E2-A2CCD18AB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72EB41-8775-4004-AA8A-F3EBBA03BA9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A92E26-8CD7-4C6C-A198-1427786410D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6CE223-A64D-4550-AA85-4B9A8443840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004D5C-7ECA-498D-A5A0-B1DFE6D52B7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826920" y="76320"/>
            <a:ext cx="81648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C80655-67E2-4EC0-AC56-482C20968FB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7C8463-2AD4-4337-95A8-F9F75E3B957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DD591-4AC4-4A3D-B5EB-05EE4A474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E7C44E-A111-4D5A-807B-1EAC05F74FB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1D5D20-09AD-453A-8C94-B61CB026448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E73C28-8A65-4045-BDF0-FB9060FD9FF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FFDCE5-496E-4C6A-B1C3-CD4885D4727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88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1516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4944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292C9F-A63C-4A4A-8C78-5676FE4D8816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4198C85-CBE6-45E0-B69C-2C9305170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DB442F2-0E17-4C0C-87EC-E73A10EE9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D053BF9-BFEF-4540-9812-856958A59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6AFE9C2-9D0E-40A0-9D3D-4A57C9078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C245FFD-DEEC-4A70-A1BA-7E7441E37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2299F-3F84-48A0-B777-85B4F0C3F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826920" y="76320"/>
            <a:ext cx="81648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2D4947B-A8C7-467D-B4BF-F9CFFCEE8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3BCD75E-1B4A-40E4-9E2E-57C9B5102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8059088-C9D7-4FFE-A45D-EAAA2C49F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B28F7F0-CC0A-415B-909C-437C93705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80A69CD-3CD8-47D3-B01E-E13EBF61A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56AB210-B765-41C9-A9F5-B02C8A729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8088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1516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4944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80D2CB2-3524-4B29-9837-C3EC2E536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C6A479E-F782-4C59-829C-958F4BC83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AD13D08-BCBD-4D90-95E9-5654D472A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3A335CB-3644-480D-A956-A6E70E35D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ABCDA-8443-4E2F-A5DC-EF4E776FF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4713E0A-6007-4F5A-9E4B-47BB62F9E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17B7F43-3F95-4D06-8FAB-A448A29C3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826920" y="76320"/>
            <a:ext cx="81648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296447D-74BA-4E91-897F-626A96F2D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545DFF6-BC7F-47A3-8CAF-BFBEC8650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1B9FEFC-5C85-412B-B563-4F4ECD759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9D544AA-4679-4760-A448-E60B7E461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E91711A-F999-46B3-9900-F7228DC5F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AE9EDB5-49BD-42D7-9309-53E47228D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38088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21516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04944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357FD70-D49C-4EFB-BB1D-E29E15108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78862DF-A900-4C6D-B167-659FB0B57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86F57-1795-43D1-A167-585D8316B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1C6D8E7-9336-4FBA-A178-0ACF77FAB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0369B7E-532B-4C06-9B50-1D75B6D9B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4695E66-9E20-4628-8C60-483C77851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304EAC1-99F8-48C7-81A6-11F4441D9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826920" y="76320"/>
            <a:ext cx="81648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EC1E1F8-D58D-4EC9-BE11-CBE802261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0DD4992-AAC9-46A2-8F57-2EEDC4BFE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2EFCF8D-8CDC-47E8-BA58-8E0A9FDF9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113B77C-2B6B-47A6-9EA2-35D6C5D38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B46424A-7C00-4C86-9E13-9DEC2365F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51C0E7A-B80F-4D92-BF67-BAEE3EE47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26920" y="76320"/>
            <a:ext cx="81648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1426D-8FE1-4F99-8C77-6110189C3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38088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1516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4944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9492C69-39C0-44C4-A8A2-4028789EA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7BEF101-5FE4-4A9A-9F47-8F7997A39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454A402-37BB-4751-BACC-3B0E5E263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D83DA75-D0B5-4418-80B0-54B780F3B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1211367-814E-48A3-A65A-246583B95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9EAF46D-F4DE-4B34-BB7A-5839C4B2F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826920" y="76320"/>
            <a:ext cx="81648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522D6D4-7087-4709-BA37-FD9682994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D23D8E7-E8F3-451F-8438-230904244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A7F154D-372F-4E7D-BF69-5422DF73F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2F6324D-7FDC-43F7-8DE3-AD202498C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B2615-0712-44D4-A56C-54A4A4117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175F819-4D58-4754-8030-0DD7684D1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99CE94D-15EB-4A8C-B58B-65BBE783E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38088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21516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04944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B0697A6-2889-468B-879D-5942085E8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326EBF5-D73A-4669-82E2-188728E29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A26378F-EF61-4E54-852C-5DE59C402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2578857-23AE-4F06-AA7B-1FD553687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EBB7AE4-DE1F-4B77-95F9-0B5938C96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7B5B18E-FB25-4DBC-A41B-ABA3D5B3F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826920" y="76320"/>
            <a:ext cx="81648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7025AC0-C45C-455D-A1C4-2645B210D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625FDCE-6699-4887-AB5E-C9677043D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4CCDF-6BFE-4663-BE3F-595230778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DAC6673-6CB9-4076-8A42-51C106EEE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61DB8CC-D144-4F32-9E72-C46344E58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B2489D5-18ED-4423-824F-23B60FC20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3ABD0EF-245A-46ED-887C-B319AE3D2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38088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321516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604944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FF4EF79-455D-46BF-87AF-2E9A8224A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9B3386F-C829-4B61-AFE6-088261512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7686504-0FB7-435A-9BC7-87357AD87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A37E78E-076A-4806-910C-4A80DFB20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5402FFE-5D05-4C5F-A114-2AB1B1242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B065D2C-1CE8-42CF-8080-344C4CA5F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F7F02-2198-4FC3-900D-E648398F6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ubTitle"/>
          </p:nvPr>
        </p:nvSpPr>
        <p:spPr>
          <a:xfrm>
            <a:off x="826920" y="76320"/>
            <a:ext cx="81648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74D04C1-49D8-4690-8CA8-ADAF1742F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F5B54F3-EAFB-47C9-AA19-FE4D31E8C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6BEE40D-4EF0-4D68-8F54-1AC79E841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566C1A6-A470-45F0-923F-627A2E7B7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ECDE765-7360-471C-B58D-CB475BEAB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0069916-8902-4C0E-96EC-98F5EB407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38088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8" name="PlaceHolder 6"/>
          <p:cNvSpPr>
            <a:spLocks noGrp="1"/>
          </p:cNvSpPr>
          <p:nvPr>
            <p:ph/>
          </p:nvPr>
        </p:nvSpPr>
        <p:spPr>
          <a:xfrm>
            <a:off x="321516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9" name="PlaceHolder 7"/>
          <p:cNvSpPr>
            <a:spLocks noGrp="1"/>
          </p:cNvSpPr>
          <p:nvPr>
            <p:ph/>
          </p:nvPr>
        </p:nvSpPr>
        <p:spPr>
          <a:xfrm>
            <a:off x="604944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08A0634-F26E-4BBA-98C6-EE1CA75CE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FED42E4-2021-453B-BB0B-CB5FE784C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A83F382-3375-478C-8D9B-AF5464019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4DCFBF1-3658-48DA-B581-AA7F6AE22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46"/>
          <p:cNvSpPr/>
          <p:nvPr/>
        </p:nvSpPr>
        <p:spPr>
          <a:xfrm>
            <a:off x="0" y="629604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" name="Rectangle 45"/>
          <p:cNvSpPr/>
          <p:nvPr/>
        </p:nvSpPr>
        <p:spPr>
          <a:xfrm>
            <a:off x="0" y="83808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7086240" y="6308280"/>
            <a:ext cx="1328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13 Oct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58560" y="6308280"/>
            <a:ext cx="689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iTcl &amp; TclOO: From the perspective of a simple 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534520" y="630036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l-GR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65CBF-0310-4412-8477-B656F5D47DAE}" type="slidenum">
              <a:rPr b="0" i="1" lang="el-GR" sz="1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Line 32"/>
          <p:cNvSpPr/>
          <p:nvPr/>
        </p:nvSpPr>
        <p:spPr>
          <a:xfrm flipH="1">
            <a:off x="75960" y="838080"/>
            <a:ext cx="891540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8" name="Picture 51" descr=""/>
          <p:cNvPicPr/>
          <p:nvPr/>
        </p:nvPicPr>
        <p:blipFill>
          <a:blip r:embed="rId2"/>
          <a:stretch/>
        </p:blipFill>
        <p:spPr>
          <a:xfrm>
            <a:off x="71280" y="81000"/>
            <a:ext cx="648000" cy="646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46"/>
          <p:cNvSpPr/>
          <p:nvPr/>
        </p:nvSpPr>
        <p:spPr>
          <a:xfrm>
            <a:off x="0" y="629604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06" name="Rectangle 45"/>
          <p:cNvSpPr/>
          <p:nvPr/>
        </p:nvSpPr>
        <p:spPr>
          <a:xfrm>
            <a:off x="0" y="83808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07" name="Line 32"/>
          <p:cNvSpPr/>
          <p:nvPr/>
        </p:nvSpPr>
        <p:spPr>
          <a:xfrm flipH="1">
            <a:off x="75960" y="838080"/>
            <a:ext cx="891540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408" name="Picture 51" descr=""/>
          <p:cNvPicPr/>
          <p:nvPr/>
        </p:nvPicPr>
        <p:blipFill>
          <a:blip r:embed="rId2"/>
          <a:stretch/>
        </p:blipFill>
        <p:spPr>
          <a:xfrm>
            <a:off x="71280" y="81000"/>
            <a:ext cx="648000" cy="646200"/>
          </a:xfrm>
          <a:prstGeom prst="rect">
            <a:avLst/>
          </a:prstGeom>
          <a:ln w="0">
            <a:noFill/>
          </a:ln>
        </p:spPr>
      </p:pic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 type="dt" idx="26"/>
          </p:nvPr>
        </p:nvSpPr>
        <p:spPr>
          <a:xfrm>
            <a:off x="7086240" y="6308280"/>
            <a:ext cx="1328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13 Oct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 type="ftr" idx="27"/>
          </p:nvPr>
        </p:nvSpPr>
        <p:spPr>
          <a:xfrm>
            <a:off x="358560" y="6308280"/>
            <a:ext cx="689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iTcl &amp; TclOO: From the perspective of a simple 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 type="sldNum" idx="28"/>
          </p:nvPr>
        </p:nvSpPr>
        <p:spPr>
          <a:xfrm>
            <a:off x="8534520" y="630036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1D70A-4491-4455-82A5-9FA662522E95}" type="slidenum"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46"/>
          <p:cNvSpPr/>
          <p:nvPr/>
        </p:nvSpPr>
        <p:spPr>
          <a:xfrm>
            <a:off x="0" y="629604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51" name="Rectangle 45"/>
          <p:cNvSpPr/>
          <p:nvPr/>
        </p:nvSpPr>
        <p:spPr>
          <a:xfrm>
            <a:off x="0" y="83808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52" name="Line 32"/>
          <p:cNvSpPr/>
          <p:nvPr/>
        </p:nvSpPr>
        <p:spPr>
          <a:xfrm flipH="1">
            <a:off x="75960" y="838080"/>
            <a:ext cx="891540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453" name="Picture 51" descr=""/>
          <p:cNvPicPr/>
          <p:nvPr/>
        </p:nvPicPr>
        <p:blipFill>
          <a:blip r:embed="rId2"/>
          <a:stretch/>
        </p:blipFill>
        <p:spPr>
          <a:xfrm>
            <a:off x="71280" y="81000"/>
            <a:ext cx="648000" cy="646200"/>
          </a:xfrm>
          <a:prstGeom prst="rect">
            <a:avLst/>
          </a:prstGeom>
          <a:ln w="0">
            <a:noFill/>
          </a:ln>
        </p:spPr>
      </p:pic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29"/>
          </p:nvPr>
        </p:nvSpPr>
        <p:spPr>
          <a:xfrm>
            <a:off x="7086240" y="6308280"/>
            <a:ext cx="1328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13 Oct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30"/>
          </p:nvPr>
        </p:nvSpPr>
        <p:spPr>
          <a:xfrm>
            <a:off x="358560" y="6308280"/>
            <a:ext cx="689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iTcl &amp; TclOO: From the perspective of a simple 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1"/>
          </p:nvPr>
        </p:nvSpPr>
        <p:spPr>
          <a:xfrm>
            <a:off x="8534520" y="630036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0B773-A56A-4D80-84DC-09F92A462E46}" type="slidenum"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Line 10"/>
          <p:cNvSpPr/>
          <p:nvPr/>
        </p:nvSpPr>
        <p:spPr>
          <a:xfrm flipH="1">
            <a:off x="304920" y="2362320"/>
            <a:ext cx="853416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6" name="Line 11"/>
          <p:cNvSpPr/>
          <p:nvPr/>
        </p:nvSpPr>
        <p:spPr>
          <a:xfrm>
            <a:off x="4267080" y="2209680"/>
            <a:ext cx="0" cy="221004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7" name="Line 12"/>
          <p:cNvSpPr/>
          <p:nvPr/>
        </p:nvSpPr>
        <p:spPr>
          <a:xfrm>
            <a:off x="539640" y="990720"/>
            <a:ext cx="0" cy="213336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8" name="Rectangle 49"/>
          <p:cNvSpPr/>
          <p:nvPr/>
        </p:nvSpPr>
        <p:spPr>
          <a:xfrm>
            <a:off x="0" y="548640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9" name="Text Box 51"/>
          <p:cNvSpPr/>
          <p:nvPr/>
        </p:nvSpPr>
        <p:spPr>
          <a:xfrm>
            <a:off x="2152800" y="5516640"/>
            <a:ext cx="551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nstitute of Informatics</a:t>
            </a:r>
            <a:r>
              <a:rPr b="0" i="1" lang="el-GR" sz="1400" spc="-1" strike="noStrike">
                <a:solidFill>
                  <a:srgbClr val="4d4d4d"/>
                </a:solidFill>
                <a:latin typeface="Verdana"/>
              </a:rPr>
              <a:t> &amp; </a:t>
            </a: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Telecommunications</a:t>
            </a:r>
            <a:r>
              <a:rPr b="0" i="1" lang="el-GR" sz="1400" spc="-1" strike="noStrike">
                <a:solidFill>
                  <a:srgbClr val="4d4d4d"/>
                </a:solidFill>
                <a:latin typeface="Verdana"/>
              </a:rPr>
              <a:t> – </a:t>
            </a: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NCSR</a:t>
            </a:r>
            <a:r>
              <a:rPr b="0" i="1" lang="el-GR" sz="14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“Demokritos”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50" name="Picture 54" descr=""/>
          <p:cNvPicPr/>
          <p:nvPr/>
        </p:nvPicPr>
        <p:blipFill>
          <a:blip r:embed="rId2"/>
          <a:stretch/>
        </p:blipFill>
        <p:spPr>
          <a:xfrm>
            <a:off x="250920" y="5084640"/>
            <a:ext cx="1025280" cy="10242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sldNum" idx="4"/>
          </p:nvPr>
        </p:nvSpPr>
        <p:spPr>
          <a:xfrm>
            <a:off x="8305560" y="6248160"/>
            <a:ext cx="6858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6666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6B9C9-E56B-4359-95E1-3DCF13277ADC}" type="slidenum">
              <a:rPr b="0" i="1" lang="en-US" sz="1400" spc="-1" strike="noStrike">
                <a:solidFill>
                  <a:srgbClr val="6666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46"/>
          <p:cNvSpPr/>
          <p:nvPr/>
        </p:nvSpPr>
        <p:spPr>
          <a:xfrm>
            <a:off x="0" y="629604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1" name="Rectangle 45"/>
          <p:cNvSpPr/>
          <p:nvPr/>
        </p:nvSpPr>
        <p:spPr>
          <a:xfrm>
            <a:off x="0" y="83808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2" name="Line 32"/>
          <p:cNvSpPr/>
          <p:nvPr/>
        </p:nvSpPr>
        <p:spPr>
          <a:xfrm flipH="1">
            <a:off x="75960" y="838080"/>
            <a:ext cx="891540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93" name="Picture 51" descr=""/>
          <p:cNvPicPr/>
          <p:nvPr/>
        </p:nvPicPr>
        <p:blipFill>
          <a:blip r:embed="rId2"/>
          <a:stretch/>
        </p:blipFill>
        <p:spPr>
          <a:xfrm>
            <a:off x="71280" y="81000"/>
            <a:ext cx="648000" cy="6462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5"/>
          </p:nvPr>
        </p:nvSpPr>
        <p:spPr>
          <a:xfrm>
            <a:off x="7086240" y="6308280"/>
            <a:ext cx="1328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13 Oct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6"/>
          </p:nvPr>
        </p:nvSpPr>
        <p:spPr>
          <a:xfrm>
            <a:off x="358560" y="6308280"/>
            <a:ext cx="689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iTcl &amp; TclOO: From the perspective of a simple 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7"/>
          </p:nvPr>
        </p:nvSpPr>
        <p:spPr>
          <a:xfrm>
            <a:off x="8534520" y="630036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3368B-A23F-4BE7-B66C-788DF40DA5EC}" type="slidenum"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46"/>
          <p:cNvSpPr/>
          <p:nvPr/>
        </p:nvSpPr>
        <p:spPr>
          <a:xfrm>
            <a:off x="0" y="629604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6" name="Rectangle 45"/>
          <p:cNvSpPr/>
          <p:nvPr/>
        </p:nvSpPr>
        <p:spPr>
          <a:xfrm>
            <a:off x="0" y="83808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7" name="Line 32"/>
          <p:cNvSpPr/>
          <p:nvPr/>
        </p:nvSpPr>
        <p:spPr>
          <a:xfrm flipH="1">
            <a:off x="75960" y="838080"/>
            <a:ext cx="891540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138" name="Picture 51" descr=""/>
          <p:cNvPicPr/>
          <p:nvPr/>
        </p:nvPicPr>
        <p:blipFill>
          <a:blip r:embed="rId2"/>
          <a:stretch/>
        </p:blipFill>
        <p:spPr>
          <a:xfrm>
            <a:off x="71280" y="81000"/>
            <a:ext cx="648000" cy="64620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8"/>
          </p:nvPr>
        </p:nvSpPr>
        <p:spPr>
          <a:xfrm>
            <a:off x="7086240" y="6308280"/>
            <a:ext cx="1328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13 Oct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9"/>
          </p:nvPr>
        </p:nvSpPr>
        <p:spPr>
          <a:xfrm>
            <a:off x="358560" y="6308280"/>
            <a:ext cx="689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iTcl &amp; TclOO: From the perspective of a simple 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10"/>
          </p:nvPr>
        </p:nvSpPr>
        <p:spPr>
          <a:xfrm>
            <a:off x="8534520" y="630036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9534A-3FC9-43B3-846F-E61C1DDE809C}" type="slidenum"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46"/>
          <p:cNvSpPr/>
          <p:nvPr/>
        </p:nvSpPr>
        <p:spPr>
          <a:xfrm>
            <a:off x="0" y="629604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81" name="Rectangle 45"/>
          <p:cNvSpPr/>
          <p:nvPr/>
        </p:nvSpPr>
        <p:spPr>
          <a:xfrm>
            <a:off x="0" y="83808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82" name="Line 32"/>
          <p:cNvSpPr/>
          <p:nvPr/>
        </p:nvSpPr>
        <p:spPr>
          <a:xfrm flipH="1">
            <a:off x="75960" y="838080"/>
            <a:ext cx="891540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183" name="Picture 51" descr=""/>
          <p:cNvPicPr/>
          <p:nvPr/>
        </p:nvPicPr>
        <p:blipFill>
          <a:blip r:embed="rId2"/>
          <a:stretch/>
        </p:blipFill>
        <p:spPr>
          <a:xfrm>
            <a:off x="71280" y="81000"/>
            <a:ext cx="648000" cy="646200"/>
          </a:xfrm>
          <a:prstGeom prst="rect">
            <a:avLst/>
          </a:prstGeom>
          <a:ln w="0">
            <a:noFill/>
          </a:ln>
        </p:spPr>
      </p:pic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 type="dt" idx="11"/>
          </p:nvPr>
        </p:nvSpPr>
        <p:spPr>
          <a:xfrm>
            <a:off x="7086240" y="6308280"/>
            <a:ext cx="1328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13 Oct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 type="ftr" idx="12"/>
          </p:nvPr>
        </p:nvSpPr>
        <p:spPr>
          <a:xfrm>
            <a:off x="358560" y="6308280"/>
            <a:ext cx="689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iTcl &amp; TclOO: From the perspective of a simple 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 type="sldNum" idx="13"/>
          </p:nvPr>
        </p:nvSpPr>
        <p:spPr>
          <a:xfrm>
            <a:off x="8534520" y="630036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AE34B-74B3-49E4-B4F1-027B6F7A1EA3}" type="slidenum"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46"/>
          <p:cNvSpPr/>
          <p:nvPr/>
        </p:nvSpPr>
        <p:spPr>
          <a:xfrm>
            <a:off x="0" y="629604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26" name="Rectangle 45"/>
          <p:cNvSpPr/>
          <p:nvPr/>
        </p:nvSpPr>
        <p:spPr>
          <a:xfrm>
            <a:off x="0" y="83808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27" name="Line 32"/>
          <p:cNvSpPr/>
          <p:nvPr/>
        </p:nvSpPr>
        <p:spPr>
          <a:xfrm flipH="1">
            <a:off x="75960" y="838080"/>
            <a:ext cx="891540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228" name="Picture 51" descr=""/>
          <p:cNvPicPr/>
          <p:nvPr/>
        </p:nvPicPr>
        <p:blipFill>
          <a:blip r:embed="rId2"/>
          <a:stretch/>
        </p:blipFill>
        <p:spPr>
          <a:xfrm>
            <a:off x="71280" y="81000"/>
            <a:ext cx="648000" cy="646200"/>
          </a:xfrm>
          <a:prstGeom prst="rect">
            <a:avLst/>
          </a:prstGeom>
          <a:ln w="0">
            <a:noFill/>
          </a:ln>
        </p:spPr>
      </p:pic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dt" idx="14"/>
          </p:nvPr>
        </p:nvSpPr>
        <p:spPr>
          <a:xfrm>
            <a:off x="7086240" y="6308280"/>
            <a:ext cx="1328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13 Oct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ftr" idx="15"/>
          </p:nvPr>
        </p:nvSpPr>
        <p:spPr>
          <a:xfrm>
            <a:off x="358560" y="6308280"/>
            <a:ext cx="689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iTcl &amp; TclOO: From the perspective of a simple 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sldNum" idx="16"/>
          </p:nvPr>
        </p:nvSpPr>
        <p:spPr>
          <a:xfrm>
            <a:off x="8534520" y="630036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2BC61-DAB3-4FC6-8417-23DFEF8BC6C6}" type="slidenum"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46"/>
          <p:cNvSpPr/>
          <p:nvPr/>
        </p:nvSpPr>
        <p:spPr>
          <a:xfrm>
            <a:off x="0" y="629604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71" name="Rectangle 45"/>
          <p:cNvSpPr/>
          <p:nvPr/>
        </p:nvSpPr>
        <p:spPr>
          <a:xfrm>
            <a:off x="0" y="83808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72" name="Line 32"/>
          <p:cNvSpPr/>
          <p:nvPr/>
        </p:nvSpPr>
        <p:spPr>
          <a:xfrm flipH="1">
            <a:off x="75960" y="838080"/>
            <a:ext cx="891540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273" name="Picture 51" descr=""/>
          <p:cNvPicPr/>
          <p:nvPr/>
        </p:nvPicPr>
        <p:blipFill>
          <a:blip r:embed="rId2"/>
          <a:stretch/>
        </p:blipFill>
        <p:spPr>
          <a:xfrm>
            <a:off x="71280" y="81000"/>
            <a:ext cx="648000" cy="64620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 type="dt" idx="17"/>
          </p:nvPr>
        </p:nvSpPr>
        <p:spPr>
          <a:xfrm>
            <a:off x="7086240" y="6308280"/>
            <a:ext cx="1328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13 Oct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 type="ftr" idx="18"/>
          </p:nvPr>
        </p:nvSpPr>
        <p:spPr>
          <a:xfrm>
            <a:off x="358560" y="6308280"/>
            <a:ext cx="689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iTcl &amp; TclOO: From the perspective of a simple 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 type="sldNum" idx="19"/>
          </p:nvPr>
        </p:nvSpPr>
        <p:spPr>
          <a:xfrm>
            <a:off x="8534520" y="630036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E952B-A7DB-49E0-A3DE-A7ABC2F6C447}" type="slidenum"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46"/>
          <p:cNvSpPr/>
          <p:nvPr/>
        </p:nvSpPr>
        <p:spPr>
          <a:xfrm>
            <a:off x="0" y="629604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16" name="Rectangle 45"/>
          <p:cNvSpPr/>
          <p:nvPr/>
        </p:nvSpPr>
        <p:spPr>
          <a:xfrm>
            <a:off x="0" y="83808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17" name="Line 32"/>
          <p:cNvSpPr/>
          <p:nvPr/>
        </p:nvSpPr>
        <p:spPr>
          <a:xfrm flipH="1">
            <a:off x="75960" y="838080"/>
            <a:ext cx="891540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318" name="Picture 51" descr=""/>
          <p:cNvPicPr/>
          <p:nvPr/>
        </p:nvPicPr>
        <p:blipFill>
          <a:blip r:embed="rId2"/>
          <a:stretch/>
        </p:blipFill>
        <p:spPr>
          <a:xfrm>
            <a:off x="71280" y="81000"/>
            <a:ext cx="648000" cy="646200"/>
          </a:xfrm>
          <a:prstGeom prst="rect">
            <a:avLst/>
          </a:prstGeom>
          <a:ln w="0">
            <a:noFill/>
          </a:ln>
        </p:spPr>
      </p:pic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dt" idx="20"/>
          </p:nvPr>
        </p:nvSpPr>
        <p:spPr>
          <a:xfrm>
            <a:off x="7086240" y="6308280"/>
            <a:ext cx="1328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13 Oct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ftr" idx="21"/>
          </p:nvPr>
        </p:nvSpPr>
        <p:spPr>
          <a:xfrm>
            <a:off x="358560" y="6308280"/>
            <a:ext cx="689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iTcl &amp; TclOO: From the perspective of a simple 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sldNum" idx="22"/>
          </p:nvPr>
        </p:nvSpPr>
        <p:spPr>
          <a:xfrm>
            <a:off x="8534520" y="630036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1A748-FD6B-4181-B53A-78D950DED11E}" type="slidenum"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46"/>
          <p:cNvSpPr/>
          <p:nvPr/>
        </p:nvSpPr>
        <p:spPr>
          <a:xfrm>
            <a:off x="0" y="629604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61" name="Rectangle 45"/>
          <p:cNvSpPr/>
          <p:nvPr/>
        </p:nvSpPr>
        <p:spPr>
          <a:xfrm>
            <a:off x="0" y="83808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62" name="Line 32"/>
          <p:cNvSpPr/>
          <p:nvPr/>
        </p:nvSpPr>
        <p:spPr>
          <a:xfrm flipH="1">
            <a:off x="75960" y="838080"/>
            <a:ext cx="891540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363" name="Picture 51" descr=""/>
          <p:cNvPicPr/>
          <p:nvPr/>
        </p:nvPicPr>
        <p:blipFill>
          <a:blip r:embed="rId2"/>
          <a:stretch/>
        </p:blipFill>
        <p:spPr>
          <a:xfrm>
            <a:off x="71280" y="81000"/>
            <a:ext cx="648000" cy="646200"/>
          </a:xfrm>
          <a:prstGeom prst="rect">
            <a:avLst/>
          </a:prstGeom>
          <a:ln w="0">
            <a:noFill/>
          </a:ln>
        </p:spPr>
      </p:pic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 type="dt" idx="23"/>
          </p:nvPr>
        </p:nvSpPr>
        <p:spPr>
          <a:xfrm>
            <a:off x="7086240" y="6308280"/>
            <a:ext cx="1328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13 Oct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 type="ftr" idx="24"/>
          </p:nvPr>
        </p:nvSpPr>
        <p:spPr>
          <a:xfrm>
            <a:off x="358560" y="6308280"/>
            <a:ext cx="689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iTcl &amp; TclOO: From the perspective of a simple 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 type="sldNum" idx="25"/>
          </p:nvPr>
        </p:nvSpPr>
        <p:spPr>
          <a:xfrm>
            <a:off x="8534520" y="630036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E2FE3-A0BA-473A-814A-DF3CDAEE3F75}" type="slidenum"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image" Target="../media/image15.png"/><Relationship Id="rId11" Type="http://schemas.openxmlformats.org/officeDocument/2006/relationships/image" Target="../media/image16.png"/><Relationship Id="rId12" Type="http://schemas.openxmlformats.org/officeDocument/2006/relationships/image" Target="../media/image17.png"/><Relationship Id="rId13" Type="http://schemas.openxmlformats.org/officeDocument/2006/relationships/image" Target="../media/image18.png"/><Relationship Id="rId14" Type="http://schemas.openxmlformats.org/officeDocument/2006/relationships/image" Target="../media/image19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20.png"/><Relationship Id="rId20" Type="http://schemas.openxmlformats.org/officeDocument/2006/relationships/image" Target="../media/image21.png"/><Relationship Id="rId21" Type="http://schemas.openxmlformats.org/officeDocument/2006/relationships/image" Target="../media/image22.png"/><Relationship Id="rId22" Type="http://schemas.openxmlformats.org/officeDocument/2006/relationships/image" Target="../media/image23.png"/><Relationship Id="rId23" Type="http://schemas.openxmlformats.org/officeDocument/2006/relationships/image" Target="../media/image24.png"/><Relationship Id="rId24" Type="http://schemas.openxmlformats.org/officeDocument/2006/relationships/image" Target="../media/image25.png"/><Relationship Id="rId25" Type="http://schemas.openxmlformats.org/officeDocument/2006/relationships/image" Target="../media/image26.png"/><Relationship Id="rId26" Type="http://schemas.openxmlformats.org/officeDocument/2006/relationships/image" Target="../media/image27.png"/><Relationship Id="rId27" Type="http://schemas.openxmlformats.org/officeDocument/2006/relationships/image" Target="../media/image15.png"/><Relationship Id="rId28" Type="http://schemas.openxmlformats.org/officeDocument/2006/relationships/image" Target="../media/image16.png"/><Relationship Id="rId29" Type="http://schemas.openxmlformats.org/officeDocument/2006/relationships/image" Target="../media/image28.png"/><Relationship Id="rId30" Type="http://schemas.openxmlformats.org/officeDocument/2006/relationships/image" Target="../media/image29.png"/><Relationship Id="rId31" Type="http://schemas.openxmlformats.org/officeDocument/2006/relationships/image" Target="../media/image30.png"/><Relationship Id="rId32" Type="http://schemas.openxmlformats.org/officeDocument/2006/relationships/image" Target="../media/image31.png"/><Relationship Id="rId33" Type="http://schemas.openxmlformats.org/officeDocument/2006/relationships/image" Target="../media/image32.png"/><Relationship Id="rId34" Type="http://schemas.openxmlformats.org/officeDocument/2006/relationships/image" Target="../media/image33.png"/><Relationship Id="rId35" Type="http://schemas.openxmlformats.org/officeDocument/2006/relationships/image" Target="../media/image30.png"/><Relationship Id="rId36" Type="http://schemas.openxmlformats.org/officeDocument/2006/relationships/image" Target="../media/image34.png"/><Relationship Id="rId37" Type="http://schemas.openxmlformats.org/officeDocument/2006/relationships/image" Target="../media/image35.png"/><Relationship Id="rId38" Type="http://schemas.openxmlformats.org/officeDocument/2006/relationships/image" Target="../media/image30.png"/><Relationship Id="rId39" Type="http://schemas.openxmlformats.org/officeDocument/2006/relationships/slideLayout" Target="../slideLayouts/slideLayout6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11.png"/><Relationship Id="rId3" Type="http://schemas.openxmlformats.org/officeDocument/2006/relationships/image" Target="../media/image8.png"/><Relationship Id="rId4" Type="http://schemas.openxmlformats.org/officeDocument/2006/relationships/image" Target="../media/image10.png"/><Relationship Id="rId5" Type="http://schemas.openxmlformats.org/officeDocument/2006/relationships/image" Target="../media/image37.png"/><Relationship Id="rId6" Type="http://schemas.openxmlformats.org/officeDocument/2006/relationships/image" Target="../media/image38.png"/><Relationship Id="rId7" Type="http://schemas.openxmlformats.org/officeDocument/2006/relationships/image" Target="../media/image39.png"/><Relationship Id="rId8" Type="http://schemas.openxmlformats.org/officeDocument/2006/relationships/image" Target="../media/image40.png"/><Relationship Id="rId9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6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6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6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6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6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6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6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6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6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Layout" Target="../slideLayouts/slideLayout6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slideLayout" Target="../slideLayouts/slideLayout6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6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6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4.png"/><Relationship Id="rId3" Type="http://schemas.openxmlformats.org/officeDocument/2006/relationships/slideLayout" Target="../slideLayouts/slideLayout6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hyperlink" Target="http://wiki.tcl.tk/21595#pagetoce30e53a1" TargetMode="External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ellogon.org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84000" y="990720"/>
            <a:ext cx="807876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Verdana"/>
              </a:rPr>
              <a:t>iTcl and TclOO</a:t>
            </a:r>
            <a:br>
              <a:rPr sz="2400"/>
            </a:b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From the perspective of a simple user</a:t>
            </a:r>
            <a:br>
              <a:rPr sz="2000"/>
            </a:b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subTitle"/>
          </p:nvPr>
        </p:nvSpPr>
        <p:spPr>
          <a:xfrm>
            <a:off x="4266720" y="2437920"/>
            <a:ext cx="4876920" cy="266724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Georgios Petasis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Verdana"/>
              </a:rPr>
              <a:t>Software and Knowledge Engineering Laboratory,</a:t>
            </a:r>
            <a:br>
              <a:rPr sz="1400"/>
            </a:br>
            <a:r>
              <a:rPr b="0" lang="en-GB" sz="1400" spc="-1" strike="noStrike">
                <a:solidFill>
                  <a:srgbClr val="000099"/>
                </a:solidFill>
                <a:latin typeface="Verdana"/>
              </a:rPr>
              <a:t>Institute of Informatics and Telecommunications,</a:t>
            </a:r>
            <a:br>
              <a:rPr sz="1400"/>
            </a:br>
            <a:r>
              <a:rPr b="0" lang="en-GB" sz="1400" spc="-1" strike="noStrike">
                <a:solidFill>
                  <a:srgbClr val="000099"/>
                </a:solidFill>
                <a:latin typeface="Verdana"/>
              </a:rPr>
              <a:t>National Centre for Scientific Research “Demokritos”,</a:t>
            </a:r>
            <a:br>
              <a:rPr sz="1400"/>
            </a:br>
            <a:r>
              <a:rPr b="0" lang="en-GB" sz="1400" spc="-1" strike="noStrike">
                <a:solidFill>
                  <a:srgbClr val="000099"/>
                </a:solidFill>
                <a:latin typeface="Verdana"/>
              </a:rPr>
              <a:t>Athens, Greece</a:t>
            </a:r>
            <a:br>
              <a:rPr sz="1400"/>
            </a:br>
            <a:r>
              <a:rPr b="0" lang="en-GB" sz="1400" spc="-1" strike="noStrike">
                <a:solidFill>
                  <a:srgbClr val="000099"/>
                </a:solidFill>
                <a:latin typeface="Verdana"/>
              </a:rPr>
              <a:t>petasis@iit.demokritos.g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orting from iTcl to TclOO (2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Largely a manual (and time consuming) effor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A helper Tcl script to perform “easy” substitution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Several months were needed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But, a few portions could not be ported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19960" indent="-22392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TclOO has some limitations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3" marL="1568160" indent="-223920">
              <a:spcBef>
                <a:spcPts val="499"/>
              </a:spcBef>
              <a:buClr>
                <a:srgbClr val="000099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Or do I have a bad programming style? </a:t>
            </a:r>
            <a:r>
              <a:rPr b="0" lang="en-US" sz="2000" spc="-1" strike="noStrike">
                <a:solidFill>
                  <a:srgbClr val="000099"/>
                </a:solidFill>
                <a:latin typeface="Wingdings"/>
                <a:ea typeface="Wingdings"/>
              </a:rPr>
              <a:t>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task is now largely finished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And the helper Tcl script got quite complex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nd what about other applications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How about turning the conversion script into an </a:t>
            </a:r>
            <a:r>
              <a:rPr b="0" lang="en-US" sz="2200" spc="-1" strike="noStrike">
                <a:solidFill>
                  <a:srgbClr val="ff0000"/>
                </a:solidFill>
                <a:latin typeface="Verdana"/>
              </a:rPr>
              <a:t>iTcl emulator</a:t>
            </a: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?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50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77144-62E5-4DDF-A268-7DAD2694346F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51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52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orting from iTcl to TclOO (3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distance of a script that reformats code from an emulator is a simple “eval” </a:t>
            </a:r>
            <a:r>
              <a:rPr b="0" lang="en-US" sz="2400" spc="-1" strike="noStrike">
                <a:solidFill>
                  <a:srgbClr val="000099"/>
                </a:solidFill>
                <a:latin typeface="Wingdings"/>
                <a:ea typeface="Wingdings"/>
              </a:rPr>
              <a:t>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 have created a small package that emulates iTc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630 lines of code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gnores less essential features (like protection)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The goal is to get my applications running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55" name="Slide Number Placeholder 5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7993D-CBCC-41CD-9370-661BF1B93B9D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56" name="Date Placeholder 6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57" name="Footer Placeholder 7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558" name="Picture 2" descr="C:\Users\George\Pictures\Editor-myItcl.png"/>
          <p:cNvPicPr/>
          <p:nvPr/>
        </p:nvPicPr>
        <p:blipFill>
          <a:blip r:embed="rId1"/>
          <a:stretch/>
        </p:blipFill>
        <p:spPr>
          <a:xfrm>
            <a:off x="457200" y="914400"/>
            <a:ext cx="8296200" cy="558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orting from iTcl to TclOO (4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 quick and simple approach actually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est application executes further than latest iTcl 4.0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Tcl 3.x object variable references (“@itcl …”) are converted to TclOO equivalen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But: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Not all code substitutions are performed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Adding the “my” keyword to existing code is tricky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4 regular expressions are not enough to handle thi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A package that “parses” Tcl is not available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Finally I gave up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no regular expressions for some cases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61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73F26-7F8B-46CE-AE32-DC353A40FB4A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62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63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500"/>
                            </p:stCondLst>
                            <p:childTnLst>
                              <p:par>
                                <p:cTn id="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orting: Differences (1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5" name=""/>
          <p:cNvSpPr txBox="1"/>
          <p:nvPr/>
        </p:nvSpPr>
        <p:spPr>
          <a:xfrm>
            <a:off x="380520" y="1294920"/>
            <a:ext cx="86108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Most notable differences between the two extensions: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No configure/cget on TclOO object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No common variables across objects of the same class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No “static” class methods (methods that do not require an object to be called)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Different semantics for variable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 specific method in the classes hierarchy of an object cannot be called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clOO requires the keyword “my” while calling methods from inside of an objec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66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A5CCF-92CD-4068-BB45-9893FB01D80D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67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68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orting: Differences (2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0" name=""/>
          <p:cNvSpPr txBox="1"/>
          <p:nvPr/>
        </p:nvSpPr>
        <p:spPr>
          <a:xfrm>
            <a:off x="380520" y="129492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Most notable differences between the two extensions: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clOO automatically exports methods that start with a lowercase letter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No facility for “local” to procedures objects (like itcl::local)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71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C2134-2468-4A9C-8247-F6589E9ADEE1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72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73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orting: Similaritie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575" name=""/>
          <p:cNvGraphicFramePr/>
          <p:nvPr/>
        </p:nvGraphicFramePr>
        <p:xfrm>
          <a:off x="1981080" y="1295280"/>
          <a:ext cx="5181840" cy="2595600"/>
        </p:xfrm>
        <a:graphic>
          <a:graphicData uri="http://schemas.openxmlformats.org/drawingml/2006/table">
            <a:tbl>
              <a:tblPr/>
              <a:tblGrid>
                <a:gridCol w="2590920"/>
                <a:gridCol w="2590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iTc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clO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9900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metho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my metho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$thi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[self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chain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nex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itcl::sco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my varname 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inheri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super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itcl::bod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oo::define bod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</a:tr>
            </a:tbl>
          </a:graphicData>
        </a:graphic>
      </p:graphicFrame>
      <p:sp>
        <p:nvSpPr>
          <p:cNvPr id="576" name="Content Placeholder 2"/>
          <p:cNvSpPr/>
          <p:nvPr/>
        </p:nvSpPr>
        <p:spPr>
          <a:xfrm>
            <a:off x="380880" y="4038480"/>
            <a:ext cx="838224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nteresting features of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Everything subclasses </a:t>
            </a:r>
            <a:r>
              <a:rPr b="0" lang="en-GB" sz="2400" spc="-1" strike="noStrike">
                <a:solidFill>
                  <a:srgbClr val="000099"/>
                </a:solidFill>
                <a:latin typeface="Verdana"/>
              </a:rPr>
              <a:t>oo::objec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Verdana"/>
              </a:rPr>
              <a:t>“</a:t>
            </a:r>
            <a:r>
              <a:rPr b="0" lang="en-GB" sz="2400" spc="-1" strike="noStrike">
                <a:solidFill>
                  <a:srgbClr val="000099"/>
                </a:solidFill>
                <a:latin typeface="Verdana"/>
              </a:rPr>
              <a:t>mixin”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Verdana"/>
              </a:rPr>
              <a:t>“</a:t>
            </a:r>
            <a:r>
              <a:rPr b="0" lang="en-GB" sz="2400" spc="-1" strike="noStrike">
                <a:solidFill>
                  <a:srgbClr val="000099"/>
                </a:solidFill>
                <a:latin typeface="Verdana"/>
              </a:rPr>
              <a:t>unknown” on object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Verdana"/>
              </a:rPr>
              <a:t>The “my” keyword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77" name="Slide Number Placeholder 6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BE98A-3E43-4338-99B1-6DAEAE7B9C96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78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79" name="Footer Placeholder 7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1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shock of Tcl 8.6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Porting existing code to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ase study: the Ellogon NLP platform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Tcl facilities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Organisation of classes in Ellogon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reating an Annotation Too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atenating Dialog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lusion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82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E5A84-E870-4993-81F7-C4183E56E3D3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83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84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ase study: the Ellogon NLP platform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6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Ellogon is an infrastructure for natural language processing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Provides facilities for managing corpora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Provides facilities for manually annotating corpora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Provides facilities for loading processing components, and apply them on corpora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Development started in 1998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 think with Tcl/Tk 8.1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~500.000 lines of C/C++/Tcl code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A lot of legacy code, especially in the GUI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No widespread use of tile/ttk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No OO (i.e. iTcl) in most parts of the code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87" name="Slide Number Placeholder 5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3D747-C1BE-4EB2-ABEF-1083A6133185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88" name="Date Placeholder 4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89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llogon Architecture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91" name="Group 3"/>
          <p:cNvGrpSpPr/>
          <p:nvPr/>
        </p:nvGrpSpPr>
        <p:grpSpPr>
          <a:xfrm>
            <a:off x="576360" y="1143000"/>
            <a:ext cx="7958160" cy="3995640"/>
            <a:chOff x="576360" y="1143000"/>
            <a:chExt cx="7958160" cy="3995640"/>
          </a:xfrm>
        </p:grpSpPr>
        <p:sp>
          <p:nvSpPr>
            <p:cNvPr id="592" name="AutoShape 4"/>
            <p:cNvSpPr/>
            <p:nvPr/>
          </p:nvSpPr>
          <p:spPr>
            <a:xfrm>
              <a:off x="576360" y="1143000"/>
              <a:ext cx="7958160" cy="3995640"/>
            </a:xfrm>
            <a:prstGeom prst="roundRect">
              <a:avLst>
                <a:gd name="adj" fmla="val 1755"/>
              </a:avLst>
            </a:prstGeom>
            <a:solidFill>
              <a:srgbClr val="ffffff"/>
            </a:solidFill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593" name="AutoShape 5"/>
            <p:cNvSpPr/>
            <p:nvPr/>
          </p:nvSpPr>
          <p:spPr>
            <a:xfrm>
              <a:off x="576360" y="1143000"/>
              <a:ext cx="7958160" cy="287280"/>
            </a:xfrm>
            <a:prstGeom prst="roundRect">
              <a:avLst>
                <a:gd name="adj" fmla="val 1755"/>
              </a:avLst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e8e6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594" name="Line 6"/>
            <p:cNvSpPr/>
            <p:nvPr/>
          </p:nvSpPr>
          <p:spPr>
            <a:xfrm>
              <a:off x="576360" y="1430280"/>
              <a:ext cx="7958160" cy="1800"/>
            </a:xfrm>
            <a:prstGeom prst="line">
              <a:avLst/>
            </a:prstGeom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grpSp>
        <p:nvGrpSpPr>
          <p:cNvPr id="595" name="Group 7"/>
          <p:cNvGrpSpPr/>
          <p:nvPr/>
        </p:nvGrpSpPr>
        <p:grpSpPr>
          <a:xfrm>
            <a:off x="614520" y="1467000"/>
            <a:ext cx="2700360" cy="1763640"/>
            <a:chOff x="614520" y="1467000"/>
            <a:chExt cx="2700360" cy="1763640"/>
          </a:xfrm>
        </p:grpSpPr>
        <p:sp>
          <p:nvSpPr>
            <p:cNvPr id="596" name="AutoShape 8"/>
            <p:cNvSpPr/>
            <p:nvPr/>
          </p:nvSpPr>
          <p:spPr>
            <a:xfrm>
              <a:off x="671760" y="1509840"/>
              <a:ext cx="2460600" cy="1649520"/>
            </a:xfrm>
            <a:prstGeom prst="roundRect">
              <a:avLst>
                <a:gd name="adj" fmla="val 1755"/>
              </a:avLst>
            </a:prstGeom>
            <a:gradFill rotWithShape="0">
              <a:gsLst>
                <a:gs pos="0">
                  <a:srgbClr val="f3f2f7"/>
                </a:gs>
                <a:gs pos="100000">
                  <a:srgbClr val="fdfdfb">
                    <a:alpha val="0"/>
                  </a:srgbClr>
                </a:gs>
              </a:gsLst>
              <a:lin ang="0"/>
            </a:gradFill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597" name="AutoShape 9"/>
            <p:cNvSpPr/>
            <p:nvPr/>
          </p:nvSpPr>
          <p:spPr>
            <a:xfrm>
              <a:off x="671760" y="1509840"/>
              <a:ext cx="2460600" cy="598680"/>
            </a:xfrm>
            <a:prstGeom prst="roundRect">
              <a:avLst>
                <a:gd name="adj" fmla="val 1755"/>
              </a:avLst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e8e6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598" name="Line 10"/>
            <p:cNvSpPr/>
            <p:nvPr/>
          </p:nvSpPr>
          <p:spPr>
            <a:xfrm>
              <a:off x="671760" y="2113200"/>
              <a:ext cx="2460600" cy="1440"/>
            </a:xfrm>
            <a:prstGeom prst="line">
              <a:avLst/>
            </a:prstGeom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599" name="Text Box 11"/>
            <p:cNvSpPr/>
            <p:nvPr/>
          </p:nvSpPr>
          <p:spPr>
            <a:xfrm>
              <a:off x="671760" y="1467000"/>
              <a:ext cx="2643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76889c"/>
                  </a:solidFill>
                  <a:latin typeface="Arial"/>
                </a:rPr>
                <a:t>Language Processing Components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pic>
          <p:nvPicPr>
            <p:cNvPr id="600" name="Picture 12" descr="execRed"/>
            <p:cNvPicPr/>
            <p:nvPr/>
          </p:nvPicPr>
          <p:blipFill>
            <a:blip r:embed="rId1"/>
            <a:stretch/>
          </p:blipFill>
          <p:spPr>
            <a:xfrm>
              <a:off x="614520" y="2009880"/>
              <a:ext cx="1220760" cy="1220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1" name="Picture 13" descr="exec"/>
            <p:cNvPicPr/>
            <p:nvPr/>
          </p:nvPicPr>
          <p:blipFill>
            <a:blip r:embed="rId2"/>
            <a:stretch/>
          </p:blipFill>
          <p:spPr>
            <a:xfrm>
              <a:off x="1044720" y="2011680"/>
              <a:ext cx="1219320" cy="121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2" name="Picture 14" descr="execOrange"/>
            <p:cNvPicPr/>
            <p:nvPr/>
          </p:nvPicPr>
          <p:blipFill>
            <a:blip r:embed="rId3"/>
            <a:stretch/>
          </p:blipFill>
          <p:spPr>
            <a:xfrm>
              <a:off x="1511280" y="2005200"/>
              <a:ext cx="1225800" cy="1225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3" name="Picture 15" descr="execGreen"/>
            <p:cNvPicPr/>
            <p:nvPr/>
          </p:nvPicPr>
          <p:blipFill>
            <a:blip r:embed="rId4"/>
            <a:stretch/>
          </p:blipFill>
          <p:spPr>
            <a:xfrm>
              <a:off x="1982880" y="2006640"/>
              <a:ext cx="1220760" cy="1221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04" name="Group 16"/>
          <p:cNvGrpSpPr/>
          <p:nvPr/>
        </p:nvGrpSpPr>
        <p:grpSpPr>
          <a:xfrm>
            <a:off x="3768840" y="1467000"/>
            <a:ext cx="3000240" cy="1691640"/>
            <a:chOff x="3768840" y="1467000"/>
            <a:chExt cx="3000240" cy="1691640"/>
          </a:xfrm>
        </p:grpSpPr>
        <p:grpSp>
          <p:nvGrpSpPr>
            <p:cNvPr id="605" name="Group 17"/>
            <p:cNvGrpSpPr/>
            <p:nvPr/>
          </p:nvGrpSpPr>
          <p:grpSpPr>
            <a:xfrm>
              <a:off x="3768840" y="1467000"/>
              <a:ext cx="3000240" cy="1691640"/>
              <a:chOff x="3768840" y="1467000"/>
              <a:chExt cx="3000240" cy="1691640"/>
            </a:xfrm>
          </p:grpSpPr>
          <p:grpSp>
            <p:nvGrpSpPr>
              <p:cNvPr id="606" name="Group 18"/>
              <p:cNvGrpSpPr/>
              <p:nvPr/>
            </p:nvGrpSpPr>
            <p:grpSpPr>
              <a:xfrm>
                <a:off x="3768840" y="1467000"/>
                <a:ext cx="3000240" cy="1691640"/>
                <a:chOff x="3768840" y="1467000"/>
                <a:chExt cx="3000240" cy="1691640"/>
              </a:xfrm>
            </p:grpSpPr>
            <p:sp>
              <p:nvSpPr>
                <p:cNvPr id="607" name="AutoShape 19"/>
                <p:cNvSpPr/>
                <p:nvPr/>
              </p:nvSpPr>
              <p:spPr>
                <a:xfrm>
                  <a:off x="3768840" y="1509480"/>
                  <a:ext cx="3000240" cy="1649160"/>
                </a:xfrm>
                <a:prstGeom prst="roundRect">
                  <a:avLst>
                    <a:gd name="adj" fmla="val 1755"/>
                  </a:avLst>
                </a:prstGeom>
                <a:gradFill rotWithShape="0">
                  <a:gsLst>
                    <a:gs pos="0">
                      <a:srgbClr val="f3f2f7"/>
                    </a:gs>
                    <a:gs pos="100000">
                      <a:srgbClr val="fdfdfb">
                        <a:alpha val="0"/>
                      </a:srgbClr>
                    </a:gs>
                  </a:gsLst>
                  <a:lin ang="0"/>
                </a:gradFill>
                <a:ln w="6480">
                  <a:solidFill>
                    <a:srgbClr val="94929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99"/>
                    </a:solidFill>
                    <a:latin typeface="Verdana"/>
                  </a:endParaRPr>
                </a:p>
              </p:txBody>
            </p:sp>
            <p:sp>
              <p:nvSpPr>
                <p:cNvPr id="608" name="AutoShape 20"/>
                <p:cNvSpPr/>
                <p:nvPr/>
              </p:nvSpPr>
              <p:spPr>
                <a:xfrm>
                  <a:off x="3768840" y="1509480"/>
                  <a:ext cx="3000240" cy="286920"/>
                </a:xfrm>
                <a:prstGeom prst="roundRect">
                  <a:avLst>
                    <a:gd name="adj" fmla="val 1755"/>
                  </a:avLst>
                </a:prstGeom>
                <a:gradFill rotWithShape="0">
                  <a:gsLst>
                    <a:gs pos="0">
                      <a:srgbClr val="ffffff">
                        <a:alpha val="0"/>
                      </a:srgbClr>
                    </a:gs>
                    <a:gs pos="100000">
                      <a:srgbClr val="e8e6e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99"/>
                    </a:solidFill>
                    <a:latin typeface="Verdana"/>
                  </a:endParaRPr>
                </a:p>
              </p:txBody>
            </p:sp>
            <p:sp>
              <p:nvSpPr>
                <p:cNvPr id="609" name="Line 21"/>
                <p:cNvSpPr/>
                <p:nvPr/>
              </p:nvSpPr>
              <p:spPr>
                <a:xfrm>
                  <a:off x="3768840" y="1796760"/>
                  <a:ext cx="3000240" cy="1440"/>
                </a:xfrm>
                <a:prstGeom prst="line">
                  <a:avLst/>
                </a:prstGeom>
                <a:ln w="6480">
                  <a:solidFill>
                    <a:srgbClr val="94929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99"/>
                    </a:solidFill>
                    <a:latin typeface="Verdana"/>
                  </a:endParaRPr>
                </a:p>
              </p:txBody>
            </p:sp>
            <p:sp>
              <p:nvSpPr>
                <p:cNvPr id="610" name="Text Box 22"/>
                <p:cNvSpPr/>
                <p:nvPr/>
              </p:nvSpPr>
              <p:spPr>
                <a:xfrm>
                  <a:off x="3779640" y="1467000"/>
                  <a:ext cx="26143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800" spc="-1" strike="noStrike">
                      <a:solidFill>
                        <a:srgbClr val="76889c"/>
                      </a:solidFill>
                      <a:latin typeface="Arial"/>
                    </a:rPr>
                    <a:t>Graphical Interface</a:t>
                  </a:r>
                  <a:endParaRPr b="0" lang="en-US" sz="1800" spc="-1" strike="noStrike">
                    <a:solidFill>
                      <a:srgbClr val="000099"/>
                    </a:solidFill>
                    <a:latin typeface="Verdana"/>
                  </a:endParaRPr>
                </a:p>
              </p:txBody>
            </p:sp>
          </p:grpSp>
          <p:pic>
            <p:nvPicPr>
              <p:cNvPr id="611" name="Picture 23" descr="EllogonMainWindows"/>
              <p:cNvPicPr/>
              <p:nvPr/>
            </p:nvPicPr>
            <p:blipFill>
              <a:blip r:embed="rId5"/>
              <a:stretch/>
            </p:blipFill>
            <p:spPr>
              <a:xfrm>
                <a:off x="3852720" y="1836720"/>
                <a:ext cx="1533240" cy="1118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12" name="Picture 24" descr="Ion2"/>
              <p:cNvPicPr/>
              <p:nvPr/>
            </p:nvPicPr>
            <p:blipFill>
              <a:blip r:embed="rId6"/>
              <a:stretch/>
            </p:blipFill>
            <p:spPr>
              <a:xfrm>
                <a:off x="4968720" y="1938240"/>
                <a:ext cx="1723680" cy="111096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613" name="Picture 25" descr="kappfinder"/>
            <p:cNvPicPr/>
            <p:nvPr/>
          </p:nvPicPr>
          <p:blipFill>
            <a:blip r:embed="rId7"/>
            <a:stretch/>
          </p:blipFill>
          <p:spPr>
            <a:xfrm>
              <a:off x="6200640" y="1477800"/>
              <a:ext cx="568080" cy="568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14" name="Group 26"/>
          <p:cNvGrpSpPr/>
          <p:nvPr/>
        </p:nvGrpSpPr>
        <p:grpSpPr>
          <a:xfrm>
            <a:off x="1300320" y="3209760"/>
            <a:ext cx="1040760" cy="489240"/>
            <a:chOff x="1300320" y="3209760"/>
            <a:chExt cx="1040760" cy="489240"/>
          </a:xfrm>
        </p:grpSpPr>
        <p:pic>
          <p:nvPicPr>
            <p:cNvPr id="615" name="Picture 27" descr="ArrowDown"/>
            <p:cNvPicPr/>
            <p:nvPr/>
          </p:nvPicPr>
          <p:blipFill>
            <a:blip r:embed="rId8"/>
            <a:stretch/>
          </p:blipFill>
          <p:spPr>
            <a:xfrm>
              <a:off x="1300320" y="3209760"/>
              <a:ext cx="517320" cy="489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6" name="Picture 28" descr="ArrowDown"/>
            <p:cNvPicPr/>
            <p:nvPr/>
          </p:nvPicPr>
          <p:blipFill>
            <a:blip r:embed="rId9"/>
            <a:stretch/>
          </p:blipFill>
          <p:spPr>
            <a:xfrm>
              <a:off x="1823760" y="3209760"/>
              <a:ext cx="517320" cy="489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17" name="Group 29"/>
          <p:cNvGrpSpPr/>
          <p:nvPr/>
        </p:nvGrpSpPr>
        <p:grpSpPr>
          <a:xfrm>
            <a:off x="4645080" y="3209760"/>
            <a:ext cx="1038240" cy="489240"/>
            <a:chOff x="4645080" y="3209760"/>
            <a:chExt cx="1038240" cy="489240"/>
          </a:xfrm>
        </p:grpSpPr>
        <p:pic>
          <p:nvPicPr>
            <p:cNvPr id="618" name="Picture 30" descr="ArrowDown"/>
            <p:cNvPicPr/>
            <p:nvPr/>
          </p:nvPicPr>
          <p:blipFill>
            <a:blip r:embed="rId10"/>
            <a:stretch/>
          </p:blipFill>
          <p:spPr>
            <a:xfrm>
              <a:off x="5166000" y="3209760"/>
              <a:ext cx="517320" cy="489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9" name="Picture 31" descr="ArrowDown"/>
            <p:cNvPicPr/>
            <p:nvPr/>
          </p:nvPicPr>
          <p:blipFill>
            <a:blip r:embed="rId11"/>
            <a:stretch/>
          </p:blipFill>
          <p:spPr>
            <a:xfrm>
              <a:off x="4645080" y="3209760"/>
              <a:ext cx="517680" cy="489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20" name="Group 32"/>
          <p:cNvGrpSpPr/>
          <p:nvPr/>
        </p:nvGrpSpPr>
        <p:grpSpPr>
          <a:xfrm>
            <a:off x="3200400" y="1790640"/>
            <a:ext cx="509760" cy="1057320"/>
            <a:chOff x="3200400" y="1790640"/>
            <a:chExt cx="509760" cy="1057320"/>
          </a:xfrm>
        </p:grpSpPr>
        <p:pic>
          <p:nvPicPr>
            <p:cNvPr id="621" name="Picture 33" descr="ArrowDown"/>
            <p:cNvPicPr/>
            <p:nvPr/>
          </p:nvPicPr>
          <p:blipFill>
            <a:blip r:embed="rId12"/>
            <a:stretch/>
          </p:blipFill>
          <p:spPr>
            <a:xfrm>
              <a:off x="3221280" y="1790640"/>
              <a:ext cx="488880" cy="51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2" name="Picture 34" descr="ArrowDown"/>
            <p:cNvPicPr/>
            <p:nvPr/>
          </p:nvPicPr>
          <p:blipFill>
            <a:blip r:embed="rId13"/>
            <a:stretch/>
          </p:blipFill>
          <p:spPr>
            <a:xfrm>
              <a:off x="3200400" y="2330280"/>
              <a:ext cx="489240" cy="517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23" name="Group 44"/>
          <p:cNvGrpSpPr/>
          <p:nvPr/>
        </p:nvGrpSpPr>
        <p:grpSpPr>
          <a:xfrm>
            <a:off x="6769080" y="1509840"/>
            <a:ext cx="1657080" cy="3522600"/>
            <a:chOff x="6769080" y="1509840"/>
            <a:chExt cx="1657080" cy="3522600"/>
          </a:xfrm>
        </p:grpSpPr>
        <p:sp>
          <p:nvSpPr>
            <p:cNvPr id="624" name="AutoShape 45"/>
            <p:cNvSpPr/>
            <p:nvPr/>
          </p:nvSpPr>
          <p:spPr>
            <a:xfrm>
              <a:off x="6987960" y="1509840"/>
              <a:ext cx="1438200" cy="3522600"/>
            </a:xfrm>
            <a:custGeom>
              <a:avLst/>
              <a:gdLst>
                <a:gd name="textAreaLeft" fmla="*/ 7200 w 1438200"/>
                <a:gd name="textAreaRight" fmla="*/ 1431000 w 1438200"/>
                <a:gd name="textAreaTop" fmla="*/ 7200 h 3522600"/>
                <a:gd name="textAreaBottom" fmla="*/ 3515400 h 3522600"/>
              </a:gdLst>
              <a:ahLst/>
              <a:rect l="textAreaLeft" t="textAreaTop" r="textAreaRight" b="textAreaBottom"/>
              <a:pathLst>
                <a:path w="21600" h="52897">
                  <a:moveTo>
                    <a:pt x="379" y="0"/>
                  </a:moveTo>
                  <a:arcTo wR="379" hR="379" stAng="16200000" swAng="-5400000"/>
                  <a:lnTo>
                    <a:pt x="0" y="52518"/>
                  </a:lnTo>
                  <a:arcTo wR="379" hR="379" stAng="10800000" swAng="-5400000"/>
                  <a:lnTo>
                    <a:pt x="21221" y="52897"/>
                  </a:lnTo>
                  <a:arcTo wR="379" hR="379" stAng="5400000" swAng="-5400000"/>
                  <a:lnTo>
                    <a:pt x="21600" y="379"/>
                  </a:lnTo>
                  <a:arcTo wR="379" hR="379" stAng="0" swAng="-5400000"/>
                  <a:close/>
                </a:path>
              </a:pathLst>
            </a:custGeom>
            <a:blipFill rotWithShape="0">
              <a:blip r:embed="rId14"/>
              <a:srcRect/>
              <a:tile tx="0" ty="0" sx="100000" sy="100000" algn="ctr"/>
            </a:blipFill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25" name="AutoShape 46"/>
            <p:cNvSpPr/>
            <p:nvPr/>
          </p:nvSpPr>
          <p:spPr>
            <a:xfrm>
              <a:off x="6991200" y="1514520"/>
              <a:ext cx="282600" cy="3516120"/>
            </a:xfrm>
            <a:custGeom>
              <a:avLst/>
              <a:gdLst>
                <a:gd name="textAreaLeft" fmla="*/ 8280 w 282600"/>
                <a:gd name="textAreaRight" fmla="*/ 274320 w 282600"/>
                <a:gd name="textAreaTop" fmla="*/ 8280 h 3516120"/>
                <a:gd name="textAreaBottom" fmla="*/ 3507840 h 3516120"/>
              </a:gdLst>
              <a:ahLst/>
              <a:rect l="textAreaLeft" t="textAreaTop" r="textAreaRight" b="textAreaBottom"/>
              <a:pathLst>
                <a:path w="21600" h="268434">
                  <a:moveTo>
                    <a:pt x="2184" y="0"/>
                  </a:moveTo>
                  <a:arcTo wR="2184" hR="2184" stAng="16200000" swAng="-5400000"/>
                  <a:lnTo>
                    <a:pt x="0" y="266250"/>
                  </a:lnTo>
                  <a:arcTo wR="2184" hR="2184" stAng="10800000" swAng="-5400000"/>
                  <a:lnTo>
                    <a:pt x="19416" y="268434"/>
                  </a:lnTo>
                  <a:arcTo wR="2184" hR="2184" stAng="5400000" swAng="-5400000"/>
                  <a:lnTo>
                    <a:pt x="21600" y="2184"/>
                  </a:lnTo>
                  <a:arcTo wR="2184" hR="2184" stAng="0" swAng="-5400000"/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8e6e9"/>
                </a:gs>
              </a:gsLst>
              <a:lin ang="0"/>
            </a:gradFill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26" name="Text Box 47"/>
            <p:cNvSpPr/>
            <p:nvPr/>
          </p:nvSpPr>
          <p:spPr>
            <a:xfrm flipV="1">
              <a:off x="6876720" y="2633760"/>
              <a:ext cx="454680" cy="228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76889c"/>
                  </a:solidFill>
                  <a:latin typeface="Arial"/>
                </a:rPr>
                <a:t>Services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27" name="Text Box 48"/>
            <p:cNvSpPr/>
            <p:nvPr/>
          </p:nvSpPr>
          <p:spPr>
            <a:xfrm>
              <a:off x="7273800" y="1509840"/>
              <a:ext cx="1152360" cy="339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9900"/>
                  </a:solidFill>
                  <a:latin typeface="Arial"/>
                </a:rPr>
                <a:t>Internet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9900"/>
                  </a:solidFill>
                  <a:latin typeface="Arial"/>
                </a:rPr>
                <a:t>(HTTP, FTP, SOAP)</a:t>
              </a:r>
              <a:endParaRPr b="0" lang="en-US" sz="900" spc="-1" strike="noStrike">
                <a:solidFill>
                  <a:srgbClr val="000099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cc"/>
                  </a:solidFill>
                  <a:latin typeface="Arial"/>
                </a:rPr>
                <a:t>Operating System Services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cc"/>
                  </a:solidFill>
                  <a:latin typeface="Arial"/>
                </a:rPr>
                <a:t>(ActiveX, COM, DDE)</a:t>
              </a:r>
              <a:endParaRPr b="0" lang="en-US" sz="900" spc="-1" strike="noStrike">
                <a:solidFill>
                  <a:srgbClr val="000099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9900"/>
                  </a:solidFill>
                  <a:latin typeface="Arial"/>
                </a:rPr>
                <a:t>Database </a:t>
              </a:r>
              <a:r>
                <a:rPr b="1" lang="en-US" sz="1400" spc="-1" strike="noStrike">
                  <a:solidFill>
                    <a:srgbClr val="cc9900"/>
                  </a:solidFill>
                  <a:latin typeface="Arial"/>
                </a:rPr>
                <a:t>Connectivity</a:t>
              </a:r>
              <a:endParaRPr b="0" lang="en-US" sz="1400" spc="-1" strike="noStrike">
                <a:solidFill>
                  <a:srgbClr val="000099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cc9900"/>
                  </a:solidFill>
                  <a:latin typeface="Arial"/>
                </a:rPr>
                <a:t>(ODBC)</a:t>
              </a:r>
              <a:endParaRPr b="0" lang="en-US" sz="900" spc="-1" strike="noStrike">
                <a:solidFill>
                  <a:srgbClr val="000099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76889c"/>
                  </a:solidFill>
                  <a:latin typeface="Arial"/>
                </a:rPr>
                <a:t>…</a:t>
              </a:r>
              <a:endParaRPr b="0" lang="en-US" sz="36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pic>
          <p:nvPicPr>
            <p:cNvPr id="628" name="Picture 49" descr="ArrowDown"/>
            <p:cNvPicPr/>
            <p:nvPr/>
          </p:nvPicPr>
          <p:blipFill>
            <a:blip r:embed="rId15"/>
            <a:stretch/>
          </p:blipFill>
          <p:spPr>
            <a:xfrm>
              <a:off x="6802200" y="1971720"/>
              <a:ext cx="219240" cy="231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9" name="Picture 50" descr="ArrowDown"/>
            <p:cNvPicPr/>
            <p:nvPr/>
          </p:nvPicPr>
          <p:blipFill>
            <a:blip r:embed="rId16"/>
            <a:stretch/>
          </p:blipFill>
          <p:spPr>
            <a:xfrm>
              <a:off x="6769080" y="2279520"/>
              <a:ext cx="218880" cy="231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0" name="Picture 51" descr="ArrowDown"/>
            <p:cNvPicPr/>
            <p:nvPr/>
          </p:nvPicPr>
          <p:blipFill>
            <a:blip r:embed="rId17"/>
            <a:stretch/>
          </p:blipFill>
          <p:spPr>
            <a:xfrm>
              <a:off x="6789600" y="4511520"/>
              <a:ext cx="218880" cy="231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1" name="Picture 52" descr="ArrowDown"/>
            <p:cNvPicPr/>
            <p:nvPr/>
          </p:nvPicPr>
          <p:blipFill>
            <a:blip r:embed="rId18"/>
            <a:stretch/>
          </p:blipFill>
          <p:spPr>
            <a:xfrm>
              <a:off x="6769080" y="4222800"/>
              <a:ext cx="218880" cy="231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32" name="Group 53"/>
          <p:cNvGrpSpPr/>
          <p:nvPr/>
        </p:nvGrpSpPr>
        <p:grpSpPr>
          <a:xfrm>
            <a:off x="576360" y="5403960"/>
            <a:ext cx="2738520" cy="887400"/>
            <a:chOff x="576360" y="5403960"/>
            <a:chExt cx="2738520" cy="887400"/>
          </a:xfrm>
        </p:grpSpPr>
        <p:sp>
          <p:nvSpPr>
            <p:cNvPr id="633" name="AutoShape 54"/>
            <p:cNvSpPr/>
            <p:nvPr/>
          </p:nvSpPr>
          <p:spPr>
            <a:xfrm>
              <a:off x="578160" y="5445000"/>
              <a:ext cx="2736720" cy="822600"/>
            </a:xfrm>
            <a:prstGeom prst="roundRect">
              <a:avLst>
                <a:gd name="adj" fmla="val 7144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34" name="AutoShape 55"/>
            <p:cNvSpPr/>
            <p:nvPr/>
          </p:nvSpPr>
          <p:spPr>
            <a:xfrm>
              <a:off x="576360" y="5446800"/>
              <a:ext cx="2738520" cy="820800"/>
            </a:xfrm>
            <a:prstGeom prst="roundRect">
              <a:avLst>
                <a:gd name="adj" fmla="val 5801"/>
              </a:avLst>
            </a:prstGeom>
            <a:gradFill rotWithShape="0">
              <a:gsLst>
                <a:gs pos="0">
                  <a:srgbClr val="ffffcc"/>
                </a:gs>
                <a:gs pos="100000">
                  <a:srgbClr val="fdfdfb">
                    <a:alpha val="0"/>
                  </a:srgbClr>
                </a:gs>
              </a:gsLst>
              <a:lin ang="0"/>
            </a:gradFill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35" name="AutoShape 56"/>
            <p:cNvSpPr/>
            <p:nvPr/>
          </p:nvSpPr>
          <p:spPr>
            <a:xfrm>
              <a:off x="578160" y="5446800"/>
              <a:ext cx="2736720" cy="287280"/>
            </a:xfrm>
            <a:prstGeom prst="roundRect">
              <a:avLst>
                <a:gd name="adj" fmla="val 9394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8e6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36" name="Line 57"/>
            <p:cNvSpPr/>
            <p:nvPr/>
          </p:nvSpPr>
          <p:spPr>
            <a:xfrm>
              <a:off x="578160" y="5734080"/>
              <a:ext cx="2736720" cy="0"/>
            </a:xfrm>
            <a:prstGeom prst="line">
              <a:avLst/>
            </a:prstGeom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37" name="Text Box 58"/>
            <p:cNvSpPr/>
            <p:nvPr/>
          </p:nvSpPr>
          <p:spPr>
            <a:xfrm>
              <a:off x="576360" y="5403960"/>
              <a:ext cx="2614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76889c"/>
                  </a:solidFill>
                  <a:latin typeface="Arial"/>
                </a:rPr>
                <a:t>Operating System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pic>
          <p:nvPicPr>
            <p:cNvPr id="638" name="Picture 59" descr="penguin"/>
            <p:cNvPicPr/>
            <p:nvPr/>
          </p:nvPicPr>
          <p:blipFill>
            <a:blip r:embed="rId19"/>
            <a:stretch/>
          </p:blipFill>
          <p:spPr>
            <a:xfrm>
              <a:off x="2756160" y="5770440"/>
              <a:ext cx="485640" cy="48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9" name="Picture 60" descr="Windows"/>
            <p:cNvPicPr/>
            <p:nvPr/>
          </p:nvPicPr>
          <p:blipFill>
            <a:blip r:embed="rId20"/>
            <a:stretch/>
          </p:blipFill>
          <p:spPr>
            <a:xfrm>
              <a:off x="2233800" y="5727600"/>
              <a:ext cx="528480" cy="56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0" name="Picture 61" descr="folder3"/>
            <p:cNvPicPr/>
            <p:nvPr/>
          </p:nvPicPr>
          <p:blipFill>
            <a:blip r:embed="rId21"/>
            <a:stretch/>
          </p:blipFill>
          <p:spPr>
            <a:xfrm>
              <a:off x="613080" y="5745240"/>
              <a:ext cx="485640" cy="48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1" name="Picture 62" descr="folder3_green"/>
            <p:cNvPicPr/>
            <p:nvPr/>
          </p:nvPicPr>
          <p:blipFill>
            <a:blip r:embed="rId22"/>
            <a:stretch/>
          </p:blipFill>
          <p:spPr>
            <a:xfrm>
              <a:off x="936720" y="5745240"/>
              <a:ext cx="486000" cy="48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2" name="Picture 63" descr="folder3_grey"/>
            <p:cNvPicPr/>
            <p:nvPr/>
          </p:nvPicPr>
          <p:blipFill>
            <a:blip r:embed="rId23"/>
            <a:stretch/>
          </p:blipFill>
          <p:spPr>
            <a:xfrm>
              <a:off x="1260720" y="5745240"/>
              <a:ext cx="485640" cy="48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3" name="Picture 64" descr="folder3_yellow"/>
            <p:cNvPicPr/>
            <p:nvPr/>
          </p:nvPicPr>
          <p:blipFill>
            <a:blip r:embed="rId24"/>
            <a:stretch/>
          </p:blipFill>
          <p:spPr>
            <a:xfrm>
              <a:off x="1603440" y="5745240"/>
              <a:ext cx="486000" cy="485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44" name="Group 68"/>
          <p:cNvGrpSpPr/>
          <p:nvPr/>
        </p:nvGrpSpPr>
        <p:grpSpPr>
          <a:xfrm>
            <a:off x="7461360" y="5427720"/>
            <a:ext cx="1071360" cy="846000"/>
            <a:chOff x="7461360" y="5427720"/>
            <a:chExt cx="1071360" cy="846000"/>
          </a:xfrm>
        </p:grpSpPr>
        <p:sp>
          <p:nvSpPr>
            <p:cNvPr id="645" name="AutoShape 69"/>
            <p:cNvSpPr/>
            <p:nvPr/>
          </p:nvSpPr>
          <p:spPr>
            <a:xfrm>
              <a:off x="7462800" y="5451480"/>
              <a:ext cx="1069560" cy="822240"/>
            </a:xfrm>
            <a:prstGeom prst="roundRect">
              <a:avLst>
                <a:gd name="adj" fmla="val 7144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46" name="AutoShape 70"/>
            <p:cNvSpPr/>
            <p:nvPr/>
          </p:nvSpPr>
          <p:spPr>
            <a:xfrm>
              <a:off x="7461360" y="5452920"/>
              <a:ext cx="1071360" cy="820800"/>
            </a:xfrm>
            <a:prstGeom prst="roundRect">
              <a:avLst>
                <a:gd name="adj" fmla="val 5801"/>
              </a:avLst>
            </a:prstGeom>
            <a:gradFill rotWithShape="0">
              <a:gsLst>
                <a:gs pos="0">
                  <a:srgbClr val="ff0000">
                    <a:alpha val="50196"/>
                  </a:srgbClr>
                </a:gs>
                <a:gs pos="100000">
                  <a:srgbClr val="fdfdfb"/>
                </a:gs>
              </a:gsLst>
              <a:lin ang="0"/>
            </a:gradFill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47" name="AutoShape 71"/>
            <p:cNvSpPr/>
            <p:nvPr/>
          </p:nvSpPr>
          <p:spPr>
            <a:xfrm>
              <a:off x="7462800" y="5452920"/>
              <a:ext cx="1069560" cy="187560"/>
            </a:xfrm>
            <a:prstGeom prst="roundRect">
              <a:avLst>
                <a:gd name="adj" fmla="val 9394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8e6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48" name="Line 72"/>
            <p:cNvSpPr/>
            <p:nvPr/>
          </p:nvSpPr>
          <p:spPr>
            <a:xfrm>
              <a:off x="7462800" y="5645160"/>
              <a:ext cx="1069560" cy="0"/>
            </a:xfrm>
            <a:prstGeom prst="line">
              <a:avLst/>
            </a:prstGeom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49" name="Text Box 73"/>
            <p:cNvSpPr/>
            <p:nvPr/>
          </p:nvSpPr>
          <p:spPr>
            <a:xfrm>
              <a:off x="7461360" y="5427720"/>
              <a:ext cx="1071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76889c"/>
                  </a:solidFill>
                  <a:latin typeface="Arial"/>
                </a:rPr>
                <a:t>???</a:t>
              </a:r>
              <a:endParaRPr b="0" lang="en-US" sz="14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pic>
          <p:nvPicPr>
            <p:cNvPr id="650" name="Picture 74" descr="folder2_grey"/>
            <p:cNvPicPr/>
            <p:nvPr/>
          </p:nvPicPr>
          <p:blipFill>
            <a:blip r:embed="rId25"/>
            <a:stretch/>
          </p:blipFill>
          <p:spPr>
            <a:xfrm>
              <a:off x="7464240" y="5662440"/>
              <a:ext cx="607680" cy="60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1" name="Picture 75" descr="unknown2"/>
            <p:cNvPicPr/>
            <p:nvPr/>
          </p:nvPicPr>
          <p:blipFill>
            <a:blip r:embed="rId26"/>
            <a:stretch/>
          </p:blipFill>
          <p:spPr>
            <a:xfrm>
              <a:off x="7856280" y="5643360"/>
              <a:ext cx="593280" cy="594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52" name="Group 76"/>
          <p:cNvGrpSpPr/>
          <p:nvPr/>
        </p:nvGrpSpPr>
        <p:grpSpPr>
          <a:xfrm>
            <a:off x="1405080" y="4995720"/>
            <a:ext cx="1055160" cy="489240"/>
            <a:chOff x="1405080" y="4995720"/>
            <a:chExt cx="1055160" cy="489240"/>
          </a:xfrm>
        </p:grpSpPr>
        <p:pic>
          <p:nvPicPr>
            <p:cNvPr id="653" name="Picture 77" descr="ArrowDown"/>
            <p:cNvPicPr/>
            <p:nvPr/>
          </p:nvPicPr>
          <p:blipFill>
            <a:blip r:embed="rId27"/>
            <a:stretch/>
          </p:blipFill>
          <p:spPr>
            <a:xfrm>
              <a:off x="1942920" y="4995720"/>
              <a:ext cx="517320" cy="489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4" name="Picture 78" descr="ArrowDown"/>
            <p:cNvPicPr/>
            <p:nvPr/>
          </p:nvPicPr>
          <p:blipFill>
            <a:blip r:embed="rId28"/>
            <a:stretch/>
          </p:blipFill>
          <p:spPr>
            <a:xfrm>
              <a:off x="1405080" y="4995720"/>
              <a:ext cx="517320" cy="489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55" name="Group 79"/>
          <p:cNvGrpSpPr/>
          <p:nvPr/>
        </p:nvGrpSpPr>
        <p:grpSpPr>
          <a:xfrm>
            <a:off x="3600360" y="5019840"/>
            <a:ext cx="1082520" cy="1271160"/>
            <a:chOff x="3600360" y="5019840"/>
            <a:chExt cx="1082520" cy="1271160"/>
          </a:xfrm>
        </p:grpSpPr>
        <p:sp>
          <p:nvSpPr>
            <p:cNvPr id="656" name="AutoShape 80"/>
            <p:cNvSpPr/>
            <p:nvPr/>
          </p:nvSpPr>
          <p:spPr>
            <a:xfrm>
              <a:off x="3605040" y="5451480"/>
              <a:ext cx="1069920" cy="821880"/>
            </a:xfrm>
            <a:prstGeom prst="roundRect">
              <a:avLst>
                <a:gd name="adj" fmla="val 7144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57" name="AutoShape 81"/>
            <p:cNvSpPr/>
            <p:nvPr/>
          </p:nvSpPr>
          <p:spPr>
            <a:xfrm>
              <a:off x="3603600" y="5452920"/>
              <a:ext cx="1071360" cy="820440"/>
            </a:xfrm>
            <a:prstGeom prst="roundRect">
              <a:avLst>
                <a:gd name="adj" fmla="val 5801"/>
              </a:avLst>
            </a:prstGeom>
            <a:gradFill rotWithShape="0">
              <a:gsLst>
                <a:gs pos="0">
                  <a:srgbClr val="0099cc">
                    <a:alpha val="50196"/>
                  </a:srgbClr>
                </a:gs>
                <a:gs pos="100000">
                  <a:srgbClr val="fdfdfb"/>
                </a:gs>
              </a:gsLst>
              <a:lin ang="0"/>
            </a:gradFill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58" name="AutoShape 82"/>
            <p:cNvSpPr/>
            <p:nvPr/>
          </p:nvSpPr>
          <p:spPr>
            <a:xfrm>
              <a:off x="3605040" y="5452920"/>
              <a:ext cx="1069920" cy="187200"/>
            </a:xfrm>
            <a:prstGeom prst="roundRect">
              <a:avLst>
                <a:gd name="adj" fmla="val 9394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8e6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59" name="Line 83"/>
            <p:cNvSpPr/>
            <p:nvPr/>
          </p:nvSpPr>
          <p:spPr>
            <a:xfrm>
              <a:off x="3605040" y="5645160"/>
              <a:ext cx="1069920" cy="0"/>
            </a:xfrm>
            <a:prstGeom prst="line">
              <a:avLst/>
            </a:prstGeom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60" name="Text Box 84"/>
            <p:cNvSpPr/>
            <p:nvPr/>
          </p:nvSpPr>
          <p:spPr>
            <a:xfrm>
              <a:off x="3603600" y="5427720"/>
              <a:ext cx="1071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76889c"/>
                  </a:solidFill>
                  <a:latin typeface="Arial"/>
                </a:rPr>
                <a:t>XML</a:t>
              </a:r>
              <a:endParaRPr b="0" lang="en-US" sz="14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pic>
          <p:nvPicPr>
            <p:cNvPr id="661" name="Picture 85" descr="XMLDocument"/>
            <p:cNvPicPr/>
            <p:nvPr/>
          </p:nvPicPr>
          <p:blipFill>
            <a:blip r:embed="rId29"/>
            <a:stretch/>
          </p:blipFill>
          <p:spPr>
            <a:xfrm>
              <a:off x="4063680" y="5672160"/>
              <a:ext cx="619200" cy="618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2" name="Picture 86" descr="folder2"/>
            <p:cNvPicPr/>
            <p:nvPr/>
          </p:nvPicPr>
          <p:blipFill>
            <a:blip r:embed="rId30"/>
            <a:stretch/>
          </p:blipFill>
          <p:spPr>
            <a:xfrm>
              <a:off x="3600360" y="5664240"/>
              <a:ext cx="608040" cy="60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3" name="Picture 87" descr="UpDownArrow"/>
            <p:cNvPicPr/>
            <p:nvPr/>
          </p:nvPicPr>
          <p:blipFill>
            <a:blip r:embed="rId31"/>
            <a:stretch/>
          </p:blipFill>
          <p:spPr>
            <a:xfrm>
              <a:off x="3997080" y="5019840"/>
              <a:ext cx="281160" cy="442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64" name="Group 88"/>
          <p:cNvGrpSpPr/>
          <p:nvPr/>
        </p:nvGrpSpPr>
        <p:grpSpPr>
          <a:xfrm>
            <a:off x="4746600" y="5019840"/>
            <a:ext cx="1071360" cy="1256760"/>
            <a:chOff x="4746600" y="5019840"/>
            <a:chExt cx="1071360" cy="1256760"/>
          </a:xfrm>
        </p:grpSpPr>
        <p:sp>
          <p:nvSpPr>
            <p:cNvPr id="665" name="AutoShape 89"/>
            <p:cNvSpPr/>
            <p:nvPr/>
          </p:nvSpPr>
          <p:spPr>
            <a:xfrm>
              <a:off x="4748040" y="5451480"/>
              <a:ext cx="1069920" cy="821880"/>
            </a:xfrm>
            <a:prstGeom prst="roundRect">
              <a:avLst>
                <a:gd name="adj" fmla="val 7144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66" name="AutoShape 90"/>
            <p:cNvSpPr/>
            <p:nvPr/>
          </p:nvSpPr>
          <p:spPr>
            <a:xfrm>
              <a:off x="4746600" y="5452920"/>
              <a:ext cx="1071360" cy="820440"/>
            </a:xfrm>
            <a:prstGeom prst="roundRect">
              <a:avLst>
                <a:gd name="adj" fmla="val 5801"/>
              </a:avLst>
            </a:prstGeom>
            <a:gradFill rotWithShape="0">
              <a:gsLst>
                <a:gs pos="0">
                  <a:srgbClr val="008000">
                    <a:alpha val="25098"/>
                  </a:srgbClr>
                </a:gs>
                <a:gs pos="100000">
                  <a:srgbClr val="fdfdfb"/>
                </a:gs>
              </a:gsLst>
              <a:lin ang="0"/>
            </a:gradFill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67" name="AutoShape 91"/>
            <p:cNvSpPr/>
            <p:nvPr/>
          </p:nvSpPr>
          <p:spPr>
            <a:xfrm>
              <a:off x="4748040" y="5452920"/>
              <a:ext cx="1069920" cy="187200"/>
            </a:xfrm>
            <a:prstGeom prst="roundRect">
              <a:avLst>
                <a:gd name="adj" fmla="val 9394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8e6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68" name="Line 92"/>
            <p:cNvSpPr/>
            <p:nvPr/>
          </p:nvSpPr>
          <p:spPr>
            <a:xfrm>
              <a:off x="4748040" y="5645160"/>
              <a:ext cx="1069920" cy="0"/>
            </a:xfrm>
            <a:prstGeom prst="line">
              <a:avLst/>
            </a:prstGeom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69" name="Text Box 93"/>
            <p:cNvSpPr/>
            <p:nvPr/>
          </p:nvSpPr>
          <p:spPr>
            <a:xfrm>
              <a:off x="4746600" y="5427720"/>
              <a:ext cx="1071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76889c"/>
                  </a:solidFill>
                  <a:latin typeface="Arial"/>
                </a:rPr>
                <a:t>Ellogon</a:t>
              </a:r>
              <a:endParaRPr b="0" lang="en-US" sz="14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pic>
          <p:nvPicPr>
            <p:cNvPr id="670" name="Picture 94" descr="unknown"/>
            <p:cNvPicPr/>
            <p:nvPr/>
          </p:nvPicPr>
          <p:blipFill>
            <a:blip r:embed="rId32"/>
            <a:stretch/>
          </p:blipFill>
          <p:spPr>
            <a:xfrm>
              <a:off x="5209920" y="5668920"/>
              <a:ext cx="608040" cy="60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1" name="Picture 95" descr="folder2_green"/>
            <p:cNvPicPr/>
            <p:nvPr/>
          </p:nvPicPr>
          <p:blipFill>
            <a:blip r:embed="rId33"/>
            <a:stretch/>
          </p:blipFill>
          <p:spPr>
            <a:xfrm>
              <a:off x="4746600" y="5665680"/>
              <a:ext cx="607680" cy="60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2" name="Picture 96" descr="EllogonLogo_EGear"/>
            <p:cNvPicPr/>
            <p:nvPr/>
          </p:nvPicPr>
          <p:blipFill>
            <a:blip r:embed="rId34"/>
            <a:stretch/>
          </p:blipFill>
          <p:spPr>
            <a:xfrm>
              <a:off x="5209920" y="5861160"/>
              <a:ext cx="335160" cy="334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3" name="Picture 97" descr="UpDownArrow"/>
            <p:cNvPicPr/>
            <p:nvPr/>
          </p:nvPicPr>
          <p:blipFill>
            <a:blip r:embed="rId35"/>
            <a:stretch/>
          </p:blipFill>
          <p:spPr>
            <a:xfrm>
              <a:off x="5119560" y="5019840"/>
              <a:ext cx="280800" cy="442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74" name="Group 98"/>
          <p:cNvGrpSpPr/>
          <p:nvPr/>
        </p:nvGrpSpPr>
        <p:grpSpPr>
          <a:xfrm>
            <a:off x="5881680" y="5019840"/>
            <a:ext cx="1521000" cy="1267920"/>
            <a:chOff x="5881680" y="5019840"/>
            <a:chExt cx="1521000" cy="1267920"/>
          </a:xfrm>
        </p:grpSpPr>
        <p:sp>
          <p:nvSpPr>
            <p:cNvPr id="675" name="AutoShape 99"/>
            <p:cNvSpPr/>
            <p:nvPr/>
          </p:nvSpPr>
          <p:spPr>
            <a:xfrm>
              <a:off x="5883480" y="5451480"/>
              <a:ext cx="1519200" cy="821880"/>
            </a:xfrm>
            <a:prstGeom prst="roundRect">
              <a:avLst>
                <a:gd name="adj" fmla="val 7144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76" name="AutoShape 100"/>
            <p:cNvSpPr/>
            <p:nvPr/>
          </p:nvSpPr>
          <p:spPr>
            <a:xfrm>
              <a:off x="5881680" y="5452920"/>
              <a:ext cx="1521000" cy="820440"/>
            </a:xfrm>
            <a:prstGeom prst="roundRect">
              <a:avLst>
                <a:gd name="adj" fmla="val 5801"/>
              </a:avLst>
            </a:prstGeom>
            <a:gradFill rotWithShape="0">
              <a:gsLst>
                <a:gs pos="0">
                  <a:srgbClr val="ffffcc"/>
                </a:gs>
                <a:gs pos="100000">
                  <a:srgbClr val="fdfdfb">
                    <a:alpha val="0"/>
                  </a:srgbClr>
                </a:gs>
              </a:gsLst>
              <a:lin ang="0"/>
            </a:gradFill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77" name="AutoShape 101"/>
            <p:cNvSpPr/>
            <p:nvPr/>
          </p:nvSpPr>
          <p:spPr>
            <a:xfrm>
              <a:off x="5883480" y="5452920"/>
              <a:ext cx="1519200" cy="193320"/>
            </a:xfrm>
            <a:prstGeom prst="roundRect">
              <a:avLst>
                <a:gd name="adj" fmla="val 9394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8e6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78" name="Line 102"/>
            <p:cNvSpPr/>
            <p:nvPr/>
          </p:nvSpPr>
          <p:spPr>
            <a:xfrm>
              <a:off x="5883480" y="5645160"/>
              <a:ext cx="1519200" cy="0"/>
            </a:xfrm>
            <a:prstGeom prst="line">
              <a:avLst/>
            </a:prstGeom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79" name="Text Box 103"/>
            <p:cNvSpPr/>
            <p:nvPr/>
          </p:nvSpPr>
          <p:spPr>
            <a:xfrm>
              <a:off x="5881680" y="5427720"/>
              <a:ext cx="1521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76889c"/>
                  </a:solidFill>
                  <a:latin typeface="Arial"/>
                </a:rPr>
                <a:t>Databases</a:t>
              </a:r>
              <a:endParaRPr b="0" lang="en-US" sz="14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pic>
          <p:nvPicPr>
            <p:cNvPr id="680" name="Picture 104" descr="folder2_yellow"/>
            <p:cNvPicPr/>
            <p:nvPr/>
          </p:nvPicPr>
          <p:blipFill>
            <a:blip r:embed="rId36"/>
            <a:stretch/>
          </p:blipFill>
          <p:spPr>
            <a:xfrm>
              <a:off x="6078600" y="5668920"/>
              <a:ext cx="608040" cy="60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1" name="Picture 105" descr="spreadsheet"/>
            <p:cNvPicPr/>
            <p:nvPr/>
          </p:nvPicPr>
          <p:blipFill>
            <a:blip r:embed="rId37"/>
            <a:stretch/>
          </p:blipFill>
          <p:spPr>
            <a:xfrm>
              <a:off x="6507360" y="5680080"/>
              <a:ext cx="608040" cy="60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2" name="Picture 106" descr="UpDownArrow"/>
            <p:cNvPicPr/>
            <p:nvPr/>
          </p:nvPicPr>
          <p:blipFill>
            <a:blip r:embed="rId38"/>
            <a:stretch/>
          </p:blipFill>
          <p:spPr>
            <a:xfrm>
              <a:off x="6380280" y="5019840"/>
              <a:ext cx="281160" cy="442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83" name="Group 110"/>
          <p:cNvGrpSpPr/>
          <p:nvPr/>
        </p:nvGrpSpPr>
        <p:grpSpPr>
          <a:xfrm>
            <a:off x="684360" y="3699000"/>
            <a:ext cx="6084720" cy="1333440"/>
            <a:chOff x="684360" y="3699000"/>
            <a:chExt cx="6084720" cy="1333440"/>
          </a:xfrm>
        </p:grpSpPr>
        <p:sp>
          <p:nvSpPr>
            <p:cNvPr id="684" name="AutoShape 36"/>
            <p:cNvSpPr/>
            <p:nvPr/>
          </p:nvSpPr>
          <p:spPr>
            <a:xfrm>
              <a:off x="684360" y="3741840"/>
              <a:ext cx="6084720" cy="1290600"/>
            </a:xfrm>
            <a:prstGeom prst="roundRect">
              <a:avLst>
                <a:gd name="adj" fmla="val 1755"/>
              </a:avLst>
            </a:prstGeom>
            <a:gradFill rotWithShape="0">
              <a:gsLst>
                <a:gs pos="0">
                  <a:srgbClr val="008000">
                    <a:alpha val="15294"/>
                  </a:srgbClr>
                </a:gs>
                <a:gs pos="50000">
                  <a:srgbClr val="ccffcc">
                    <a:alpha val="15294"/>
                  </a:srgbClr>
                </a:gs>
                <a:gs pos="100000">
                  <a:srgbClr val="008000">
                    <a:alpha val="15294"/>
                  </a:srgbClr>
                </a:gs>
              </a:gsLst>
              <a:lin ang="0"/>
            </a:gradFill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85" name="AutoShape 37"/>
            <p:cNvSpPr/>
            <p:nvPr/>
          </p:nvSpPr>
          <p:spPr>
            <a:xfrm>
              <a:off x="684360" y="3741840"/>
              <a:ext cx="6084720" cy="287280"/>
            </a:xfrm>
            <a:prstGeom prst="roundRect">
              <a:avLst>
                <a:gd name="adj" fmla="val 9394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8e6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86" name="Line 38"/>
            <p:cNvSpPr/>
            <p:nvPr/>
          </p:nvSpPr>
          <p:spPr>
            <a:xfrm>
              <a:off x="684360" y="4029120"/>
              <a:ext cx="6084720" cy="1440"/>
            </a:xfrm>
            <a:prstGeom prst="line">
              <a:avLst/>
            </a:prstGeom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87" name="Text Box 39"/>
            <p:cNvSpPr/>
            <p:nvPr/>
          </p:nvSpPr>
          <p:spPr>
            <a:xfrm>
              <a:off x="706320" y="3699000"/>
              <a:ext cx="5301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76889c"/>
                  </a:solidFill>
                  <a:latin typeface="Arial"/>
                </a:rPr>
                <a:t>Collection – Document Manager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grpSp>
          <p:nvGrpSpPr>
            <p:cNvPr id="688" name="Group 65"/>
            <p:cNvGrpSpPr/>
            <p:nvPr/>
          </p:nvGrpSpPr>
          <p:grpSpPr>
            <a:xfrm>
              <a:off x="3941640" y="4424400"/>
              <a:ext cx="2755440" cy="606240"/>
              <a:chOff x="3941640" y="4424400"/>
              <a:chExt cx="2755440" cy="606240"/>
            </a:xfrm>
          </p:grpSpPr>
          <p:sp>
            <p:nvSpPr>
              <p:cNvPr id="689" name="AutoShape 66"/>
              <p:cNvSpPr/>
              <p:nvPr/>
            </p:nvSpPr>
            <p:spPr>
              <a:xfrm>
                <a:off x="3941640" y="4424400"/>
                <a:ext cx="2754000" cy="606240"/>
              </a:xfrm>
              <a:prstGeom prst="roundRect">
                <a:avLst>
                  <a:gd name="adj" fmla="val 7144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Verdana"/>
                </a:endParaRPr>
              </a:p>
            </p:txBody>
          </p:sp>
          <p:sp>
            <p:nvSpPr>
              <p:cNvPr id="690" name="AutoShape 67"/>
              <p:cNvSpPr/>
              <p:nvPr/>
            </p:nvSpPr>
            <p:spPr>
              <a:xfrm>
                <a:off x="3941640" y="4425840"/>
                <a:ext cx="2755440" cy="604800"/>
              </a:xfrm>
              <a:prstGeom prst="roundRect">
                <a:avLst>
                  <a:gd name="adj" fmla="val 5801"/>
                </a:avLst>
              </a:prstGeom>
              <a:gradFill rotWithShape="0">
                <a:gsLst>
                  <a:gs pos="0">
                    <a:srgbClr val="ffcc99">
                      <a:alpha val="60392"/>
                    </a:srgbClr>
                  </a:gs>
                  <a:gs pos="100000">
                    <a:srgbClr val="ffe5cb">
                      <a:alpha val="60392"/>
                    </a:srgbClr>
                  </a:gs>
                </a:gsLst>
                <a:lin ang="5400000"/>
              </a:gradFill>
              <a:ln w="6480">
                <a:solidFill>
                  <a:srgbClr val="94929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76889c"/>
                    </a:solidFill>
                    <a:latin typeface="Arial"/>
                  </a:rPr>
                  <a:t>Storage Format Abstraction Layer</a:t>
                </a:r>
                <a:endParaRPr b="0" lang="en-US" sz="1800" spc="-1" strike="noStrike">
                  <a:solidFill>
                    <a:srgbClr val="000099"/>
                  </a:solidFill>
                  <a:latin typeface="Verdana"/>
                </a:endParaRPr>
              </a:p>
            </p:txBody>
          </p:sp>
        </p:grpSp>
        <p:sp>
          <p:nvSpPr>
            <p:cNvPr id="691" name="AutoShape 107"/>
            <p:cNvSpPr/>
            <p:nvPr/>
          </p:nvSpPr>
          <p:spPr>
            <a:xfrm>
              <a:off x="1056960" y="4157640"/>
              <a:ext cx="1712520" cy="868320"/>
            </a:xfrm>
            <a:prstGeom prst="flowChartAlternateProcess">
              <a:avLst/>
            </a:prstGeom>
            <a:gradFill rotWithShape="0">
              <a:gsLst>
                <a:gs pos="0">
                  <a:srgbClr val="cfdfff"/>
                </a:gs>
                <a:gs pos="50000">
                  <a:srgbClr val="a1c0ff"/>
                </a:gs>
                <a:gs pos="100000">
                  <a:srgbClr val="cfd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000" spc="-1" strike="noStrike">
                  <a:solidFill>
                    <a:srgbClr val="003399"/>
                  </a:solidFill>
                  <a:latin typeface="Arial"/>
                </a:rPr>
                <a:t>C++ API</a:t>
              </a:r>
              <a:endParaRPr b="0" lang="en-US" sz="20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92" name="AutoShape 108"/>
            <p:cNvSpPr/>
            <p:nvPr/>
          </p:nvSpPr>
          <p:spPr>
            <a:xfrm>
              <a:off x="1258560" y="4540320"/>
              <a:ext cx="1290240" cy="409320"/>
            </a:xfrm>
            <a:prstGeom prst="flowChartAlternateProcess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000" spc="-1" strike="noStrike">
                  <a:solidFill>
                    <a:srgbClr val="000080"/>
                  </a:solidFill>
                  <a:latin typeface="Arial"/>
                </a:rPr>
                <a:t>C API</a:t>
              </a:r>
              <a:endParaRPr b="0" lang="en-US" sz="20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93" name="AutoShape 109"/>
            <p:cNvSpPr/>
            <p:nvPr/>
          </p:nvSpPr>
          <p:spPr>
            <a:xfrm>
              <a:off x="2373120" y="4613400"/>
              <a:ext cx="1726920" cy="233280"/>
            </a:xfrm>
            <a:prstGeom prst="leftRightArrow">
              <a:avLst>
                <a:gd name="adj1" fmla="val 50000"/>
                <a:gd name="adj2" fmla="val 147370"/>
              </a:avLst>
            </a:prstGeom>
            <a:gradFill rotWithShape="0">
              <a:gsLst>
                <a:gs pos="0">
                  <a:srgbClr val="ccffcc"/>
                </a:gs>
                <a:gs pos="50000">
                  <a:srgbClr val="00ff00"/>
                </a:gs>
                <a:gs pos="100000">
                  <a:srgbClr val="ccffcc"/>
                </a:gs>
              </a:gsLst>
              <a:lin ang="0"/>
            </a:gra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sp>
        <p:nvSpPr>
          <p:cNvPr id="694" name="Slide Number Placeholder 107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3BC10-02D6-49D5-9C37-BC0AB001DD92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95" name="Date Placeholder 106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96" name="Footer Placeholder 108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"/>
                            </p:stCondLst>
                            <p:childTnLst>
                              <p:par>
                                <p:cTn id="1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4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indefinite"/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indefinite"/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indefinite"/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indefinite"/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indefinite"/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indefinite"/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500"/>
                            </p:stCondLst>
                            <p:childTnLst>
                              <p:par>
                                <p:cTn id="16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8" dur="5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1000"/>
                            </p:stCondLst>
                            <p:childTnLst>
                              <p:par>
                                <p:cTn id="17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2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1500"/>
                            </p:stCondLst>
                            <p:childTnLst>
                              <p:par>
                                <p:cTn id="1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20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llogon: plug-ins in many programming language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8" name="Group 14"/>
          <p:cNvGrpSpPr/>
          <p:nvPr/>
        </p:nvGrpSpPr>
        <p:grpSpPr>
          <a:xfrm>
            <a:off x="609480" y="1233360"/>
            <a:ext cx="7813440" cy="4969080"/>
            <a:chOff x="609480" y="1233360"/>
            <a:chExt cx="7813440" cy="4969080"/>
          </a:xfrm>
        </p:grpSpPr>
        <p:sp>
          <p:nvSpPr>
            <p:cNvPr id="699" name="AutoShape 15"/>
            <p:cNvSpPr/>
            <p:nvPr/>
          </p:nvSpPr>
          <p:spPr>
            <a:xfrm>
              <a:off x="609480" y="1233360"/>
              <a:ext cx="7813440" cy="4969080"/>
            </a:xfrm>
            <a:prstGeom prst="roundRect">
              <a:avLst>
                <a:gd name="adj" fmla="val 1755"/>
              </a:avLst>
            </a:prstGeom>
            <a:solidFill>
              <a:srgbClr val="ffffff"/>
            </a:solidFill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700" name="AutoShape 16"/>
            <p:cNvSpPr/>
            <p:nvPr/>
          </p:nvSpPr>
          <p:spPr>
            <a:xfrm>
              <a:off x="609480" y="1233360"/>
              <a:ext cx="7813440" cy="287640"/>
            </a:xfrm>
            <a:prstGeom prst="roundRect">
              <a:avLst>
                <a:gd name="adj" fmla="val 1755"/>
              </a:avLst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e8e6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701" name="Line 17"/>
            <p:cNvSpPr/>
            <p:nvPr/>
          </p:nvSpPr>
          <p:spPr>
            <a:xfrm>
              <a:off x="609480" y="1521000"/>
              <a:ext cx="7813440" cy="0"/>
            </a:xfrm>
            <a:prstGeom prst="line">
              <a:avLst/>
            </a:prstGeom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grpSp>
        <p:nvGrpSpPr>
          <p:cNvPr id="702" name="Group 13"/>
          <p:cNvGrpSpPr/>
          <p:nvPr/>
        </p:nvGrpSpPr>
        <p:grpSpPr>
          <a:xfrm>
            <a:off x="755640" y="1617840"/>
            <a:ext cx="3346200" cy="1019160"/>
            <a:chOff x="755640" y="1617840"/>
            <a:chExt cx="3346200" cy="1019160"/>
          </a:xfrm>
        </p:grpSpPr>
        <p:sp>
          <p:nvSpPr>
            <p:cNvPr id="703" name="AutoShape 7"/>
            <p:cNvSpPr/>
            <p:nvPr/>
          </p:nvSpPr>
          <p:spPr>
            <a:xfrm>
              <a:off x="755640" y="1665360"/>
              <a:ext cx="3346200" cy="957240"/>
            </a:xfrm>
            <a:prstGeom prst="roundRect">
              <a:avLst>
                <a:gd name="adj" fmla="val 10269"/>
              </a:avLst>
            </a:prstGeom>
            <a:gradFill rotWithShape="0">
              <a:gsLst>
                <a:gs pos="0">
                  <a:srgbClr val="d7f5ff"/>
                </a:gs>
                <a:gs pos="100000">
                  <a:srgbClr val="ffffff"/>
                </a:gs>
              </a:gsLst>
              <a:lin ang="0"/>
            </a:gradFill>
            <a:ln w="648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704" name="Text Box 8"/>
            <p:cNvSpPr/>
            <p:nvPr/>
          </p:nvSpPr>
          <p:spPr>
            <a:xfrm>
              <a:off x="1657440" y="1737000"/>
              <a:ext cx="24444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400" spc="-1" strike="noStrike">
                  <a:solidFill>
                    <a:srgbClr val="0099cc"/>
                  </a:solidFill>
                  <a:latin typeface="Arial"/>
                </a:rPr>
                <a:t>Ellogon</a:t>
              </a:r>
              <a:endParaRPr b="0" lang="en-US" sz="44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pic>
          <p:nvPicPr>
            <p:cNvPr id="705" name="Picture 11" descr="execBlueAdaptiveContrast"/>
            <p:cNvPicPr/>
            <p:nvPr/>
          </p:nvPicPr>
          <p:blipFill>
            <a:blip r:embed="rId1"/>
            <a:stretch/>
          </p:blipFill>
          <p:spPr>
            <a:xfrm>
              <a:off x="755640" y="1617840"/>
              <a:ext cx="1019160" cy="1019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06" name="Group 31"/>
          <p:cNvGrpSpPr/>
          <p:nvPr/>
        </p:nvGrpSpPr>
        <p:grpSpPr>
          <a:xfrm>
            <a:off x="3849840" y="2884320"/>
            <a:ext cx="3601440" cy="650880"/>
            <a:chOff x="3849840" y="2884320"/>
            <a:chExt cx="3601440" cy="650880"/>
          </a:xfrm>
        </p:grpSpPr>
        <p:pic>
          <p:nvPicPr>
            <p:cNvPr id="707" name="Picture 20" descr="execGreen"/>
            <p:cNvPicPr/>
            <p:nvPr/>
          </p:nvPicPr>
          <p:blipFill>
            <a:blip r:embed="rId2"/>
            <a:stretch/>
          </p:blipFill>
          <p:spPr>
            <a:xfrm>
              <a:off x="3849840" y="2884320"/>
              <a:ext cx="650520" cy="65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8" name="Text Box 21"/>
            <p:cNvSpPr/>
            <p:nvPr/>
          </p:nvSpPr>
          <p:spPr>
            <a:xfrm>
              <a:off x="4429080" y="2960640"/>
              <a:ext cx="302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33cc33"/>
                  </a:solidFill>
                  <a:latin typeface="Verdana"/>
                </a:rPr>
                <a:t>C/C++ Components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grpSp>
        <p:nvGrpSpPr>
          <p:cNvPr id="709" name="Group 32"/>
          <p:cNvGrpSpPr/>
          <p:nvPr/>
        </p:nvGrpSpPr>
        <p:grpSpPr>
          <a:xfrm>
            <a:off x="3849840" y="3465360"/>
            <a:ext cx="3130560" cy="650880"/>
            <a:chOff x="3849840" y="3465360"/>
            <a:chExt cx="3130560" cy="650880"/>
          </a:xfrm>
        </p:grpSpPr>
        <p:pic>
          <p:nvPicPr>
            <p:cNvPr id="710" name="Picture 19" descr="execRed"/>
            <p:cNvPicPr/>
            <p:nvPr/>
          </p:nvPicPr>
          <p:blipFill>
            <a:blip r:embed="rId3"/>
            <a:stretch/>
          </p:blipFill>
          <p:spPr>
            <a:xfrm>
              <a:off x="3849840" y="3465360"/>
              <a:ext cx="650880" cy="65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1" name="Text Box 22"/>
            <p:cNvSpPr/>
            <p:nvPr/>
          </p:nvSpPr>
          <p:spPr>
            <a:xfrm>
              <a:off x="4429440" y="3537000"/>
              <a:ext cx="255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9900"/>
                  </a:solidFill>
                  <a:latin typeface="Verdana"/>
                </a:rPr>
                <a:t>Java Components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grpSp>
        <p:nvGrpSpPr>
          <p:cNvPr id="712" name="Group 33"/>
          <p:cNvGrpSpPr/>
          <p:nvPr/>
        </p:nvGrpSpPr>
        <p:grpSpPr>
          <a:xfrm>
            <a:off x="3849840" y="4041720"/>
            <a:ext cx="2917440" cy="655560"/>
            <a:chOff x="3849840" y="4041720"/>
            <a:chExt cx="2917440" cy="655560"/>
          </a:xfrm>
        </p:grpSpPr>
        <p:pic>
          <p:nvPicPr>
            <p:cNvPr id="713" name="Picture 23" descr="execOrange"/>
            <p:cNvPicPr/>
            <p:nvPr/>
          </p:nvPicPr>
          <p:blipFill>
            <a:blip r:embed="rId4"/>
            <a:stretch/>
          </p:blipFill>
          <p:spPr>
            <a:xfrm>
              <a:off x="3849840" y="4041720"/>
              <a:ext cx="655560" cy="65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4" name="Text Box 24"/>
            <p:cNvSpPr/>
            <p:nvPr/>
          </p:nvSpPr>
          <p:spPr>
            <a:xfrm>
              <a:off x="4429080" y="4087800"/>
              <a:ext cx="2338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cc00"/>
                  </a:solidFill>
                  <a:latin typeface="Verdana"/>
                </a:rPr>
                <a:t>Tcl Components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grpSp>
        <p:nvGrpSpPr>
          <p:cNvPr id="715" name="Group 34"/>
          <p:cNvGrpSpPr/>
          <p:nvPr/>
        </p:nvGrpSpPr>
        <p:grpSpPr>
          <a:xfrm>
            <a:off x="3849840" y="4616280"/>
            <a:ext cx="3130560" cy="650880"/>
            <a:chOff x="3849840" y="4616280"/>
            <a:chExt cx="3130560" cy="650880"/>
          </a:xfrm>
        </p:grpSpPr>
        <p:pic>
          <p:nvPicPr>
            <p:cNvPr id="716" name="Picture 25" descr="execDeepBlue"/>
            <p:cNvPicPr/>
            <p:nvPr/>
          </p:nvPicPr>
          <p:blipFill>
            <a:blip r:embed="rId5"/>
            <a:stretch/>
          </p:blipFill>
          <p:spPr>
            <a:xfrm>
              <a:off x="3849840" y="4616280"/>
              <a:ext cx="650880" cy="65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7" name="Text Box 27"/>
            <p:cNvSpPr/>
            <p:nvPr/>
          </p:nvSpPr>
          <p:spPr>
            <a:xfrm>
              <a:off x="4428000" y="4689360"/>
              <a:ext cx="2552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33cc"/>
                  </a:solidFill>
                  <a:latin typeface="Verdana"/>
                </a:rPr>
                <a:t>Perl Components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grpSp>
        <p:nvGrpSpPr>
          <p:cNvPr id="718" name="Group 35"/>
          <p:cNvGrpSpPr/>
          <p:nvPr/>
        </p:nvGrpSpPr>
        <p:grpSpPr>
          <a:xfrm>
            <a:off x="3849840" y="5191200"/>
            <a:ext cx="3528360" cy="650880"/>
            <a:chOff x="3849840" y="5191200"/>
            <a:chExt cx="3528360" cy="650880"/>
          </a:xfrm>
        </p:grpSpPr>
        <p:pic>
          <p:nvPicPr>
            <p:cNvPr id="719" name="Picture 28" descr="execMustard"/>
            <p:cNvPicPr/>
            <p:nvPr/>
          </p:nvPicPr>
          <p:blipFill>
            <a:blip r:embed="rId6"/>
            <a:stretch/>
          </p:blipFill>
          <p:spPr>
            <a:xfrm>
              <a:off x="3849840" y="5191200"/>
              <a:ext cx="650520" cy="65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0" name="Text Box 30"/>
            <p:cNvSpPr/>
            <p:nvPr/>
          </p:nvSpPr>
          <p:spPr>
            <a:xfrm>
              <a:off x="4427640" y="5276880"/>
              <a:ext cx="2950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cccc00"/>
                  </a:solidFill>
                  <a:latin typeface="Verdana"/>
                </a:rPr>
                <a:t>Python Components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grpSp>
        <p:nvGrpSpPr>
          <p:cNvPr id="721" name="Group 41"/>
          <p:cNvGrpSpPr/>
          <p:nvPr/>
        </p:nvGrpSpPr>
        <p:grpSpPr>
          <a:xfrm>
            <a:off x="1071720" y="2622240"/>
            <a:ext cx="368280" cy="3219480"/>
            <a:chOff x="1071720" y="2622240"/>
            <a:chExt cx="368280" cy="3219480"/>
          </a:xfrm>
        </p:grpSpPr>
        <p:sp>
          <p:nvSpPr>
            <p:cNvPr id="722" name="AutoShape 42"/>
            <p:cNvSpPr/>
            <p:nvPr/>
          </p:nvSpPr>
          <p:spPr>
            <a:xfrm rot="16200000">
              <a:off x="-362520" y="4070160"/>
              <a:ext cx="3205800" cy="336600"/>
            </a:xfrm>
            <a:prstGeom prst="roundRect">
              <a:avLst>
                <a:gd name="adj" fmla="val 1755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8e6e9"/>
                </a:gs>
              </a:gsLst>
              <a:lin ang="10800000"/>
            </a:gradFill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723" name="Text Box 43"/>
            <p:cNvSpPr/>
            <p:nvPr/>
          </p:nvSpPr>
          <p:spPr>
            <a:xfrm rot="16200000">
              <a:off x="-353520" y="4047840"/>
              <a:ext cx="321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66cc"/>
                  </a:solidFill>
                  <a:latin typeface="Arial"/>
                </a:rPr>
                <a:t>CDM API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sp>
        <p:nvSpPr>
          <p:cNvPr id="724" name="Line 44"/>
          <p:cNvSpPr/>
          <p:nvPr/>
        </p:nvSpPr>
        <p:spPr>
          <a:xfrm>
            <a:off x="1440000" y="3176640"/>
            <a:ext cx="195120" cy="0"/>
          </a:xfrm>
          <a:prstGeom prst="line">
            <a:avLst/>
          </a:prstGeom>
          <a:ln w="7632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25" name="Line 45"/>
          <p:cNvSpPr/>
          <p:nvPr/>
        </p:nvSpPr>
        <p:spPr>
          <a:xfrm>
            <a:off x="1440000" y="4329000"/>
            <a:ext cx="195120" cy="0"/>
          </a:xfrm>
          <a:prstGeom prst="line">
            <a:avLst/>
          </a:prstGeom>
          <a:ln w="7632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26" name="Line 46"/>
          <p:cNvSpPr/>
          <p:nvPr/>
        </p:nvSpPr>
        <p:spPr>
          <a:xfrm>
            <a:off x="1440000" y="3753000"/>
            <a:ext cx="195120" cy="0"/>
          </a:xfrm>
          <a:prstGeom prst="line">
            <a:avLst/>
          </a:prstGeom>
          <a:ln w="7632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27" name="Line 47"/>
          <p:cNvSpPr/>
          <p:nvPr/>
        </p:nvSpPr>
        <p:spPr>
          <a:xfrm>
            <a:off x="1440000" y="4905360"/>
            <a:ext cx="195120" cy="0"/>
          </a:xfrm>
          <a:prstGeom prst="line">
            <a:avLst/>
          </a:prstGeom>
          <a:ln w="7632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28" name="Line 48"/>
          <p:cNvSpPr/>
          <p:nvPr/>
        </p:nvSpPr>
        <p:spPr>
          <a:xfrm>
            <a:off x="1440000" y="5481720"/>
            <a:ext cx="195120" cy="0"/>
          </a:xfrm>
          <a:prstGeom prst="line">
            <a:avLst/>
          </a:prstGeom>
          <a:ln w="7632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729" name="Group 2195"/>
          <p:cNvGrpSpPr/>
          <p:nvPr/>
        </p:nvGrpSpPr>
        <p:grpSpPr>
          <a:xfrm>
            <a:off x="1722600" y="3514680"/>
            <a:ext cx="1949400" cy="490320"/>
            <a:chOff x="1722600" y="3514680"/>
            <a:chExt cx="1949400" cy="490320"/>
          </a:xfrm>
        </p:grpSpPr>
        <p:grpSp>
          <p:nvGrpSpPr>
            <p:cNvPr id="730" name="Group 2166"/>
            <p:cNvGrpSpPr/>
            <p:nvPr/>
          </p:nvGrpSpPr>
          <p:grpSpPr>
            <a:xfrm>
              <a:off x="1722600" y="3514680"/>
              <a:ext cx="1949400" cy="490320"/>
              <a:chOff x="1722600" y="3514680"/>
              <a:chExt cx="1949400" cy="490320"/>
            </a:xfrm>
          </p:grpSpPr>
          <p:sp>
            <p:nvSpPr>
              <p:cNvPr id="731" name="AutoShape 2167"/>
              <p:cNvSpPr/>
              <p:nvPr/>
            </p:nvSpPr>
            <p:spPr>
              <a:xfrm>
                <a:off x="1722600" y="3514680"/>
                <a:ext cx="1941120" cy="447840"/>
              </a:xfrm>
              <a:prstGeom prst="roundRect">
                <a:avLst>
                  <a:gd name="adj" fmla="val 1755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8e6e9"/>
                  </a:gs>
                </a:gsLst>
                <a:lin ang="10800000"/>
              </a:gradFill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Verdana"/>
                </a:endParaRPr>
              </a:p>
            </p:txBody>
          </p:sp>
          <p:sp>
            <p:nvSpPr>
              <p:cNvPr id="732" name="Text Box 2168"/>
              <p:cNvSpPr/>
              <p:nvPr/>
            </p:nvSpPr>
            <p:spPr>
              <a:xfrm>
                <a:off x="1722600" y="3514680"/>
                <a:ext cx="1949400" cy="49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180000" tIns="0" bIns="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9900"/>
                    </a:solidFill>
                    <a:latin typeface="Arial"/>
                  </a:rPr>
                  <a:t>Java VM</a:t>
                </a:r>
                <a:endParaRPr b="0" lang="en-US" sz="2000" spc="-1" strike="noStrike">
                  <a:solidFill>
                    <a:srgbClr val="000099"/>
                  </a:solidFill>
                  <a:latin typeface="Verdana"/>
                </a:endParaRPr>
              </a:p>
            </p:txBody>
          </p:sp>
        </p:grpSp>
        <p:pic>
          <p:nvPicPr>
            <p:cNvPr id="733" name="Picture 49" descr="JavaModule"/>
            <p:cNvPicPr/>
            <p:nvPr/>
          </p:nvPicPr>
          <p:blipFill>
            <a:blip r:embed="rId7"/>
            <a:stretch/>
          </p:blipFill>
          <p:spPr>
            <a:xfrm>
              <a:off x="1806480" y="3560760"/>
              <a:ext cx="388800" cy="38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34" name="Line 2170"/>
          <p:cNvSpPr/>
          <p:nvPr/>
        </p:nvSpPr>
        <p:spPr>
          <a:xfrm>
            <a:off x="3692520" y="3753000"/>
            <a:ext cx="195120" cy="0"/>
          </a:xfrm>
          <a:prstGeom prst="line">
            <a:avLst/>
          </a:prstGeom>
          <a:ln w="7632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35" name="Line 2176"/>
          <p:cNvSpPr/>
          <p:nvPr/>
        </p:nvSpPr>
        <p:spPr>
          <a:xfrm>
            <a:off x="3692520" y="4329000"/>
            <a:ext cx="195120" cy="0"/>
          </a:xfrm>
          <a:prstGeom prst="line">
            <a:avLst/>
          </a:prstGeom>
          <a:ln w="7632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736" name="Group 2178"/>
          <p:cNvGrpSpPr/>
          <p:nvPr/>
        </p:nvGrpSpPr>
        <p:grpSpPr>
          <a:xfrm>
            <a:off x="1727280" y="4667400"/>
            <a:ext cx="1949400" cy="490320"/>
            <a:chOff x="1727280" y="4667400"/>
            <a:chExt cx="1949400" cy="490320"/>
          </a:xfrm>
        </p:grpSpPr>
        <p:sp>
          <p:nvSpPr>
            <p:cNvPr id="737" name="AutoShape 2179"/>
            <p:cNvSpPr/>
            <p:nvPr/>
          </p:nvSpPr>
          <p:spPr>
            <a:xfrm>
              <a:off x="1727280" y="4667400"/>
              <a:ext cx="1941120" cy="447840"/>
            </a:xfrm>
            <a:prstGeom prst="roundRect">
              <a:avLst>
                <a:gd name="adj" fmla="val 1755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8e6e9"/>
                </a:gs>
              </a:gsLst>
              <a:lin ang="10800000"/>
            </a:gradFill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738" name="Text Box 2180"/>
            <p:cNvSpPr/>
            <p:nvPr/>
          </p:nvSpPr>
          <p:spPr>
            <a:xfrm>
              <a:off x="1727280" y="4667400"/>
              <a:ext cx="1949400" cy="49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80000" tIns="0" bIns="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3cc"/>
                  </a:solidFill>
                  <a:latin typeface="Arial"/>
                </a:rPr>
                <a:t>Perl VM</a:t>
              </a:r>
              <a:endParaRPr b="0" lang="en-US" sz="20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sp>
        <p:nvSpPr>
          <p:cNvPr id="739" name="Line 2182"/>
          <p:cNvSpPr/>
          <p:nvPr/>
        </p:nvSpPr>
        <p:spPr>
          <a:xfrm>
            <a:off x="3697200" y="4905360"/>
            <a:ext cx="195480" cy="0"/>
          </a:xfrm>
          <a:prstGeom prst="line">
            <a:avLst/>
          </a:prstGeom>
          <a:ln w="7632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740" name="Group 2184"/>
          <p:cNvGrpSpPr/>
          <p:nvPr/>
        </p:nvGrpSpPr>
        <p:grpSpPr>
          <a:xfrm>
            <a:off x="1727280" y="5243400"/>
            <a:ext cx="1949400" cy="490680"/>
            <a:chOff x="1727280" y="5243400"/>
            <a:chExt cx="1949400" cy="490680"/>
          </a:xfrm>
        </p:grpSpPr>
        <p:sp>
          <p:nvSpPr>
            <p:cNvPr id="741" name="AutoShape 2185"/>
            <p:cNvSpPr/>
            <p:nvPr/>
          </p:nvSpPr>
          <p:spPr>
            <a:xfrm>
              <a:off x="1727280" y="5243400"/>
              <a:ext cx="1941120" cy="448200"/>
            </a:xfrm>
            <a:prstGeom prst="roundRect">
              <a:avLst>
                <a:gd name="adj" fmla="val 1755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8e6e9"/>
                </a:gs>
              </a:gsLst>
              <a:lin ang="10800000"/>
            </a:gradFill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742" name="Text Box 2186"/>
            <p:cNvSpPr/>
            <p:nvPr/>
          </p:nvSpPr>
          <p:spPr>
            <a:xfrm>
              <a:off x="1727280" y="5243400"/>
              <a:ext cx="1949400" cy="49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80000" tIns="0" bIns="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cc00"/>
                  </a:solidFill>
                  <a:latin typeface="Arial"/>
                </a:rPr>
                <a:t>Python VM</a:t>
              </a:r>
              <a:endParaRPr b="0" lang="en-US" sz="20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sp>
        <p:nvSpPr>
          <p:cNvPr id="743" name="Line 2188"/>
          <p:cNvSpPr/>
          <p:nvPr/>
        </p:nvSpPr>
        <p:spPr>
          <a:xfrm>
            <a:off x="3697200" y="5481720"/>
            <a:ext cx="195480" cy="0"/>
          </a:xfrm>
          <a:prstGeom prst="line">
            <a:avLst/>
          </a:prstGeom>
          <a:ln w="7632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744" name="Group 2190"/>
          <p:cNvGrpSpPr/>
          <p:nvPr/>
        </p:nvGrpSpPr>
        <p:grpSpPr>
          <a:xfrm>
            <a:off x="1727280" y="2924280"/>
            <a:ext cx="1949400" cy="490320"/>
            <a:chOff x="1727280" y="2924280"/>
            <a:chExt cx="1949400" cy="490320"/>
          </a:xfrm>
        </p:grpSpPr>
        <p:sp>
          <p:nvSpPr>
            <p:cNvPr id="745" name="AutoShape 2191"/>
            <p:cNvSpPr/>
            <p:nvPr/>
          </p:nvSpPr>
          <p:spPr>
            <a:xfrm>
              <a:off x="1727280" y="2924280"/>
              <a:ext cx="1941120" cy="447840"/>
            </a:xfrm>
            <a:prstGeom prst="roundRect">
              <a:avLst>
                <a:gd name="adj" fmla="val 1755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8e6e9"/>
                </a:gs>
              </a:gsLst>
              <a:lin ang="10800000"/>
            </a:gradFill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746" name="Text Box 2192"/>
            <p:cNvSpPr/>
            <p:nvPr/>
          </p:nvSpPr>
          <p:spPr>
            <a:xfrm>
              <a:off x="1727280" y="2924280"/>
              <a:ext cx="1949400" cy="49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80000" tIns="0" bIns="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cc33"/>
                  </a:solidFill>
                  <a:latin typeface="Arial"/>
                </a:rPr>
                <a:t>Direct Link</a:t>
              </a:r>
              <a:endParaRPr b="0" lang="en-US" sz="20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sp>
        <p:nvSpPr>
          <p:cNvPr id="747" name="Line 2194"/>
          <p:cNvSpPr/>
          <p:nvPr/>
        </p:nvSpPr>
        <p:spPr>
          <a:xfrm>
            <a:off x="3697200" y="3162240"/>
            <a:ext cx="195480" cy="0"/>
          </a:xfrm>
          <a:prstGeom prst="line">
            <a:avLst/>
          </a:prstGeom>
          <a:ln w="7632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748" name="Group 2198"/>
          <p:cNvGrpSpPr/>
          <p:nvPr/>
        </p:nvGrpSpPr>
        <p:grpSpPr>
          <a:xfrm>
            <a:off x="1722600" y="4091040"/>
            <a:ext cx="1949400" cy="489960"/>
            <a:chOff x="1722600" y="4091040"/>
            <a:chExt cx="1949400" cy="489960"/>
          </a:xfrm>
        </p:grpSpPr>
        <p:grpSp>
          <p:nvGrpSpPr>
            <p:cNvPr id="749" name="Group 2172"/>
            <p:cNvGrpSpPr/>
            <p:nvPr/>
          </p:nvGrpSpPr>
          <p:grpSpPr>
            <a:xfrm>
              <a:off x="1722600" y="4091040"/>
              <a:ext cx="1949400" cy="489960"/>
              <a:chOff x="1722600" y="4091040"/>
              <a:chExt cx="1949400" cy="489960"/>
            </a:xfrm>
          </p:grpSpPr>
          <p:sp>
            <p:nvSpPr>
              <p:cNvPr id="750" name="AutoShape 2173"/>
              <p:cNvSpPr/>
              <p:nvPr/>
            </p:nvSpPr>
            <p:spPr>
              <a:xfrm>
                <a:off x="1722600" y="4091040"/>
                <a:ext cx="1941120" cy="447480"/>
              </a:xfrm>
              <a:prstGeom prst="roundRect">
                <a:avLst>
                  <a:gd name="adj" fmla="val 1755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8e6e9"/>
                  </a:gs>
                </a:gsLst>
                <a:lin ang="10800000"/>
              </a:gradFill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Verdana"/>
                </a:endParaRPr>
              </a:p>
            </p:txBody>
          </p:sp>
          <p:sp>
            <p:nvSpPr>
              <p:cNvPr id="751" name="Text Box 2174"/>
              <p:cNvSpPr/>
              <p:nvPr/>
            </p:nvSpPr>
            <p:spPr>
              <a:xfrm>
                <a:off x="1722600" y="4091040"/>
                <a:ext cx="1949400" cy="48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180000" tIns="0" bIns="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cc00"/>
                    </a:solidFill>
                    <a:latin typeface="Arial"/>
                  </a:rPr>
                  <a:t>Tcl VM</a:t>
                </a:r>
                <a:endParaRPr b="0" lang="en-US" sz="2000" spc="-1" strike="noStrike">
                  <a:solidFill>
                    <a:srgbClr val="000099"/>
                  </a:solidFill>
                  <a:latin typeface="Verdana"/>
                </a:endParaRPr>
              </a:p>
            </p:txBody>
          </p:sp>
        </p:grpSp>
        <p:pic>
          <p:nvPicPr>
            <p:cNvPr id="752" name="Picture 2196" descr="New Image"/>
            <p:cNvPicPr/>
            <p:nvPr/>
          </p:nvPicPr>
          <p:blipFill>
            <a:blip r:embed="rId8"/>
            <a:stretch/>
          </p:blipFill>
          <p:spPr>
            <a:xfrm>
              <a:off x="1824120" y="4176720"/>
              <a:ext cx="334440" cy="335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53" name="Slide Number Placeholder 58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FD095-151E-46C2-B975-7A8F3CB9A454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54" name="Date Placeholder 59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55" name="Footer Placeholder 60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1000"/>
                            </p:stCondLst>
                            <p:childTnLst>
                              <p:par>
                                <p:cTn id="19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2" dur="5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1500"/>
                            </p:stCondLst>
                            <p:childTnLst>
                              <p:par>
                                <p:cTn id="1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5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" dur="5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5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2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" dur="5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5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5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5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2500"/>
                            </p:stCondLst>
                            <p:childTnLst>
                              <p:par>
                                <p:cTn id="2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5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5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5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shock of Tcl 8.6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Porting existing code to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ase study: the Ellogon NLP platform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Tcl facilities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Organisation of classes in Ellogon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reating an Annotation Too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atenating Dialog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lusion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06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D5B50-AFCA-4AE3-A957-FB775410197C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07" name="Date Placeholder 8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08" name="Footer Placeholder 9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The roadmap for Ellogon 2.0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goals for Ellogon 2.0 are: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Make Ellogon’s core thread safe (done)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Make Ellogon multi-threaded (feasible?)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How Ellogon &amp; the Tcl thread model can cooperate?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Modernise GUI (using OO and ttk widgets)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~30% completed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nitially written in iTcl, now ported to TclOO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ncludes a complete rewrite of </a:t>
            </a:r>
            <a:r>
              <a:rPr b="0" lang="en-US" sz="2200" spc="-1" strike="noStrike">
                <a:solidFill>
                  <a:srgbClr val="ff0000"/>
                </a:solidFill>
                <a:latin typeface="Verdana"/>
              </a:rPr>
              <a:t>Annotation Tools</a:t>
            </a: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 of Ellogon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58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72925-A960-432F-A6BA-6AFC7B9D040D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59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60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Annotation Tools: polymorphism required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nnotation tools is a very demanding area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 lot of tasks that need annotated corpora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Each task, may have its own annotation scheme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Each group, may pose different requirements for the too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first generation of tools was: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ded in plain Tcl/Tk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difficult to adapt/extend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63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75725-1D7E-4172-A84D-80D76E8CFB58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64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65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First generation tools (1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67" name="Picture 5" descr="EditAnnotationTools-TokenPosAttribute"/>
          <p:cNvPicPr/>
          <p:nvPr/>
        </p:nvPicPr>
        <p:blipFill>
          <a:blip r:embed="rId1"/>
          <a:stretch/>
        </p:blipFill>
        <p:spPr>
          <a:xfrm>
            <a:off x="674640" y="1125360"/>
            <a:ext cx="7794720" cy="5194440"/>
          </a:xfrm>
          <a:prstGeom prst="rect">
            <a:avLst/>
          </a:prstGeom>
          <a:ln w="0">
            <a:noFill/>
          </a:ln>
        </p:spPr>
      </p:pic>
      <p:sp>
        <p:nvSpPr>
          <p:cNvPr id="768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BD7FC-26DE-4C05-9822-4F6F7B1990D2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69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70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First generation tools (2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72" name="Picture 8" descr="EllogonEditAnnotationsOnHTML1"/>
          <p:cNvPicPr/>
          <p:nvPr/>
        </p:nvPicPr>
        <p:blipFill>
          <a:blip r:embed="rId1"/>
          <a:stretch/>
        </p:blipFill>
        <p:spPr>
          <a:xfrm>
            <a:off x="1339920" y="1197000"/>
            <a:ext cx="6464160" cy="5040360"/>
          </a:xfrm>
          <a:prstGeom prst="rect">
            <a:avLst/>
          </a:prstGeom>
          <a:ln w="0">
            <a:noFill/>
          </a:ln>
        </p:spPr>
      </p:pic>
      <p:sp>
        <p:nvSpPr>
          <p:cNvPr id="773" name="Slide Number Placeholder 6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66A9F-9FB0-4407-9FDC-64728DA2C3EF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74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75" name="Footer Placeholder 7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First generation tools (3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77" name="Picture 6" descr="EditingHierarchies"/>
          <p:cNvPicPr/>
          <p:nvPr/>
        </p:nvPicPr>
        <p:blipFill>
          <a:blip r:embed="rId1"/>
          <a:stretch/>
        </p:blipFill>
        <p:spPr>
          <a:xfrm>
            <a:off x="620640" y="1197000"/>
            <a:ext cx="7902720" cy="5040360"/>
          </a:xfrm>
          <a:prstGeom prst="rect">
            <a:avLst/>
          </a:prstGeom>
          <a:ln w="0">
            <a:noFill/>
          </a:ln>
        </p:spPr>
      </p:pic>
      <p:sp>
        <p:nvSpPr>
          <p:cNvPr id="778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161E1-5FC7-4939-AA8B-D7079C8F3034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79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80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generation tools (1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82" name="Picture 2" descr="C:\Users\George\Pictures\Ellogon-Annotator.png"/>
          <p:cNvPicPr/>
          <p:nvPr/>
        </p:nvPicPr>
        <p:blipFill>
          <a:blip r:embed="rId1"/>
          <a:stretch/>
        </p:blipFill>
        <p:spPr>
          <a:xfrm>
            <a:off x="147600" y="1295280"/>
            <a:ext cx="8848800" cy="4800600"/>
          </a:xfrm>
          <a:prstGeom prst="rect">
            <a:avLst/>
          </a:prstGeom>
          <a:ln w="0">
            <a:noFill/>
          </a:ln>
        </p:spPr>
      </p:pic>
      <p:sp>
        <p:nvSpPr>
          <p:cNvPr id="783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51060-4D73-417F-8514-78ECEC1E8DD3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84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85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generation tools (2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87" name="Picture 2" descr="C:\Users\George\Pictures\ZScreen Images\Text_Visual_Annotation_Editor...-20100728161851.png"/>
          <p:cNvPicPr/>
          <p:nvPr/>
        </p:nvPicPr>
        <p:blipFill>
          <a:blip r:embed="rId1"/>
          <a:stretch/>
        </p:blipFill>
        <p:spPr>
          <a:xfrm>
            <a:off x="147600" y="1295280"/>
            <a:ext cx="8850240" cy="4800600"/>
          </a:xfrm>
          <a:prstGeom prst="rect">
            <a:avLst/>
          </a:prstGeom>
          <a:ln w="0">
            <a:noFill/>
          </a:ln>
        </p:spPr>
      </p:pic>
      <p:sp>
        <p:nvSpPr>
          <p:cNvPr id="788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FC502-C44C-4F1B-AE49-0C30F0710D0C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89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90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generation tools (3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92" name="Picture 2" descr="C:\Users\George\Pictures\ZScreen Images\Text_Visual_Annotation_Editor...-20100728161803.png"/>
          <p:cNvPicPr/>
          <p:nvPr/>
        </p:nvPicPr>
        <p:blipFill>
          <a:blip r:embed="rId1"/>
          <a:stretch/>
        </p:blipFill>
        <p:spPr>
          <a:xfrm>
            <a:off x="146160" y="1295280"/>
            <a:ext cx="8850240" cy="4800600"/>
          </a:xfrm>
          <a:prstGeom prst="rect">
            <a:avLst/>
          </a:prstGeom>
          <a:ln w="0">
            <a:noFill/>
          </a:ln>
        </p:spPr>
      </p:pic>
      <p:sp>
        <p:nvSpPr>
          <p:cNvPr id="793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DC3FF-607A-4ADE-A6A3-0FEFBC621D76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94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95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generation tools (4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97" name="Picture 2" descr="C:\Users\George\Pictures\ZScreen Images\Text_Visual_Annotation_Editor...-20100728161833.png"/>
          <p:cNvPicPr/>
          <p:nvPr/>
        </p:nvPicPr>
        <p:blipFill>
          <a:blip r:embed="rId1"/>
          <a:stretch/>
        </p:blipFill>
        <p:spPr>
          <a:xfrm>
            <a:off x="147600" y="1295280"/>
            <a:ext cx="8848800" cy="4800600"/>
          </a:xfrm>
          <a:prstGeom prst="rect">
            <a:avLst/>
          </a:prstGeom>
          <a:ln w="0">
            <a:noFill/>
          </a:ln>
        </p:spPr>
      </p:pic>
      <p:sp>
        <p:nvSpPr>
          <p:cNvPr id="798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45542-5A8D-40A5-976E-94071EC6C4F0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99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00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generation tools (5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2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FFFA9-A330-4CD9-BAAA-67A5481B7DE0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03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04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805" name="Picture 2" descr="C:\Users\George\Pictures\ZScreen Images\Text_Visual_Annotation_Editor_with_Annotation-based_text_selection...-20100728162045.png"/>
          <p:cNvPicPr/>
          <p:nvPr/>
        </p:nvPicPr>
        <p:blipFill>
          <a:blip r:embed="rId1"/>
          <a:stretch/>
        </p:blipFill>
        <p:spPr>
          <a:xfrm>
            <a:off x="1031760" y="1066680"/>
            <a:ext cx="7080480" cy="541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iTcl and Tcl 8.6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0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ssume an application that uses Itc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What happens if it is run under ActiveTcl 8.6 beta?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511" name="Picture 2" descr="C:\Users\George\Pictures\Itcl-Crash.png"/>
          <p:cNvPicPr/>
          <p:nvPr/>
        </p:nvPicPr>
        <p:blipFill>
          <a:blip r:embed="rId1"/>
          <a:stretch/>
        </p:blipFill>
        <p:spPr>
          <a:xfrm>
            <a:off x="1752480" y="2209680"/>
            <a:ext cx="6324840" cy="4006800"/>
          </a:xfrm>
          <a:prstGeom prst="rect">
            <a:avLst/>
          </a:prstGeom>
          <a:ln w="0">
            <a:noFill/>
          </a:ln>
        </p:spPr>
      </p:pic>
      <p:sp>
        <p:nvSpPr>
          <p:cNvPr id="512" name="Slide Number Placeholder 5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D8CF1-E41F-4202-881B-4790EE39E45A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13" name="Date Placeholder 6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14" name="Footer Placeholder 7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generation tools (6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807" name="Picture 2" descr="C:\Users\George\Pictures\ZScreen Images\Text_Visual_Annotation_Editor_with_Events...-20100728162221.png"/>
          <p:cNvPicPr/>
          <p:nvPr/>
        </p:nvPicPr>
        <p:blipFill>
          <a:blip r:embed="rId1"/>
          <a:stretch/>
        </p:blipFill>
        <p:spPr>
          <a:xfrm>
            <a:off x="1031760" y="1143000"/>
            <a:ext cx="7080480" cy="5113440"/>
          </a:xfrm>
          <a:prstGeom prst="rect">
            <a:avLst/>
          </a:prstGeom>
          <a:ln w="0">
            <a:noFill/>
          </a:ln>
        </p:spPr>
      </p:pic>
      <p:sp>
        <p:nvSpPr>
          <p:cNvPr id="808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C756A-8A8C-4DC1-888F-60161B6C0D20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09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10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generation tools (7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2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FD947-8BA5-4B9A-A432-D3F3F54C7356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13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14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815" name="Picture 2" descr="C:\Users\George\Pictures\ZScreen Images\Text_Visual_Annotation_Editor...-20100728161941.png"/>
          <p:cNvPicPr/>
          <p:nvPr/>
        </p:nvPicPr>
        <p:blipFill>
          <a:blip r:embed="rId1"/>
          <a:stretch/>
        </p:blipFill>
        <p:spPr>
          <a:xfrm>
            <a:off x="957240" y="995400"/>
            <a:ext cx="7229520" cy="54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generation tools (8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7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9D1EE-A838-40C8-ACA5-D4C9123C3740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18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19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820" name="Picture 2" descr="C:\Users\George\Pictures\ZScreen Images\Text_Visual_Annotation_Editor...-20100728161951.png"/>
          <p:cNvPicPr/>
          <p:nvPr/>
        </p:nvPicPr>
        <p:blipFill>
          <a:blip r:embed="rId1"/>
          <a:stretch/>
        </p:blipFill>
        <p:spPr>
          <a:xfrm>
            <a:off x="957240" y="995400"/>
            <a:ext cx="7229520" cy="54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generation tools (9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22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11943-1E8C-4B09-9309-19F2C57EFB9B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23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24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825" name="Picture 2" descr="C:\Users\George\Pictures\ZScreen Images\Text_Visual_Annotation_Editor...-20100728161957.png"/>
          <p:cNvPicPr/>
          <p:nvPr/>
        </p:nvPicPr>
        <p:blipFill>
          <a:blip r:embed="rId1"/>
          <a:stretch/>
        </p:blipFill>
        <p:spPr>
          <a:xfrm>
            <a:off x="957240" y="995400"/>
            <a:ext cx="7229520" cy="54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generation tools (10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827" name="Picture 2" descr="C:\Users\George\Pictures\ZScreen Images\Aligned_Text_Visual_Annotation_Editor...-20100728164754.png"/>
          <p:cNvPicPr/>
          <p:nvPr/>
        </p:nvPicPr>
        <p:blipFill>
          <a:blip r:embed="rId1"/>
          <a:stretch/>
        </p:blipFill>
        <p:spPr>
          <a:xfrm>
            <a:off x="117360" y="1219320"/>
            <a:ext cx="8909280" cy="4962240"/>
          </a:xfrm>
          <a:prstGeom prst="rect">
            <a:avLst/>
          </a:prstGeom>
          <a:ln w="0">
            <a:noFill/>
          </a:ln>
        </p:spPr>
      </p:pic>
      <p:sp>
        <p:nvSpPr>
          <p:cNvPr id="828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5E86C-6892-4A25-8F9A-80CD66055DAD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29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30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asses Decomposition (1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832" name="Picture 2" descr="C:\Users\George\Pictures\ZScreen Images\Text_Visual_Annotation_Editor_with_Events...-20100728162221.png"/>
          <p:cNvPicPr/>
          <p:nvPr/>
        </p:nvPicPr>
        <p:blipFill>
          <a:blip r:embed="rId1"/>
          <a:stretch/>
        </p:blipFill>
        <p:spPr>
          <a:xfrm>
            <a:off x="1031760" y="1143000"/>
            <a:ext cx="7080480" cy="5113440"/>
          </a:xfrm>
          <a:prstGeom prst="rect">
            <a:avLst/>
          </a:prstGeom>
          <a:ln w="0">
            <a:noFill/>
          </a:ln>
        </p:spPr>
      </p:pic>
      <p:sp>
        <p:nvSpPr>
          <p:cNvPr id="833" name="TextBox 4"/>
          <p:cNvSpPr/>
          <p:nvPr/>
        </p:nvSpPr>
        <p:spPr>
          <a:xfrm>
            <a:off x="3257640" y="1230480"/>
            <a:ext cx="26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ToplevelWindow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34" name="TextBox 5"/>
          <p:cNvSpPr/>
          <p:nvPr/>
        </p:nvSpPr>
        <p:spPr>
          <a:xfrm>
            <a:off x="1143000" y="1828800"/>
            <a:ext cx="3352680" cy="4114800"/>
          </a:xfrm>
          <a:prstGeom prst="rect">
            <a:avLst/>
          </a:prstGeom>
          <a:solidFill>
            <a:srgbClr val="ff0000">
              <a:alpha val="10000"/>
            </a:srgbClr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TextWidgetDisplay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35" name="TextBox 6"/>
          <p:cNvSpPr/>
          <p:nvPr/>
        </p:nvSpPr>
        <p:spPr>
          <a:xfrm>
            <a:off x="4648320" y="3276720"/>
            <a:ext cx="3352680" cy="2590560"/>
          </a:xfrm>
          <a:prstGeom prst="rect">
            <a:avLst/>
          </a:prstGeom>
          <a:solidFill>
            <a:srgbClr val="008000">
              <a:alpha val="10000"/>
            </a:srgbClr>
          </a:solidFill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Verdana"/>
              </a:rPr>
              <a:t>ButtonAnnotator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36" name="TextBox 7"/>
          <p:cNvSpPr/>
          <p:nvPr/>
        </p:nvSpPr>
        <p:spPr>
          <a:xfrm>
            <a:off x="1066680" y="1523880"/>
            <a:ext cx="4114800" cy="228600"/>
          </a:xfrm>
          <a:prstGeom prst="rect">
            <a:avLst/>
          </a:prstGeom>
          <a:solidFill>
            <a:srgbClr val="0070c0">
              <a:alpha val="10000"/>
            </a:srgbClr>
          </a:solidFill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Verdana"/>
              </a:rPr>
              <a:t>DocumentSelector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cxnSp>
        <p:nvCxnSpPr>
          <p:cNvPr id="837" name="Straight Arrow Connector 10"/>
          <p:cNvCxnSpPr/>
          <p:nvPr/>
        </p:nvCxnSpPr>
        <p:spPr>
          <a:xfrm flipV="1">
            <a:off x="4495320" y="1676160"/>
            <a:ext cx="1143720" cy="76248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838" name="Straight Arrow Connector 15"/>
          <p:cNvCxnSpPr/>
          <p:nvPr/>
        </p:nvCxnSpPr>
        <p:spPr>
          <a:xfrm flipV="1">
            <a:off x="5866200" y="1675800"/>
            <a:ext cx="686520" cy="1448280"/>
          </a:xfrm>
          <a:prstGeom prst="straightConnector1">
            <a:avLst/>
          </a:prstGeom>
          <a:ln w="28440">
            <a:solidFill>
              <a:srgbClr val="92d050"/>
            </a:solidFill>
            <a:miter/>
            <a:tailEnd len="med" type="arrow" w="med"/>
          </a:ln>
        </p:spPr>
      </p:cxnSp>
      <p:sp>
        <p:nvSpPr>
          <p:cNvPr id="839" name="TextBox 8"/>
          <p:cNvSpPr/>
          <p:nvPr/>
        </p:nvSpPr>
        <p:spPr>
          <a:xfrm>
            <a:off x="4648320" y="1828800"/>
            <a:ext cx="3352680" cy="1143000"/>
          </a:xfrm>
          <a:prstGeom prst="rect">
            <a:avLst/>
          </a:prstGeom>
          <a:solidFill>
            <a:srgbClr val="ffc000">
              <a:alpha val="10000"/>
            </a:srgbClr>
          </a:solidFill>
          <a:ln w="28440">
            <a:solidFill>
              <a:srgbClr val="d55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55000"/>
                </a:solidFill>
                <a:latin typeface="Verdana"/>
              </a:rPr>
              <a:t>EventDefiner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40" name="Slide Number Placeholder 12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A336A-8A54-4A3E-8FF8-195BF888DE9E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41" name="Date Placeholder 11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42" name="Footer Placeholder 13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500"/>
                                        <p:tgtEl>
                                          <p:spTgt spid="8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500"/>
                            </p:stCondLst>
                            <p:childTnLst>
                              <p:par>
                                <p:cTn id="2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500"/>
                                        <p:tgtEl>
                                          <p:spTgt spid="8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500"/>
                                        <p:tgtEl>
                                          <p:spTgt spid="8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1000"/>
                            </p:stCondLst>
                            <p:childTnLst>
                              <p:par>
                                <p:cTn id="2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500"/>
                                        <p:tgtEl>
                                          <p:spTgt spid="8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500"/>
                                        <p:tgtEl>
                                          <p:spTgt spid="8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500"/>
                            </p:stCondLst>
                            <p:childTnLst>
                              <p:par>
                                <p:cTn id="2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500"/>
                                        <p:tgtEl>
                                          <p:spTgt spid="8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500"/>
                                        <p:tgtEl>
                                          <p:spTgt spid="8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2000"/>
                            </p:stCondLst>
                            <p:childTnLst>
                              <p:par>
                                <p:cTn id="2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500"/>
                                        <p:tgtEl>
                                          <p:spTgt spid="8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500"/>
                                        <p:tgtEl>
                                          <p:spTgt spid="8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2500"/>
                            </p:stCondLst>
                            <p:childTnLst>
                              <p:par>
                                <p:cTn id="2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asses Decomposition (2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844" name="Picture 2" descr="C:\Users\George\Pictures\ZScreen Images\Text_Visual_Annotation_Editor_with_Events...-20100728162221.png"/>
          <p:cNvPicPr/>
          <p:nvPr/>
        </p:nvPicPr>
        <p:blipFill>
          <a:blip r:embed="rId1"/>
          <a:stretch/>
        </p:blipFill>
        <p:spPr>
          <a:xfrm>
            <a:off x="1031760" y="1143000"/>
            <a:ext cx="7080480" cy="5113440"/>
          </a:xfrm>
          <a:prstGeom prst="rect">
            <a:avLst/>
          </a:prstGeom>
          <a:ln w="0">
            <a:noFill/>
          </a:ln>
        </p:spPr>
      </p:pic>
      <p:sp>
        <p:nvSpPr>
          <p:cNvPr id="845" name="TextBox 4"/>
          <p:cNvSpPr/>
          <p:nvPr/>
        </p:nvSpPr>
        <p:spPr>
          <a:xfrm>
            <a:off x="3257640" y="1143000"/>
            <a:ext cx="26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ToplevelWindow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46" name="TextBox 5"/>
          <p:cNvSpPr/>
          <p:nvPr/>
        </p:nvSpPr>
        <p:spPr>
          <a:xfrm>
            <a:off x="1143000" y="1828800"/>
            <a:ext cx="3352680" cy="4114800"/>
          </a:xfrm>
          <a:prstGeom prst="rect">
            <a:avLst/>
          </a:prstGeom>
          <a:solidFill>
            <a:srgbClr val="ff0000">
              <a:alpha val="10000"/>
            </a:srgbClr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TextWidgetDisplay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47" name="TextBox 6"/>
          <p:cNvSpPr/>
          <p:nvPr/>
        </p:nvSpPr>
        <p:spPr>
          <a:xfrm>
            <a:off x="4648320" y="3276720"/>
            <a:ext cx="3352680" cy="2590560"/>
          </a:xfrm>
          <a:prstGeom prst="rect">
            <a:avLst/>
          </a:prstGeom>
          <a:solidFill>
            <a:srgbClr val="008000">
              <a:alpha val="10000"/>
            </a:srgbClr>
          </a:solidFill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Verdana"/>
              </a:rPr>
              <a:t>ButtonAnnotator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48" name="TextBox 7"/>
          <p:cNvSpPr/>
          <p:nvPr/>
        </p:nvSpPr>
        <p:spPr>
          <a:xfrm>
            <a:off x="1066680" y="1523880"/>
            <a:ext cx="4114800" cy="228600"/>
          </a:xfrm>
          <a:prstGeom prst="rect">
            <a:avLst/>
          </a:prstGeom>
          <a:solidFill>
            <a:srgbClr val="0070c0">
              <a:alpha val="10000"/>
            </a:srgbClr>
          </a:solidFill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Verdana"/>
              </a:rPr>
              <a:t>DocumentSelector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cxnSp>
        <p:nvCxnSpPr>
          <p:cNvPr id="849" name="Straight Arrow Connector 10"/>
          <p:cNvCxnSpPr/>
          <p:nvPr/>
        </p:nvCxnSpPr>
        <p:spPr>
          <a:xfrm flipV="1">
            <a:off x="4495320" y="1676160"/>
            <a:ext cx="1143720" cy="76248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850" name="Straight Arrow Connector 15"/>
          <p:cNvCxnSpPr/>
          <p:nvPr/>
        </p:nvCxnSpPr>
        <p:spPr>
          <a:xfrm flipV="1">
            <a:off x="5866200" y="1675800"/>
            <a:ext cx="686520" cy="1448280"/>
          </a:xfrm>
          <a:prstGeom prst="straightConnector1">
            <a:avLst/>
          </a:prstGeom>
          <a:ln w="28440">
            <a:solidFill>
              <a:srgbClr val="92d050"/>
            </a:solidFill>
            <a:miter/>
            <a:tailEnd len="med" type="arrow" w="med"/>
          </a:ln>
        </p:spPr>
      </p:cxnSp>
      <p:sp>
        <p:nvSpPr>
          <p:cNvPr id="851" name="TextBox 8"/>
          <p:cNvSpPr/>
          <p:nvPr/>
        </p:nvSpPr>
        <p:spPr>
          <a:xfrm>
            <a:off x="4648320" y="1828800"/>
            <a:ext cx="3352680" cy="1143000"/>
          </a:xfrm>
          <a:prstGeom prst="rect">
            <a:avLst/>
          </a:prstGeom>
          <a:solidFill>
            <a:srgbClr val="ffc000">
              <a:alpha val="10000"/>
            </a:srgbClr>
          </a:solidFill>
          <a:ln w="28440">
            <a:solidFill>
              <a:srgbClr val="d55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55000"/>
                </a:solidFill>
                <a:latin typeface="Verdana"/>
              </a:rPr>
              <a:t>EventDefiner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852" name="Picture 2" descr="C:\Users\George\Pictures\ZScreen Images\TextAnnotatorWithEvents.tcl_D...lepELEPVisualAnnotators_-_GVIM2-20100728171340.png"/>
          <p:cNvPicPr/>
          <p:nvPr/>
        </p:nvPicPr>
        <p:blipFill>
          <a:blip r:embed="rId2"/>
          <a:stretch/>
        </p:blipFill>
        <p:spPr>
          <a:xfrm>
            <a:off x="1347840" y="1143000"/>
            <a:ext cx="6448320" cy="5143680"/>
          </a:xfrm>
          <a:prstGeom prst="rect">
            <a:avLst/>
          </a:prstGeom>
          <a:ln w="0">
            <a:noFill/>
          </a:ln>
        </p:spPr>
      </p:pic>
      <p:sp>
        <p:nvSpPr>
          <p:cNvPr id="853" name="Slide Number Placeholder 13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4BCE9-F983-438D-9E08-F42DAE185085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54" name="Date Placeholder 14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55" name="Footer Placeholder 1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7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shock of Tcl 8.6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Porting existing code to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ase study: the Ellogon NLP platform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iTcl facilities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Organisation of classes in Ellogon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reating an Annotation Too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atenating Dialog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lusion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58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243DC-67CD-458C-A089-AAE71E15EC04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59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60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llogon TclOO classes: cget/configure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2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dd cget/configure on all classe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No need for a complex implementation of configure/cget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I only use them to get/set variable values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Very easy to add new methods on all objects!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Everything is a child of oo::object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mple implementation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oo::define oo::object method cget {name} {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  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set name [string range $name 1 end]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  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my variable $name; return [set $name]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};# cget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63" name="Slide Number Placeholder 5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A7CA8-5B4F-4A2B-BCAE-1B5E5F4E4F05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64" name="Date Placeholder 4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65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866" name="Picture 2" descr="C:\Users\George\Pictures\ZScreen Images\Utilities.tcl_DUserspeta...2.0libelepELEPBase_-_GVIM1-20101007182431.png"/>
          <p:cNvPicPr/>
          <p:nvPr/>
        </p:nvPicPr>
        <p:blipFill>
          <a:blip r:embed="rId1"/>
          <a:stretch/>
        </p:blipFill>
        <p:spPr>
          <a:xfrm>
            <a:off x="976320" y="1309680"/>
            <a:ext cx="7191360" cy="47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llogon TclOO classes: common (1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8" name=""/>
          <p:cNvSpPr txBox="1"/>
          <p:nvPr/>
        </p:nvSpPr>
        <p:spPr>
          <a:xfrm>
            <a:off x="380520" y="1294920"/>
            <a:ext cx="8610840" cy="48006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clOO has another trick: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13160" indent="-27432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Procedure oo::define::&lt;name&gt; extends oo::clas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097280" indent="-21924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Implementing ::oo::define::common allows to use the keyword “common” during class creation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proc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::oo::define::common {varname args} {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  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if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[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llength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args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] &gt; </a:t>
            </a:r>
            <a:r>
              <a:rPr b="0" lang="en-US" sz="1800" spc="-1" strike="noStrike">
                <a:solidFill>
                  <a:srgbClr val="ff00ff"/>
                </a:solidFill>
                <a:latin typeface="Courier New"/>
                <a:ea typeface="Calibri"/>
              </a:rPr>
              <a:t>1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} { … }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  </a:t>
            </a: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alibri"/>
              </a:rPr>
              <a:t># Get the name of the current class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  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set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cls [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lindex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[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info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level -</a:t>
            </a:r>
            <a:r>
              <a:rPr b="0" lang="en-US" sz="1800" spc="-1" strike="noStrike">
                <a:solidFill>
                  <a:srgbClr val="ff00ff"/>
                </a:solidFill>
                <a:latin typeface="Courier New"/>
                <a:ea typeface="Calibri"/>
              </a:rPr>
              <a:t>1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] </a:t>
            </a:r>
            <a:r>
              <a:rPr b="0" lang="en-US" sz="1800" spc="-1" strike="noStrike">
                <a:solidFill>
                  <a:srgbClr val="ff00ff"/>
                </a:solidFill>
                <a:latin typeface="Courier New"/>
                <a:ea typeface="Calibri"/>
              </a:rPr>
              <a:t>1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]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  oo::define 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cls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self export varname;</a:t>
            </a: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alibri"/>
              </a:rPr>
              <a:t> # Export method varname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  </a:t>
            </a: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alibri"/>
              </a:rPr>
              <a:t># Initialise the variable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  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if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[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llength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args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]} {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   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set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[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cls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varname 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varname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] [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lindex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args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800" spc="-1" strike="noStrike">
                <a:solidFill>
                  <a:srgbClr val="ff00ff"/>
                </a:solidFill>
                <a:latin typeface="Courier New"/>
                <a:ea typeface="Calibri"/>
              </a:rPr>
              <a:t>0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]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  }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45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};</a:t>
            </a: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alibri"/>
              </a:rPr>
              <a:t># ::oo::define::common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69" name="Slide Number Placeholder 5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E9761-4CB4-4BAD-A229-EC1206E1823B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70" name="Date Placeholder 4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71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Ok, this happens as iTcl 3.4 is loaded in 8.6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Lets compile Tcl from sources (CVS HEAD 27/Jul/10)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Tcl now contains a new iTcl implementation (4.0b4)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iTcl and Tcl 8.6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517" name="Picture 2" descr="C:\Users\George\Pictures\Editor-Itcl4-Main.png"/>
          <p:cNvPicPr/>
          <p:nvPr/>
        </p:nvPicPr>
        <p:blipFill>
          <a:blip r:embed="rId1"/>
          <a:stretch/>
        </p:blipFill>
        <p:spPr>
          <a:xfrm>
            <a:off x="990720" y="3352680"/>
            <a:ext cx="7562880" cy="1162080"/>
          </a:xfrm>
          <a:prstGeom prst="rect">
            <a:avLst/>
          </a:prstGeom>
          <a:ln w="0">
            <a:noFill/>
          </a:ln>
        </p:spPr>
      </p:pic>
      <p:pic>
        <p:nvPicPr>
          <p:cNvPr id="518" name="Picture 3" descr="C:\Users\George\Pictures\Editor-Itcl4-Console.png"/>
          <p:cNvPicPr/>
          <p:nvPr/>
        </p:nvPicPr>
        <p:blipFill>
          <a:blip r:embed="rId2"/>
          <a:stretch/>
        </p:blipFill>
        <p:spPr>
          <a:xfrm>
            <a:off x="1550880" y="1219320"/>
            <a:ext cx="6602400" cy="5105160"/>
          </a:xfrm>
          <a:prstGeom prst="rect">
            <a:avLst/>
          </a:prstGeom>
          <a:ln w="0">
            <a:noFill/>
          </a:ln>
        </p:spPr>
      </p:pic>
      <p:sp>
        <p:nvSpPr>
          <p:cNvPr id="519" name="Slide Number Placeholder 6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A13C6-BBCD-464A-9EA9-728C686FB260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20" name="Date Placeholder 7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21" name="Footer Placeholder 8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llogon TclOO classes: common (2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3" name=""/>
          <p:cNvSpPr txBox="1"/>
          <p:nvPr/>
        </p:nvSpPr>
        <p:spPr>
          <a:xfrm>
            <a:off x="380520" y="1294920"/>
            <a:ext cx="8610840" cy="48006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But common also needs a method to be called from methods accessing common variable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oo::define oo::object method common {args} {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if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![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llength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args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]} 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return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set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callclass [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lindex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[self caller] </a:t>
            </a:r>
            <a:r>
              <a:rPr b="0" lang="en-US" sz="1800" spc="-1" strike="noStrike">
                <a:solidFill>
                  <a:srgbClr val="ff00ff"/>
                </a:solidFill>
                <a:latin typeface="Courier New"/>
                <a:ea typeface="Calibri"/>
              </a:rPr>
              <a:t>0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]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oo::define 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callclass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self export varname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foreach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vname 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args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  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lappend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pairs [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callclass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varname 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vname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] 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vname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}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uplevel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800" spc="-1" strike="noStrike">
                <a:solidFill>
                  <a:srgbClr val="ff00ff"/>
                </a:solidFill>
                <a:latin typeface="Courier New"/>
                <a:ea typeface="Calibri"/>
              </a:rPr>
              <a:t>1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upvar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*}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pairs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};</a:t>
            </a: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alibri"/>
              </a:rPr>
              <a:t># common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mmon and my cget/configure 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Verdana"/>
              </a:rPr>
              <a:t>do not mix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74" name="Slide Number Placeholder 5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D916B-D144-489A-8979-E03B606F77C3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75" name="Date Placeholder 4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76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llogon TclOO classes: class methods (1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8" name=""/>
          <p:cNvSpPr txBox="1"/>
          <p:nvPr/>
        </p:nvSpPr>
        <p:spPr>
          <a:xfrm>
            <a:off x="380520" y="1294920"/>
            <a:ext cx="8610840" cy="48006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>
              <a:lnSpc>
                <a:spcPct val="11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Calibri"/>
              </a:rPr>
              <a:t>## Define "classmethod"...</a:t>
            </a:r>
            <a:endParaRPr b="0" lang="en-US" sz="1600" spc="-1" strike="noStrike">
              <a:solidFill>
                <a:srgbClr val="000099"/>
              </a:solidFill>
              <a:latin typeface="Verdana"/>
            </a:endParaRPr>
          </a:p>
          <a:p>
            <a:pPr>
              <a:lnSpc>
                <a:spcPct val="11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proc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::oo::define::classmethod {name {args </a:t>
            </a:r>
            <a:r>
              <a:rPr b="0" lang="en-US" sz="1600" spc="-1" strike="noStrike">
                <a:solidFill>
                  <a:srgbClr val="ff00ff"/>
                </a:solidFill>
                <a:latin typeface="Courier New"/>
                <a:ea typeface="Calibri"/>
              </a:rPr>
              <a:t>""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} {body </a:t>
            </a:r>
            <a:r>
              <a:rPr b="0" lang="en-US" sz="1600" spc="-1" strike="noStrike">
                <a:solidFill>
                  <a:srgbClr val="ff00ff"/>
                </a:solidFill>
                <a:latin typeface="Courier New"/>
                <a:ea typeface="Calibri"/>
              </a:rPr>
              <a:t>""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}} {</a:t>
            </a:r>
            <a:br>
              <a:rPr sz="1600"/>
            </a:b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Calibri"/>
              </a:rPr>
              <a:t>  # Code from: </a:t>
            </a:r>
            <a:r>
              <a:rPr b="0" lang="en-US" sz="1600" spc="-1" strike="noStrike" u="sng">
                <a:solidFill>
                  <a:srgbClr val="336699"/>
                </a:solidFill>
                <a:uFillTx/>
                <a:latin typeface="Courier New"/>
                <a:ea typeface="Calibri"/>
                <a:hlinkClick r:id="rId1"/>
              </a:rPr>
              <a:t>http://wiki.tcl.tk/21595#pagetoce30e53a1</a:t>
            </a:r>
            <a:br>
              <a:rPr sz="1600"/>
            </a:b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set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argc [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llength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[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info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level </a:t>
            </a:r>
            <a:r>
              <a:rPr b="0" lang="en-US" sz="1600" spc="-1" strike="noStrike">
                <a:solidFill>
                  <a:srgbClr val="ff00ff"/>
                </a:solidFill>
                <a:latin typeface="Courier New"/>
                <a:ea typeface="Calibri"/>
              </a:rPr>
              <a:t>0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]]</a:t>
            </a:r>
            <a:br>
              <a:rPr sz="1600"/>
            </a:b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if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{</a:t>
            </a:r>
            <a:r>
              <a:rPr b="0" lang="en-US" sz="1600" spc="-1" strike="noStrike">
                <a:solidFill>
                  <a:srgbClr val="008080"/>
                </a:solidFill>
                <a:latin typeface="Courier New"/>
                <a:ea typeface="Calibri"/>
              </a:rPr>
              <a:t>$argc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== </a:t>
            </a:r>
            <a:r>
              <a:rPr b="0" lang="en-US" sz="1600" spc="-1" strike="noStrike">
                <a:solidFill>
                  <a:srgbClr val="ff00ff"/>
                </a:solidFill>
                <a:latin typeface="Courier New"/>
                <a:ea typeface="Calibri"/>
              </a:rPr>
              <a:t>4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} {</a:t>
            </a:r>
            <a:br>
              <a:rPr sz="1600"/>
            </a:b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   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uplevel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600" spc="-1" strike="noStrike">
                <a:solidFill>
                  <a:srgbClr val="ff00ff"/>
                </a:solidFill>
                <a:latin typeface="Courier New"/>
                <a:ea typeface="Calibri"/>
              </a:rPr>
              <a:t>1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[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list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self method </a:t>
            </a:r>
            <a:r>
              <a:rPr b="0" lang="en-US" sz="1600" spc="-1" strike="noStrike">
                <a:solidFill>
                  <a:srgbClr val="008080"/>
                </a:solidFill>
                <a:latin typeface="Courier New"/>
                <a:ea typeface="Calibri"/>
              </a:rPr>
              <a:t>$name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600" spc="-1" strike="noStrike">
                <a:solidFill>
                  <a:srgbClr val="008080"/>
                </a:solidFill>
                <a:latin typeface="Courier New"/>
                <a:ea typeface="Calibri"/>
              </a:rPr>
              <a:t>$args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600" spc="-1" strike="noStrike">
                <a:solidFill>
                  <a:srgbClr val="008080"/>
                </a:solidFill>
                <a:latin typeface="Courier New"/>
                <a:ea typeface="Calibri"/>
              </a:rPr>
              <a:t>$body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]</a:t>
            </a:r>
            <a:br>
              <a:rPr sz="1600"/>
            </a:b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 } 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elseif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{</a:t>
            </a:r>
            <a:r>
              <a:rPr b="0" lang="en-US" sz="1600" spc="-1" strike="noStrike">
                <a:solidFill>
                  <a:srgbClr val="008080"/>
                </a:solidFill>
                <a:latin typeface="Courier New"/>
                <a:ea typeface="Calibri"/>
              </a:rPr>
              <a:t>$argc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== </a:t>
            </a:r>
            <a:r>
              <a:rPr b="0" lang="en-US" sz="1600" spc="-1" strike="noStrike">
                <a:solidFill>
                  <a:srgbClr val="ff00ff"/>
                </a:solidFill>
                <a:latin typeface="Courier New"/>
                <a:ea typeface="Calibri"/>
              </a:rPr>
              <a:t>3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} {</a:t>
            </a:r>
            <a:br>
              <a:rPr sz="1600"/>
            </a:b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   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return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-code 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error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600" spc="-1" strike="noStrike">
                <a:solidFill>
                  <a:srgbClr val="ff00ff"/>
                </a:solidFill>
                <a:latin typeface="Courier New"/>
                <a:ea typeface="Calibri"/>
              </a:rPr>
              <a:t>"..."</a:t>
            </a:r>
            <a:br>
              <a:rPr sz="1600"/>
            </a:b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 }</a:t>
            </a:r>
            <a:br>
              <a:rPr sz="1600"/>
            </a:b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Calibri"/>
              </a:rPr>
              <a:t>  # Get the name of the current class</a:t>
            </a:r>
            <a:br>
              <a:rPr sz="1600"/>
            </a:b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set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cls [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lindex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[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info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level -</a:t>
            </a:r>
            <a:r>
              <a:rPr b="0" lang="en-US" sz="1600" spc="-1" strike="noStrike">
                <a:solidFill>
                  <a:srgbClr val="ff00ff"/>
                </a:solidFill>
                <a:latin typeface="Courier New"/>
                <a:ea typeface="Calibri"/>
              </a:rPr>
              <a:t>1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] </a:t>
            </a:r>
            <a:r>
              <a:rPr b="0" lang="en-US" sz="1600" spc="-1" strike="noStrike">
                <a:solidFill>
                  <a:srgbClr val="ff00ff"/>
                </a:solidFill>
                <a:latin typeface="Courier New"/>
                <a:ea typeface="Calibri"/>
              </a:rPr>
              <a:t>1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]</a:t>
            </a:r>
            <a:br>
              <a:rPr sz="1600"/>
            </a:b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Calibri"/>
              </a:rPr>
              <a:t>  # Get its private "my" command</a:t>
            </a:r>
            <a:br>
              <a:rPr sz="1600"/>
            </a:b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set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my [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info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object 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namespace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600" spc="-1" strike="noStrike">
                <a:solidFill>
                  <a:srgbClr val="008080"/>
                </a:solidFill>
                <a:latin typeface="Courier New"/>
                <a:ea typeface="Calibri"/>
              </a:rPr>
              <a:t>$cls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]::my</a:t>
            </a:r>
            <a:br>
              <a:rPr sz="1600"/>
            </a:b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Calibri"/>
              </a:rPr>
              <a:t>  # Make the connection by forwarding</a:t>
            </a:r>
            <a:br>
              <a:rPr sz="1600"/>
            </a:b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 tailcall forward </a:t>
            </a:r>
            <a:r>
              <a:rPr b="0" lang="en-US" sz="1600" spc="-1" strike="noStrike">
                <a:solidFill>
                  <a:srgbClr val="008080"/>
                </a:solidFill>
                <a:latin typeface="Courier New"/>
                <a:ea typeface="Calibri"/>
              </a:rPr>
              <a:t>$name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600" spc="-1" strike="noStrike">
                <a:solidFill>
                  <a:srgbClr val="008080"/>
                </a:solidFill>
                <a:latin typeface="Courier New"/>
                <a:ea typeface="Calibri"/>
              </a:rPr>
              <a:t>$my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600" spc="-1" strike="noStrike">
                <a:solidFill>
                  <a:srgbClr val="008080"/>
                </a:solidFill>
                <a:latin typeface="Courier New"/>
                <a:ea typeface="Calibri"/>
              </a:rPr>
              <a:t>$name</a:t>
            </a:r>
            <a:br>
              <a:rPr sz="1600"/>
            </a:b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};</a:t>
            </a: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Calibri"/>
              </a:rPr>
              <a:t># ::oo::define::classmethod</a:t>
            </a:r>
            <a:endParaRPr b="0" lang="en-US" sz="1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CCEF3-CCBD-4499-88E6-1A144836EF9E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80" name="Date Placeholder 4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81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llogon TclOO classes: class methods (2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3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What about inheritance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oo::class create ELEP::Base::Utilities {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  </a:t>
            </a:r>
            <a:r>
              <a:rPr b="0" lang="en-GB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classmethod userAppDir   {} {...}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}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oo::class create ELEP::System::System {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  </a:t>
            </a:r>
            <a:r>
              <a:rPr b="0" lang="en-US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superclass ELEP::Base::Utilities 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  </a:t>
            </a:r>
            <a:r>
              <a:rPr b="0" lang="en-US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classmethod systemConfigurationDir {} {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    </a:t>
            </a:r>
            <a:r>
              <a:rPr b="1" lang="en-US" sz="2000" spc="-1" strike="noStrike">
                <a:solidFill>
                  <a:srgbClr val="804040"/>
                </a:solidFill>
                <a:latin typeface="Courier New"/>
                <a:ea typeface="Calibri"/>
              </a:rPr>
              <a:t>return</a:t>
            </a:r>
            <a:r>
              <a:rPr b="0" lang="en-US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 [my userAppDir]/Systems/Config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  </a:t>
            </a:r>
            <a:r>
              <a:rPr b="0" lang="en-US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};</a:t>
            </a:r>
            <a:r>
              <a:rPr b="0" lang="en-US" sz="2000" spc="-1" strike="noStrike">
                <a:solidFill>
                  <a:srgbClr val="0000ff"/>
                </a:solidFill>
                <a:latin typeface="Courier New"/>
                <a:ea typeface="Calibri"/>
              </a:rPr>
              <a:t># systemConfigurationDir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</a:rPr>
              <a:t>unknown method "userAppDir"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84" name="Slide Number Placeholder 3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3C1D1-7D76-472E-BAA4-61C9A10B190D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85" name="Date Placeholder 4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86" name="Footer Placeholder 5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0" dur="500"/>
                                        <p:tgtEl>
                                          <p:spTgt spid="8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3" dur="500"/>
                                        <p:tgtEl>
                                          <p:spTgt spid="8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6" dur="500"/>
                                        <p:tgtEl>
                                          <p:spTgt spid="8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8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2" dur="500"/>
                                        <p:tgtEl>
                                          <p:spTgt spid="8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7" dur="500"/>
                                        <p:tgtEl>
                                          <p:spTgt spid="88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shock of Tcl 8.6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Porting existing code to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ase study: the Ellogon NLP platform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Tcl facilities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Organisation of classes in Ellogon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reating an Annotation Too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atenating Dialog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lusion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89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66E8D-FCDA-400B-B281-1733EB47279F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90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91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Widget classes (1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"/>
          <p:cNvSpPr txBox="1"/>
          <p:nvPr/>
        </p:nvSpPr>
        <p:spPr>
          <a:xfrm>
            <a:off x="380520" y="1294920"/>
            <a:ext cx="8610840" cy="4800600"/>
          </a:xfrm>
          <a:prstGeom prst="rect">
            <a:avLst/>
          </a:prstGeom>
          <a:noFill/>
          <a:ln w="0">
            <a:noFill/>
          </a:ln>
        </p:spPr>
        <p:txBody>
          <a:bodyPr rIns="360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n Ellogon, I don’t think in terms of Tk widget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13160" indent="-27432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n fact, I totally ignore them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29040" indent="-32904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Only 3 classes available, which represent widget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13160" indent="-27432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Toplevel, Dialog, Widget, RibbonToplevel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097280" indent="-21924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RibbonToplevel has a Windows Ribbon instead of a menu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29040" indent="-32904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ome common methods for all classe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13160" indent="-27432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getToplevel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13160" indent="-27432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getToplevelObject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13160" indent="-27432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getClientArea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29040" indent="-32904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utomatic variable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13160" indent="-27432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win for toplevel/dialog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13160" indent="-27432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widget for widget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94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D731F-BF10-4B1B-9EAA-8297B6C436E6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95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96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Widget classes (2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8" name=""/>
          <p:cNvSpPr txBox="1"/>
          <p:nvPr/>
        </p:nvSpPr>
        <p:spPr>
          <a:xfrm>
            <a:off x="380520" y="1294920"/>
            <a:ext cx="8610840" cy="4800600"/>
          </a:xfrm>
          <a:prstGeom prst="rect">
            <a:avLst/>
          </a:prstGeom>
          <a:noFill/>
          <a:ln w="0">
            <a:noFill/>
          </a:ln>
        </p:spPr>
        <p:txBody>
          <a:bodyPr rIns="36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Widgets are destroyed when objects are deleted, and vise versa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n a way similar to iTk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oplevel/Dialogs generate widgets based on the object name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Objects of the Widget class need the widget type and name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.e. Widget ttk::button .button ?args?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99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107D4-6C05-4EBA-8F95-DCA2EE917A88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00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01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llogon building block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3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Many building blocks that inherit Widge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Only the Tk widget that will contain the block is required (the “parent”)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.e. ButtonAnnotator, 1-Click selector, TemplateFiller, TextViewer, HTMLViewer, AllignedTextViewer, etc.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 generic class that represents an Annotation too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nherits from Toplevel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Splits client area into two columns, separated by a ttk::panedwindow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ll tools, subclass this class, add another layout if required, and create/place building block object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04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1B36F-E003-46B8-A42B-DED9C8C4205C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05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06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8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shock of Tcl 8.6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Porting existing code to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ase study: the Ellogon NLP platform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Tcl facilities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Organisation of classes in Ellogon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reating an Annotation Too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atenating Dialog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lusion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09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8E735-9FF4-4D19-9ED4-CB6858546C18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10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11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reating an Annotation Too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Gluing building blocks is easy, but what about the user experience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Lets see an example, by creating an Annotation tool that annotates a document with a semantic model (i.e. an ontology)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For this task, the bits required are: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314360" indent="-457200">
              <a:spcBef>
                <a:spcPts val="499"/>
              </a:spcBef>
              <a:buClr>
                <a:srgbClr val="000099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An annotator to annotate “properties” found in the text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2" marL="1314360" indent="-457200">
              <a:spcBef>
                <a:spcPts val="499"/>
              </a:spcBef>
              <a:buClr>
                <a:srgbClr val="000099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An annotator to group properties into objects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2" marL="1314360" indent="-457200">
              <a:spcBef>
                <a:spcPts val="499"/>
              </a:spcBef>
              <a:buClr>
                <a:srgbClr val="000099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An annotator to group objects into other objects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14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9ED59-FDF1-4DF3-B890-9DFF6ABED6EC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15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16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Annotating properties: the button annotator (1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918" name="Picture 2" descr="C:\Users\George\Pictures\Ellogon-Annotator.png"/>
          <p:cNvPicPr/>
          <p:nvPr/>
        </p:nvPicPr>
        <p:blipFill>
          <a:blip r:embed="rId1"/>
          <a:stretch/>
        </p:blipFill>
        <p:spPr>
          <a:xfrm>
            <a:off x="147600" y="1295280"/>
            <a:ext cx="8848800" cy="4800600"/>
          </a:xfrm>
          <a:prstGeom prst="rect">
            <a:avLst/>
          </a:prstGeom>
          <a:ln w="0">
            <a:noFill/>
          </a:ln>
        </p:spPr>
      </p:pic>
      <p:sp>
        <p:nvSpPr>
          <p:cNvPr id="919" name="Slide Number Placeholder 5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A3C17-9072-41F5-9F86-C58EEF29E981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20" name="Date Placeholder 4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21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iTcl and Tcl 8.6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Ok, iTcl 4.0 has a problem with a variable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Lets “correct” thi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Courier New"/>
              </a:rPr>
              <a:t>variable objectsTree {}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method CreatePropertiesPage_Objects {} {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  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chain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Courier New"/>
              </a:rPr>
              <a:t>catch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Courier New"/>
              </a:rPr>
              <a:t>{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$objectsTree configure -dropenabled 1 -dragenabled 1 \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     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-dropcmd "$this CreatePropertiesPage_Objects_DropEvent“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};# CreatePropertiesPage_Objects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524" name="Picture 2" descr="C:\Users\George\Pictures\Editor-Itcl4-Console2.png"/>
          <p:cNvPicPr/>
          <p:nvPr/>
        </p:nvPicPr>
        <p:blipFill>
          <a:blip r:embed="rId1"/>
          <a:stretch/>
        </p:blipFill>
        <p:spPr>
          <a:xfrm>
            <a:off x="182520" y="2133720"/>
            <a:ext cx="8778960" cy="4114800"/>
          </a:xfrm>
          <a:prstGeom prst="rect">
            <a:avLst/>
          </a:prstGeom>
          <a:ln w="0">
            <a:noFill/>
          </a:ln>
        </p:spPr>
      </p:pic>
      <p:sp>
        <p:nvSpPr>
          <p:cNvPr id="525" name="Slide Number Placeholder 5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09FEA-9052-48EE-9778-F47A5C360D01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26" name="Date Placeholder 6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27" name="Footer Placeholder 7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Annotating properties: the button annotator (2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3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operates with a viewer (text, HTML, Aligned text, Aligned HTML) and allows the user to annotate the selected text with one or more propertie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annotation schema is dynamic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Method createSpecificationSelectorObject()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Creates  an AnnotationSpecificationSelector object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Method show()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Calls AnnotationSpecificationSelector.show() and waits for an answer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Various schemas are read from an XML file, and presented to the user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Button annotator adapts to the selected schema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924" name="Picture 2" descr="D:\Tcl\Select_Annotation_Characteristics...-20100731080951.png"/>
          <p:cNvPicPr/>
          <p:nvPr/>
        </p:nvPicPr>
        <p:blipFill>
          <a:blip r:embed="rId1"/>
          <a:stretch/>
        </p:blipFill>
        <p:spPr>
          <a:xfrm>
            <a:off x="2152800" y="1600200"/>
            <a:ext cx="4838400" cy="2400480"/>
          </a:xfrm>
          <a:prstGeom prst="rect">
            <a:avLst/>
          </a:prstGeom>
          <a:ln w="0">
            <a:noFill/>
          </a:ln>
        </p:spPr>
      </p:pic>
      <p:sp>
        <p:nvSpPr>
          <p:cNvPr id="925" name="Slide Number Placeholder 6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3D31F-E05D-46C6-86C7-E35BA032FB2F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26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27" name="Footer Placeholder 7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9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9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500"/>
                            </p:stCondLst>
                            <p:childTnLst>
                              <p:par>
                                <p:cTn id="34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9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9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Grouping properties/object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9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TemplateFiller annotator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gain presents a dynamic schema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Now method createSpecificationSelectorObject()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Creates  an AnnotationAndTemplateSpecificationSelector object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How easy is to mix the two annotators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Easy, just create the two objects and place them on a single annotation tool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ny disadvantages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Yes. The user gets </a:t>
            </a:r>
            <a:r>
              <a:rPr b="0" lang="en-US" sz="2200" spc="-1" strike="noStrike" u="sng">
                <a:solidFill>
                  <a:srgbClr val="000099"/>
                </a:solidFill>
                <a:uFillTx/>
                <a:latin typeface="Verdana"/>
              </a:rPr>
              <a:t>two dialogs</a:t>
            </a: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 for configuring a single tool!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30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9EF03-0395-4134-A0E2-F71890E5A683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31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32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2" dur="500"/>
                                        <p:tgtEl>
                                          <p:spTgt spid="9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7" dur="500"/>
                                        <p:tgtEl>
                                          <p:spTgt spid="9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2" dur="500"/>
                                        <p:tgtEl>
                                          <p:spTgt spid="9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7" dur="500"/>
                                        <p:tgtEl>
                                          <p:spTgt spid="9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The multiple dialog issue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4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How can this be resolved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 new class must be created, which is the concatenation of the two configuration dialog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two objects must somehow create and use the same configuration objec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35" name="Slide Number Placeholder 5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7F1F2-000D-499D-A518-7E1D9BC5BA9A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36" name="Date Placeholder 4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37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9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shock of Tcl 8.6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Porting existing code to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ase study: the Ellogon NLP platform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Tcl facilities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Organisation of classes in Ellogon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reating an Annotation Too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oncatenating Dialog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lusion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40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E34CD-059D-4F30-BB9A-695B31F495C2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41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42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ncatenating dialogs (1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4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n iTcl was very easy: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Create a new class that inherits the two configuration object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Tcl has the ability to call explicitly methods from the class hierarchy: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Method populateDialogFrame() just creates two ttk::labelframe and calls populateDialogFrame() of the two inherited classes with the proper parent frame.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n TclOO the task is 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Verdana"/>
              </a:rPr>
              <a:t>far</a:t>
            </a: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 more complex!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You cannot simply inherit both classe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45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20065-A6F3-4B12-B125-0D8F148BFEEF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46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47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ncatenating dialogs (2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9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best alternative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reate a new class that behaves as both configuration selectors, and drives instances of the two selectors internally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The new class must have all methods of the two object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The new class must have all the public variables of both objects (so as cget/configure to work)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50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0E535-CB27-4125-905B-C83298B41460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51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52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xposing variables of contained object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Declare all variables as “automatic”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857160" indent="-45720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.e. in class, with the “variable” keyword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457200" indent="-457200">
              <a:spcBef>
                <a:spcPts val="601"/>
              </a:spcBef>
              <a:buClr>
                <a:srgbClr val="0000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Use “upvar” to link variables between two object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55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67983-4A7E-4509-B7C2-5BF5EB435571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56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57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958" name="Picture 4" descr="C:\Users\George\Pictures\ZScreen Images\AnnotationAndTemplateSpecificat...libelepELEPViewerBase_-_GVIM3-20101007190655.png"/>
          <p:cNvPicPr/>
          <p:nvPr/>
        </p:nvPicPr>
        <p:blipFill>
          <a:blip r:embed="rId1"/>
          <a:stretch/>
        </p:blipFill>
        <p:spPr>
          <a:xfrm>
            <a:off x="1523880" y="2590920"/>
            <a:ext cx="6097680" cy="35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xposing methods of contained object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Methods from both contained objects must be exposed - through “unknown”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457200" indent="-457200">
              <a:lnSpc>
                <a:spcPct val="115000"/>
              </a:lnSpc>
              <a:spcBef>
                <a:spcPts val="45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method 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unknown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args} {</a:t>
            </a:r>
            <a:br>
              <a:rPr sz="1800"/>
            </a:b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alibri"/>
              </a:rPr>
              <a:t>  ## Try to call the aggregated objects...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if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![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catch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ann_selector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*}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args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} result]} {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  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return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result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}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if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![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catch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templ_selector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*}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args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} result]} {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  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return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result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}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next 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unknown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*}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args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};</a:t>
            </a: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alibri"/>
              </a:rPr>
              <a:t># unknown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61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42ACC-3B40-4477-8F8E-13DBE56F4462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62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63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o, are all problems solved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No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Each class stores state information in the configuration array of the application, using a key based on the class name.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method saveState {} {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ann_selector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 saveState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templ_selector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saveState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};</a:t>
            </a: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alibri"/>
              </a:rPr>
              <a:t># saveState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method restoreState {</a:t>
            </a:r>
            <a:r>
              <a:rPr b="1" lang="en-US" sz="1800" spc="-1" strike="noStrike">
                <a:solidFill>
                  <a:srgbClr val="2e8b57"/>
                </a:solidFill>
                <a:latin typeface="Courier New"/>
                <a:ea typeface="Calibri"/>
              </a:rPr>
              <a:t>frame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} {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ann_selector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 restoreState 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frame.annotation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templ_selector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restoreState 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frame.template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};</a:t>
            </a: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alibri"/>
              </a:rPr>
              <a:t># restoreState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965" name="Picture 2" descr="D:\Tcl\Select_Annotation__Template_Characteristics...-20100731081105.png"/>
          <p:cNvPicPr/>
          <p:nvPr/>
        </p:nvPicPr>
        <p:blipFill>
          <a:blip r:embed="rId1"/>
          <a:stretch/>
        </p:blipFill>
        <p:spPr>
          <a:xfrm>
            <a:off x="480960" y="2138400"/>
            <a:ext cx="8182080" cy="2581200"/>
          </a:xfrm>
          <a:prstGeom prst="rect">
            <a:avLst/>
          </a:prstGeom>
          <a:ln w="0">
            <a:noFill/>
          </a:ln>
        </p:spPr>
      </p:pic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roblems solved?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7" name="Slide Number Placeholder 5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C1E7A-92FA-41C1-A46C-465E911FD259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68" name="Date Placeholder 6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69" name="Footer Placeholder 7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What about efficiency?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1" name=""/>
          <p:cNvSpPr txBox="1"/>
          <p:nvPr/>
        </p:nvSpPr>
        <p:spPr>
          <a:xfrm>
            <a:off x="380520" y="1294920"/>
            <a:ext cx="8610840" cy="48006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s there a problem using unknown to “distribute” method calls to the proper object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 don’t know, I haven’t measured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 assumed that there is a penalty, so I explored alternatives before implementing a similar approach for “merging” Button Annotator &amp; Template Filler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What I finally did, was to create a new class which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nherits only ButtonAnnotator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The various methods of TemplateFiller are copied/extend methods of the new clas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Thus “next” works, as there is only a linear hierarchy to follow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The configuration selector dialog object is single/common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72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EF4EE-5031-4B12-8205-7CECB9C1A239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73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74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iTcl and Tcl 8.6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9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Tcl object variables not supported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t seems no…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19960" indent="-22392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but, object naming was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Verdana"/>
              </a:rPr>
              <a:t>internal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Tcl 4.0 has been actively maintained!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Significant progress since last test (6-8 months ago)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Does not crash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A few “rough edges” remain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But: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Support for iTcl object variables seems missing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35880" indent="-335880"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Status of iTcl next generation?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45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Verdana"/>
              </a:rPr>
              <a:t>Unknown. Not working either in previous tests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lvl="2" marL="1119960" indent="-223920">
              <a:spcBef>
                <a:spcPts val="45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0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60A6D-B754-4326-97E8-AA3DECCBFD87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1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2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6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shock of Tcl 8.6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Porting existing code to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ase study: the Ellogon NLP platform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Tcl facilities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Organisation of classes in Ellogon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reating an Annotation Too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atenating Dialog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onclusion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77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0ED4D-A285-4F88-B899-BF3044311FA3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78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79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TclOO: “gray” area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Mixin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 have used “mixin”s a few times, but what are really “mixin”s?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What happens with colliding method names, the constructor and inheritance?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nheritance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How do you inherit from classes whose constructors take different arguments?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The same issue can occur with plain methods and “next”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s “next” limited, and an additional invocation method is required?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82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2AB49-2753-4610-ACAD-1C070C0507FB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83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84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nclusions (1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Both iTcl &amp; TclOO have their strengths and weaknesse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Tcl: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Lacked support for unknown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 had to use the “@itcl …” variable naming for serialising object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nfo method is error-prone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87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FE084-AFE9-4720-A6A1-F6073C53132B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88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89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nclusions (2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1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Both iTcl &amp; TclOO have their strengths and weaknesse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clOO: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35480" indent="-28296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No support for calling a specific class method from the superclasse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35480" indent="-28296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Variables cannot be initialised without a constructor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35480" indent="-28296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Are traces supported?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31480" indent="-22608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Can constructor arguments be recorded?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hould things like classmethod &amp; common be moved from the wiki to the Tcl core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92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70AE4-E251-4F67-907C-8608A2912159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93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94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6" name=""/>
          <p:cNvSpPr txBox="1"/>
          <p:nvPr/>
        </p:nvSpPr>
        <p:spPr>
          <a:xfrm>
            <a:off x="380880" y="3162240"/>
            <a:ext cx="838224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ank you!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97" name="Date Placeholder 7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98" name="Slide Number Placeholder 8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BD409-D43D-48B1-A4C4-3B09401EAE59}" type="slidenum">
              <a:rPr b="0" i="1" lang="el-GR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99" name="Footer Placeholder 9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iTcl and Tcl 8.6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34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lternatives for running the application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Wait until iTcl 4.0 is ready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Will it support 3.4 object variable naming?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Port the code from iTcl to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Hm, 41 classes? ~20.000 lines of code?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Such a task needs to be automated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Verdana"/>
              </a:rPr>
              <a:t>Stick to Tcl 8.5 and iTcl 3.4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But what happens with open source applications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5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6B141-5851-4283-8891-65B77BFAEC22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6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7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39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shock of Tcl 8.6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Porting existing code to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ase study: the Ellogon NLP platform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Tcl facilities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Organisation of classes in Ellogon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reating an Annotation Too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atenating Dialog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lusion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40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61A38-7B4C-4D8F-9B79-48F34DFB790E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41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42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orting from iTcl to TclOO (1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 medium sized application: 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Ellogon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Open source (LGPL), </a:t>
            </a:r>
            <a:r>
              <a:rPr b="0" lang="en-US" sz="2200" spc="-1" strike="noStrike" u="sng">
                <a:solidFill>
                  <a:srgbClr val="336699"/>
                </a:solidFill>
                <a:uFillTx/>
                <a:latin typeface="Verdana"/>
                <a:hlinkClick r:id="rId1"/>
              </a:rPr>
              <a:t>http://www.ellogon.org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Sticking to Tcl 8.5 is not an option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But ~</a:t>
            </a:r>
            <a:r>
              <a:rPr b="1" lang="en-US" sz="2200" spc="-1" strike="noStrike">
                <a:solidFill>
                  <a:srgbClr val="000099"/>
                </a:solidFill>
                <a:latin typeface="Verdana"/>
              </a:rPr>
              <a:t>480</a:t>
            </a: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 iTcl classes need to be ported!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Different “variable” syntax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The “my” keyword when calling methods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Different method exporting convention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Where is TclOO documentation?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45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984F1-D87F-4A1D-A7EF-FBF4CC9B64A8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46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47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George</dc:creator>
  <dc:description/>
  <dc:language>en-US</dc:language>
  <cp:lastModifiedBy>George</cp:lastModifiedBy>
  <dcterms:modified xsi:type="dcterms:W3CDTF">2010-10-13T13:46:57Z</dcterms:modified>
  <cp:revision>231</cp:revision>
  <dc:subject/>
  <dc:title>Itcl and TclOO</dc:title>
</cp:coreProperties>
</file>