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FEDF-D1EA-478D-AAE2-46A2FB2CD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ED60-73B0-4ABB-B5AB-308D26DC7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F2B7-F64F-424D-BB48-E275C5CF0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44D8-031F-4C30-AE71-43A141C1B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B8E0-2D6C-422F-8FED-77AF8E48C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E794-5D3C-42E1-A63E-C0C5B4EE3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BF7A-54B5-40F9-B7FD-DACEAED69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71F7-42B3-41DC-A95D-7C301557C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4C5C-D342-403E-809A-1DA33617A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5786-452D-4D81-98E8-83A617BD5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7B55-2D8A-4391-A72A-49206FD09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B43B-B924-4122-863F-DC71F771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B61FC-FA12-44FB-8203-EFF4D91580F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086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gle: Tcl Integration with the CL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0866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6th Annual Tcl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cript Evalu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is a Tcl script.  The "eagle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here is actually a Tcl command that h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been implemented in managed code (in th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ase, it simply maps to the "eval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 Eagle)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9900"/>
                </a:solidFill>
                <a:latin typeface="Courier New"/>
              </a:rPr>
              <a:t>eagl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debug break; # type "#go" to contin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Tk in the Main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will load Tk into the new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package require Tk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Service the Tcl event loop until we are cancel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fter 10000 [list interp cancel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atch {while {1} {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upd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reat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thread nu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active Eagle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object invoke -alias Interpreter GetActiv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reate Tcl worker threa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Create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100 true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Extract the thread name from the resul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name [$result ToString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object for the thread we just creat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-flags +NonPublic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name \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hread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ell the worker thread to create a Tcl interp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Cre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null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Queue a script to evaluate to the worker threa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Evalu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package require Tk}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Delete the worker thread (this will also cause t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cl interp to be deleted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interp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DeleteTclThread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$name fals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oes it run on Mono?</a:t>
            </a: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by popular deman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rt Answer: Y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 Answer: Yes, it runs on version 2.0 or higher.  However, version 2.4 or higher is recommended due to serious bugs in earlier ver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no does not perfectly emulate the .NET Framework and still has bugs that affect Eagle (e.g. #473899, #478489, #479061, #49093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909880" y="1608120"/>
            <a:ext cx="332280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be highly extensible and easily embeddable into CLR-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ait a minute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integrate with Tcl if Eagle is already an implementation of the Tcl languag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integrate with Tcl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xisting Tcl integration solutions for the CLR were less than ide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ossibility of using the expressive power of a Tcl-compatible language to control the integration of the Tcl language with the CLR was very compell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s unit-testing of embedding scenarios that need to dynamically load and unload the Tcl libra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cl Integration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ny build of Tcl/Tk, version 8.4 or higher, including "basekits" and "stardlls"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32-bit and 64-bit operating system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worker threads with their own event loop processin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xit handler creation and dele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script cancellation via TIP 28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 unified stack trace for errors via the Eagle errorInfo varia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rror line number management via TIP 336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 deleted interpreter from being us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n interpreter with activations from being deleted via TIP 33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Tcl Automatical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library available.  The ex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algorithm used is documented 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e pap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oading Tcl with Version Requirem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library available that meets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version requirements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–minimumversion 8.4 \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-maximumversion 8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a Specific Tcl Libra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will skip the Tcl libr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detection logic and simply load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Tcl library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{C:\full\path\to\tcl.dll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09-10-01T15:50:24Z</dcterms:modified>
  <cp:revision>369</cp:revision>
  <dc:subject>Eagle</dc:subject>
  <dc:title>Eagle: Tcl Integration with the CLR</dc:title>
</cp:coreProperties>
</file>