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12515"/>
        <c:axId val="74668935"/>
      </c:barChart>
      <c:catAx>
        <c:axId val="11912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68935"/>
        <c:crosses val="autoZero"/>
        <c:auto val="1"/>
        <c:lblAlgn val="ctr"/>
        <c:lblOffset val="100"/>
        <c:noMultiLvlLbl val="0"/>
      </c:catAx>
      <c:valAx>
        <c:axId val="74668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12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810-7AF8-4EF3-90D8-C284ACC1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CA6-7B96-428D-B4EB-5E10866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928-44BA-43B8-97FC-F61D9E61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CE2-F444-4889-907E-48C381A8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742-8254-4AA7-AE99-964FAA2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A73-7F74-4663-AE95-C43620B1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9F2-7005-40A9-BB00-88210F0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5A0-A541-4E40-BC76-B7998C0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0E6-9A3F-41A8-B433-9C7803F1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5D8-2590-4755-97DA-4696E8D3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C85-6259-4746-B9D9-D12D4CE7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5A6-159A-4AFA-859B-CA42520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8563B-E005-4137-90B9-3771E5951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